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D7A-FEBB-453B-A176-CE8B6B9E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CDE-44E6-47AA-B5F2-E48A46C2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55C-0B58-4B04-8AA0-71BA4140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8D7-BCC6-4129-BBC9-EB7D2688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87D-6F57-4B59-97A5-0C6BB71D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1C4-476C-41D6-89BF-43C95457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720-D0EE-41A2-98E6-A8DEC559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13B-11A8-4F5A-9572-BD7F3B31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CEE-1164-4BCF-B4F5-683A1ADE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F2D9-7BB0-44DC-90B7-B41F8C74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D90-C594-498D-B7C5-D6A0D39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73D-346C-4089-9854-BF2E5BF8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784B-0A87-4FA7-9891-24ABAFA84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1676520"/>
            <a:ext cx="381240" cy="144756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1447560"/>
              <a:gd name="textAreaBottom" fmla="*/ 1391760 h 1447560"/>
            </a:gdLst>
            <a:ahLst/>
            <a:rect l="textAreaLeft" t="textAreaTop" r="textAreaRight" b="textAreaBottom"/>
            <a:pathLst>
              <a:path w="21600" h="81958">
                <a:moveTo>
                  <a:pt x="10800" y="0"/>
                </a:moveTo>
                <a:arcTo wR="10800" hR="10800" stAng="16200000" swAng="-5400000"/>
                <a:lnTo>
                  <a:pt x="0" y="71158"/>
                </a:lnTo>
                <a:arcTo wR="10800" hR="10800" stAng="10800000" swAng="-5400000"/>
                <a:lnTo>
                  <a:pt x="10800" y="8195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3886200" y="1752480"/>
            <a:ext cx="76320" cy="228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4038480" y="3428280"/>
            <a:ext cx="76320" cy="1676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4114800" y="3428280"/>
            <a:ext cx="7632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3961800" y="1752480"/>
            <a:ext cx="7596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 rot="10800000">
            <a:off x="4267080" y="464832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 rot="10800000">
            <a:off x="4190760" y="4648320"/>
            <a:ext cx="7596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819520"/>
            <a:ext cx="3581280" cy="83808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16200000">
            <a:off x="4152960" y="4953600"/>
            <a:ext cx="7488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20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676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438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962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19:44:53Z</dcterms:created>
  <dc:creator>sjj</dc:creator>
  <dc:description/>
  <dc:language>en-US</dc:language>
  <cp:lastModifiedBy>sjj</cp:lastModifiedBy>
  <dcterms:modified xsi:type="dcterms:W3CDTF">2014-05-16T19:56:01Z</dcterms:modified>
  <cp:revision>1</cp:revision>
  <dc:subject/>
  <dc:title>PowerPoint Presentation</dc:title>
</cp:coreProperties>
</file>