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5D8-2EA2-4F6A-BFA6-7E0923D2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890-F0E7-4CB9-A755-A27DF0A4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5E2-BF4E-4EA4-B5FA-AFF6EEBA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AAE-973C-416F-9CC3-0BACFB29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176-AF12-4D93-8158-986E1847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B6A-66E4-4291-9039-1A5C0AED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87C-4945-4D34-A4E3-D5103D6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F23-AD28-4E1B-A2AC-CEE4DE81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2AD-71E9-4719-8979-4132DF9E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766-044F-4443-85DE-9556A40A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E94-F894-4328-8A0E-DC2B9EE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696-2527-4FAC-B7FF-C29EFFAA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C26D-03C1-471A-875B-E087ACD23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1280" y="533520"/>
            <a:ext cx="36576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38320" y="11430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7640" y="1143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9907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Compendium of the social doctrine of the Chu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33520"/>
            <a:ext cx="36576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3505320"/>
            <a:ext cx="36576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9000" y="41148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 Poli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41148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 B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39625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Compendium de la doctrine sociale de l'Égl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3505320"/>
            <a:ext cx="36576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722120" y="3459240"/>
            <a:ext cx="75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n gro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ê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'a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81280" y="3154320"/>
            <a:ext cx="20574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03760" y="358128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Protestan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10080" y="358128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atholic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440" y="1066680"/>
            <a:ext cx="56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royances populaires, aujourd'hui, aux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94960" y="3230640"/>
            <a:ext cx="12193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9080" y="45720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3154320"/>
            <a:ext cx="20574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819520"/>
            <a:ext cx="198108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31840" y="327672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Athéi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1676520"/>
            <a:ext cx="25146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13372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Nouvel Â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2362320"/>
            <a:ext cx="10670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3480" y="251460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Hindou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4343400"/>
            <a:ext cx="12193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5520" y="4495680"/>
            <a:ext cx="74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Plusi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au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1981080"/>
            <a:ext cx="3353040" cy="221004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3200400"/>
            <a:ext cx="11430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342900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676160" y="342900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200400"/>
            <a:ext cx="11430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3886200"/>
            <a:ext cx="228600" cy="22860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705720" y="3352320"/>
            <a:ext cx="441360" cy="76212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0079000">
            <a:off x="4876920" y="3200040"/>
            <a:ext cx="1066680" cy="7621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1504800">
            <a:off x="2742120" y="3200400"/>
            <a:ext cx="1066680" cy="761760"/>
          </a:xfrm>
          <a:prstGeom prst="lightningBol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25560" y="2590920"/>
            <a:ext cx="170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colèr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malentendu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19520" y="1905120"/>
            <a:ext cx="3429000" cy="22860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200400"/>
            <a:ext cx="11430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42900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6160" y="342900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3200400"/>
            <a:ext cx="11430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228600" cy="22860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705720" y="3352320"/>
            <a:ext cx="441360" cy="76212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0079000">
            <a:off x="4876920" y="3200040"/>
            <a:ext cx="1066680" cy="7621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1504800">
            <a:off x="2742120" y="3200400"/>
            <a:ext cx="1066680" cy="761760"/>
          </a:xfrm>
          <a:prstGeom prst="lightningBol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99760" y="2514600"/>
            <a:ext cx="239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ng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misunderstanding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80880" y="1676520"/>
            <a:ext cx="685800" cy="685800"/>
            <a:chOff x="380880" y="1676520"/>
            <a:chExt cx="685800" cy="685800"/>
          </a:xfrm>
        </p:grpSpPr>
        <p:sp>
          <p:nvSpPr>
            <p:cNvPr id="72" name=""/>
            <p:cNvSpPr/>
            <p:nvPr/>
          </p:nvSpPr>
          <p:spPr>
            <a:xfrm>
              <a:off x="380880" y="1676520"/>
              <a:ext cx="68580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20560" y="1828800"/>
              <a:ext cx="380880" cy="381240"/>
              <a:chOff x="520560" y="1828800"/>
              <a:chExt cx="380880" cy="381240"/>
            </a:xfrm>
          </p:grpSpPr>
          <p:sp>
            <p:nvSpPr>
              <p:cNvPr id="74" name=""/>
              <p:cNvSpPr/>
              <p:nvPr/>
            </p:nvSpPr>
            <p:spPr>
              <a:xfrm>
                <a:off x="520560" y="182880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520560" y="182880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380880" y="533520"/>
            <a:ext cx="1371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66680" y="1676520"/>
            <a:ext cx="685800" cy="685800"/>
            <a:chOff x="1066680" y="1676520"/>
            <a:chExt cx="685800" cy="685800"/>
          </a:xfrm>
        </p:grpSpPr>
        <p:sp>
          <p:nvSpPr>
            <p:cNvPr id="78" name=""/>
            <p:cNvSpPr/>
            <p:nvPr/>
          </p:nvSpPr>
          <p:spPr>
            <a:xfrm>
              <a:off x="1066680" y="1676520"/>
              <a:ext cx="68580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197000" y="1791000"/>
              <a:ext cx="401040" cy="457200"/>
              <a:chOff x="1197000" y="1791000"/>
              <a:chExt cx="401040" cy="457200"/>
            </a:xfrm>
          </p:grpSpPr>
          <p:sp>
            <p:nvSpPr>
              <p:cNvPr id="80" name=""/>
              <p:cNvSpPr/>
              <p:nvPr/>
            </p:nvSpPr>
            <p:spPr>
              <a:xfrm>
                <a:off x="1197000" y="2111040"/>
                <a:ext cx="136800" cy="13716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1333800" y="1791000"/>
                <a:ext cx="264240" cy="4572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647640" y="6858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0" y="1676520"/>
            <a:ext cx="685800" cy="685800"/>
            <a:chOff x="4572000" y="1676520"/>
            <a:chExt cx="685800" cy="685800"/>
          </a:xfrm>
        </p:grpSpPr>
        <p:sp>
          <p:nvSpPr>
            <p:cNvPr id="84" name=""/>
            <p:cNvSpPr/>
            <p:nvPr/>
          </p:nvSpPr>
          <p:spPr>
            <a:xfrm>
              <a:off x="4572000" y="1676520"/>
              <a:ext cx="68580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711680" y="1828800"/>
              <a:ext cx="380880" cy="381240"/>
              <a:chOff x="4711680" y="1828800"/>
              <a:chExt cx="380880" cy="381240"/>
            </a:xfrm>
          </p:grpSpPr>
          <p:sp>
            <p:nvSpPr>
              <p:cNvPr id="86" name=""/>
              <p:cNvSpPr/>
              <p:nvPr/>
            </p:nvSpPr>
            <p:spPr>
              <a:xfrm>
                <a:off x="4711680" y="182880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711680" y="182880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4572000" y="533520"/>
            <a:ext cx="1371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257800" y="1676520"/>
            <a:ext cx="685800" cy="685800"/>
            <a:chOff x="5257800" y="1676520"/>
            <a:chExt cx="685800" cy="685800"/>
          </a:xfrm>
        </p:grpSpPr>
        <p:sp>
          <p:nvSpPr>
            <p:cNvPr id="90" name=""/>
            <p:cNvSpPr/>
            <p:nvPr/>
          </p:nvSpPr>
          <p:spPr>
            <a:xfrm>
              <a:off x="5257800" y="1676520"/>
              <a:ext cx="68580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388120" y="1791000"/>
              <a:ext cx="401040" cy="457200"/>
              <a:chOff x="5388120" y="1791000"/>
              <a:chExt cx="401040" cy="457200"/>
            </a:xfrm>
          </p:grpSpPr>
          <p:sp>
            <p:nvSpPr>
              <p:cNvPr id="92" name=""/>
              <p:cNvSpPr/>
              <p:nvPr/>
            </p:nvSpPr>
            <p:spPr>
              <a:xfrm>
                <a:off x="5388120" y="2111040"/>
                <a:ext cx="136800" cy="13716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524920" y="1791000"/>
                <a:ext cx="264240" cy="4572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4838760" y="685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335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6765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320" y="762120"/>
            <a:ext cx="186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atements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gree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320" y="1676520"/>
            <a:ext cx="186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atements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n't agree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5335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16765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5680" y="762120"/>
            <a:ext cx="24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Énoncés s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squels on s'ent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4600" y="1676520"/>
            <a:ext cx="26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Énoncés sur lesqu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ne s'entend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8600" y="33940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aĝda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14600" y="1066680"/>
            <a:ext cx="464832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01280" y="3276720"/>
            <a:ext cx="802440" cy="771840"/>
            <a:chOff x="1601280" y="3276720"/>
            <a:chExt cx="802440" cy="771840"/>
          </a:xfrm>
        </p:grpSpPr>
        <p:grpSp>
          <p:nvGrpSpPr>
            <p:cNvPr id="106" name=""/>
            <p:cNvGrpSpPr/>
            <p:nvPr/>
          </p:nvGrpSpPr>
          <p:grpSpPr>
            <a:xfrm>
              <a:off x="1848960" y="3276720"/>
              <a:ext cx="305280" cy="527040"/>
              <a:chOff x="1848960" y="3276720"/>
              <a:chExt cx="305280" cy="527040"/>
            </a:xfrm>
          </p:grpSpPr>
          <p:sp>
            <p:nvSpPr>
              <p:cNvPr id="107" name=""/>
              <p:cNvSpPr/>
              <p:nvPr/>
            </p:nvSpPr>
            <p:spPr>
              <a:xfrm>
                <a:off x="1931760" y="327672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01600" y="34228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887120" y="350856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01600" y="36514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848960" y="365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601280" y="3773520"/>
              <a:ext cx="802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ndi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315200" y="1143000"/>
            <a:ext cx="777960" cy="771840"/>
            <a:chOff x="7315200" y="1143000"/>
            <a:chExt cx="777960" cy="771840"/>
          </a:xfrm>
        </p:grpSpPr>
        <p:grpSp>
          <p:nvGrpSpPr>
            <p:cNvPr id="114" name=""/>
            <p:cNvGrpSpPr/>
            <p:nvPr/>
          </p:nvGrpSpPr>
          <p:grpSpPr>
            <a:xfrm>
              <a:off x="7546680" y="1143000"/>
              <a:ext cx="304920" cy="527040"/>
              <a:chOff x="7546680" y="1143000"/>
              <a:chExt cx="304920" cy="52704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9480" y="11430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99320" y="1289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584840" y="13748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9320" y="1517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546680" y="1517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7315200" y="1639800"/>
              <a:ext cx="777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urna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52880" y="2209680"/>
            <a:ext cx="1587240" cy="755280"/>
            <a:chOff x="4952880" y="2209680"/>
            <a:chExt cx="1587240" cy="755280"/>
          </a:xfrm>
        </p:grpSpPr>
        <p:sp>
          <p:nvSpPr>
            <p:cNvPr id="122" name=""/>
            <p:cNvSpPr/>
            <p:nvPr/>
          </p:nvSpPr>
          <p:spPr>
            <a:xfrm>
              <a:off x="4952880" y="2209680"/>
              <a:ext cx="1587240" cy="75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4080" y="2384280"/>
              <a:ext cx="1152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t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latform,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743200" y="1600200"/>
            <a:ext cx="1587240" cy="686880"/>
            <a:chOff x="2743200" y="1600200"/>
            <a:chExt cx="1587240" cy="686880"/>
          </a:xfrm>
        </p:grpSpPr>
        <p:sp>
          <p:nvSpPr>
            <p:cNvPr id="125" name=""/>
            <p:cNvSpPr/>
            <p:nvPr/>
          </p:nvSpPr>
          <p:spPr>
            <a:xfrm>
              <a:off x="2743200" y="1600200"/>
              <a:ext cx="1587240" cy="68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24360" y="1758960"/>
              <a:ext cx="101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du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048120" y="2743200"/>
            <a:ext cx="1447560" cy="533160"/>
            <a:chOff x="3048120" y="2743200"/>
            <a:chExt cx="1447560" cy="533160"/>
          </a:xfrm>
        </p:grpSpPr>
        <p:sp>
          <p:nvSpPr>
            <p:cNvPr id="128" name=""/>
            <p:cNvSpPr/>
            <p:nvPr/>
          </p:nvSpPr>
          <p:spPr>
            <a:xfrm>
              <a:off x="3048120" y="2743200"/>
              <a:ext cx="14475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3400" y="2866680"/>
              <a:ext cx="822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257800" y="1295280"/>
            <a:ext cx="1523880" cy="609480"/>
            <a:chOff x="5257800" y="1295280"/>
            <a:chExt cx="1523880" cy="609480"/>
          </a:xfrm>
        </p:grpSpPr>
        <p:sp>
          <p:nvSpPr>
            <p:cNvPr id="131" name=""/>
            <p:cNvSpPr/>
            <p:nvPr/>
          </p:nvSpPr>
          <p:spPr>
            <a:xfrm>
              <a:off x="5257800" y="1295280"/>
              <a:ext cx="152388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3080" y="1436400"/>
              <a:ext cx="5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A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77240" y="1066680"/>
            <a:ext cx="700200" cy="954360"/>
            <a:chOff x="1677240" y="1066680"/>
            <a:chExt cx="700200" cy="954360"/>
          </a:xfrm>
        </p:grpSpPr>
        <p:grpSp>
          <p:nvGrpSpPr>
            <p:cNvPr id="134" name=""/>
            <p:cNvGrpSpPr/>
            <p:nvPr/>
          </p:nvGrpSpPr>
          <p:grpSpPr>
            <a:xfrm>
              <a:off x="1874520" y="1066680"/>
              <a:ext cx="305280" cy="527040"/>
              <a:chOff x="1874520" y="1066680"/>
              <a:chExt cx="305280" cy="527040"/>
            </a:xfrm>
          </p:grpSpPr>
          <p:sp>
            <p:nvSpPr>
              <p:cNvPr id="135" name=""/>
              <p:cNvSpPr/>
              <p:nvPr/>
            </p:nvSpPr>
            <p:spPr>
              <a:xfrm>
                <a:off x="1957320" y="106668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27160" y="1212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912680" y="12985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27160" y="144144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874520" y="1441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677240" y="1563480"/>
              <a:ext cx="700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770200" y="633240"/>
            <a:ext cx="22989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system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all Political Party Web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685800"/>
            <a:ext cx="2819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391160" y="2057400"/>
            <a:ext cx="726120" cy="771840"/>
            <a:chOff x="7391160" y="2057400"/>
            <a:chExt cx="726120" cy="771840"/>
          </a:xfrm>
        </p:grpSpPr>
        <p:grpSp>
          <p:nvGrpSpPr>
            <p:cNvPr id="144" name=""/>
            <p:cNvGrpSpPr/>
            <p:nvPr/>
          </p:nvGrpSpPr>
          <p:grpSpPr>
            <a:xfrm>
              <a:off x="7599240" y="2057400"/>
              <a:ext cx="304200" cy="527040"/>
              <a:chOff x="7599240" y="2057400"/>
              <a:chExt cx="304200" cy="527040"/>
            </a:xfrm>
          </p:grpSpPr>
          <p:sp>
            <p:nvSpPr>
              <p:cNvPr id="145" name=""/>
              <p:cNvSpPr/>
              <p:nvPr/>
            </p:nvSpPr>
            <p:spPr>
              <a:xfrm>
                <a:off x="7681320" y="2057400"/>
                <a:ext cx="13932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51160" y="22035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637040" y="2289240"/>
                <a:ext cx="22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751160" y="2432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599240" y="2432160"/>
                <a:ext cx="1519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7391160" y="255420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sser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752120" y="2286000"/>
            <a:ext cx="573840" cy="771840"/>
            <a:chOff x="1752120" y="2286000"/>
            <a:chExt cx="573840" cy="771840"/>
          </a:xfrm>
        </p:grpSpPr>
        <p:grpSp>
          <p:nvGrpSpPr>
            <p:cNvPr id="152" name=""/>
            <p:cNvGrpSpPr/>
            <p:nvPr/>
          </p:nvGrpSpPr>
          <p:grpSpPr>
            <a:xfrm>
              <a:off x="1885320" y="2286000"/>
              <a:ext cx="305280" cy="527040"/>
              <a:chOff x="1885320" y="2286000"/>
              <a:chExt cx="305280" cy="527040"/>
            </a:xfrm>
          </p:grpSpPr>
          <p:sp>
            <p:nvSpPr>
              <p:cNvPr id="153" name=""/>
              <p:cNvSpPr/>
              <p:nvPr/>
            </p:nvSpPr>
            <p:spPr>
              <a:xfrm>
                <a:off x="1968120" y="22860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037960" y="2432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1923480" y="25178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037960" y="266076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1885320" y="2660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752120" y="2782800"/>
              <a:ext cx="57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on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164720" y="2971800"/>
            <a:ext cx="1245600" cy="1136880"/>
            <a:chOff x="7164720" y="2971800"/>
            <a:chExt cx="1245600" cy="1136880"/>
          </a:xfrm>
        </p:grpSpPr>
        <p:grpSp>
          <p:nvGrpSpPr>
            <p:cNvPr id="160" name=""/>
            <p:cNvGrpSpPr/>
            <p:nvPr/>
          </p:nvGrpSpPr>
          <p:grpSpPr>
            <a:xfrm>
              <a:off x="7621200" y="2971800"/>
              <a:ext cx="305280" cy="527040"/>
              <a:chOff x="7621200" y="2971800"/>
              <a:chExt cx="305280" cy="527040"/>
            </a:xfrm>
          </p:grpSpPr>
          <p:sp>
            <p:nvSpPr>
              <p:cNvPr id="161" name=""/>
              <p:cNvSpPr/>
              <p:nvPr/>
            </p:nvSpPr>
            <p:spPr>
              <a:xfrm>
                <a:off x="7704000" y="29718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773840" y="31179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7659360" y="32036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73840" y="334656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7621200" y="3346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164720" y="3468600"/>
              <a:ext cx="12456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theist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-choicer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omosexual, et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2000" y="3505320"/>
            <a:ext cx="1447920" cy="532800"/>
            <a:chOff x="4572000" y="3505320"/>
            <a:chExt cx="1447920" cy="532800"/>
          </a:xfrm>
        </p:grpSpPr>
        <p:sp>
          <p:nvSpPr>
            <p:cNvPr id="168" name=""/>
            <p:cNvSpPr/>
            <p:nvPr/>
          </p:nvSpPr>
          <p:spPr>
            <a:xfrm>
              <a:off x="4572000" y="3505320"/>
              <a:ext cx="1447920" cy="53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18320" y="3628440"/>
              <a:ext cx="742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14600" y="1066680"/>
            <a:ext cx="464832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34400" y="3276720"/>
            <a:ext cx="735120" cy="771840"/>
            <a:chOff x="1634400" y="3276720"/>
            <a:chExt cx="735120" cy="771840"/>
          </a:xfrm>
        </p:grpSpPr>
        <p:grpSp>
          <p:nvGrpSpPr>
            <p:cNvPr id="172" name=""/>
            <p:cNvGrpSpPr/>
            <p:nvPr/>
          </p:nvGrpSpPr>
          <p:grpSpPr>
            <a:xfrm>
              <a:off x="1849320" y="3276720"/>
              <a:ext cx="305280" cy="527040"/>
              <a:chOff x="1849320" y="3276720"/>
              <a:chExt cx="305280" cy="527040"/>
            </a:xfrm>
          </p:grpSpPr>
          <p:sp>
            <p:nvSpPr>
              <p:cNvPr id="173" name=""/>
              <p:cNvSpPr/>
              <p:nvPr/>
            </p:nvSpPr>
            <p:spPr>
              <a:xfrm>
                <a:off x="1932120" y="327672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01960" y="34228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887480" y="350856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01960" y="36514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849320" y="365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634400" y="3773520"/>
              <a:ext cx="735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ndid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285320" y="1143000"/>
            <a:ext cx="844920" cy="771840"/>
            <a:chOff x="7285320" y="1143000"/>
            <a:chExt cx="844920" cy="771840"/>
          </a:xfrm>
        </p:grpSpPr>
        <p:grpSp>
          <p:nvGrpSpPr>
            <p:cNvPr id="180" name=""/>
            <p:cNvGrpSpPr/>
            <p:nvPr/>
          </p:nvGrpSpPr>
          <p:grpSpPr>
            <a:xfrm>
              <a:off x="7546680" y="1143000"/>
              <a:ext cx="304920" cy="527040"/>
              <a:chOff x="7546680" y="1143000"/>
              <a:chExt cx="304920" cy="527040"/>
            </a:xfrm>
          </p:grpSpPr>
          <p:sp>
            <p:nvSpPr>
              <p:cNvPr id="181" name=""/>
              <p:cNvSpPr/>
              <p:nvPr/>
            </p:nvSpPr>
            <p:spPr>
              <a:xfrm>
                <a:off x="7629480" y="11430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99320" y="1289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7584840" y="13748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99320" y="1517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7546680" y="1517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7285320" y="1639800"/>
              <a:ext cx="844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urnali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952880" y="2209680"/>
            <a:ext cx="1587240" cy="755280"/>
            <a:chOff x="4952880" y="2209680"/>
            <a:chExt cx="1587240" cy="755280"/>
          </a:xfrm>
        </p:grpSpPr>
        <p:sp>
          <p:nvSpPr>
            <p:cNvPr id="188" name=""/>
            <p:cNvSpPr/>
            <p:nvPr/>
          </p:nvSpPr>
          <p:spPr>
            <a:xfrm>
              <a:off x="4952880" y="2209680"/>
              <a:ext cx="1587240" cy="75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00920" y="2384280"/>
              <a:ext cx="1143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lectoral,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743200" y="1600200"/>
            <a:ext cx="1587240" cy="686880"/>
            <a:chOff x="2743200" y="1600200"/>
            <a:chExt cx="1587240" cy="686880"/>
          </a:xfrm>
        </p:grpSpPr>
        <p:sp>
          <p:nvSpPr>
            <p:cNvPr id="191" name=""/>
            <p:cNvSpPr/>
            <p:nvPr/>
          </p:nvSpPr>
          <p:spPr>
            <a:xfrm>
              <a:off x="2743200" y="1600200"/>
              <a:ext cx="1587240" cy="68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7920" y="1758960"/>
              <a:ext cx="931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in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48120" y="2743200"/>
            <a:ext cx="1447560" cy="533160"/>
            <a:chOff x="3048120" y="2743200"/>
            <a:chExt cx="1447560" cy="533160"/>
          </a:xfrm>
        </p:grpSpPr>
        <p:sp>
          <p:nvSpPr>
            <p:cNvPr id="194" name=""/>
            <p:cNvSpPr/>
            <p:nvPr/>
          </p:nvSpPr>
          <p:spPr>
            <a:xfrm>
              <a:off x="3048120" y="2743200"/>
              <a:ext cx="14475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3400" y="2866680"/>
              <a:ext cx="822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257800" y="1295280"/>
            <a:ext cx="1523880" cy="609480"/>
            <a:chOff x="5257800" y="1295280"/>
            <a:chExt cx="1523880" cy="609480"/>
          </a:xfrm>
        </p:grpSpPr>
        <p:sp>
          <p:nvSpPr>
            <p:cNvPr id="197" name=""/>
            <p:cNvSpPr/>
            <p:nvPr/>
          </p:nvSpPr>
          <p:spPr>
            <a:xfrm>
              <a:off x="5257800" y="1295280"/>
              <a:ext cx="152388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43080" y="1436400"/>
              <a:ext cx="5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A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78680" y="1066680"/>
            <a:ext cx="700200" cy="954360"/>
            <a:chOff x="1678680" y="1066680"/>
            <a:chExt cx="700200" cy="954360"/>
          </a:xfrm>
        </p:grpSpPr>
        <p:grpSp>
          <p:nvGrpSpPr>
            <p:cNvPr id="200" name=""/>
            <p:cNvGrpSpPr/>
            <p:nvPr/>
          </p:nvGrpSpPr>
          <p:grpSpPr>
            <a:xfrm>
              <a:off x="1874520" y="1066680"/>
              <a:ext cx="305280" cy="527040"/>
              <a:chOff x="1874520" y="1066680"/>
              <a:chExt cx="305280" cy="527040"/>
            </a:xfrm>
          </p:grpSpPr>
          <p:sp>
            <p:nvSpPr>
              <p:cNvPr id="201" name=""/>
              <p:cNvSpPr/>
              <p:nvPr/>
            </p:nvSpPr>
            <p:spPr>
              <a:xfrm>
                <a:off x="1957320" y="106668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027160" y="1212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912680" y="12985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27160" y="144144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874520" y="1441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8680" y="1563480"/>
              <a:ext cx="700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u par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628720" y="633240"/>
            <a:ext cx="26006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systèm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te web pour petit parti poli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685800"/>
            <a:ext cx="2819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437240" y="2057400"/>
            <a:ext cx="642240" cy="771840"/>
            <a:chOff x="7437240" y="2057400"/>
            <a:chExt cx="642240" cy="771840"/>
          </a:xfrm>
        </p:grpSpPr>
        <p:grpSp>
          <p:nvGrpSpPr>
            <p:cNvPr id="210" name=""/>
            <p:cNvGrpSpPr/>
            <p:nvPr/>
          </p:nvGrpSpPr>
          <p:grpSpPr>
            <a:xfrm>
              <a:off x="7599240" y="2057400"/>
              <a:ext cx="304200" cy="527040"/>
              <a:chOff x="7599240" y="2057400"/>
              <a:chExt cx="304200" cy="527040"/>
            </a:xfrm>
          </p:grpSpPr>
          <p:sp>
            <p:nvSpPr>
              <p:cNvPr id="211" name=""/>
              <p:cNvSpPr/>
              <p:nvPr/>
            </p:nvSpPr>
            <p:spPr>
              <a:xfrm>
                <a:off x="7681320" y="2057400"/>
                <a:ext cx="13932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51160" y="22035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7637040" y="2289240"/>
                <a:ext cx="22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51160" y="2432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7599240" y="2432160"/>
                <a:ext cx="1519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437240" y="2554200"/>
              <a:ext cx="642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ss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640520" y="2286000"/>
            <a:ext cx="750600" cy="771840"/>
            <a:chOff x="1640520" y="2286000"/>
            <a:chExt cx="750600" cy="771840"/>
          </a:xfrm>
        </p:grpSpPr>
        <p:grpSp>
          <p:nvGrpSpPr>
            <p:cNvPr id="218" name=""/>
            <p:cNvGrpSpPr/>
            <p:nvPr/>
          </p:nvGrpSpPr>
          <p:grpSpPr>
            <a:xfrm>
              <a:off x="1860120" y="2286000"/>
              <a:ext cx="305280" cy="527040"/>
              <a:chOff x="1860120" y="2286000"/>
              <a:chExt cx="305280" cy="527040"/>
            </a:xfrm>
          </p:grpSpPr>
          <p:sp>
            <p:nvSpPr>
              <p:cNvPr id="219" name=""/>
              <p:cNvSpPr/>
              <p:nvPr/>
            </p:nvSpPr>
            <p:spPr>
              <a:xfrm>
                <a:off x="1942920" y="22860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12760" y="2432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1898280" y="25178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012760" y="266076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1860120" y="2660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640520" y="2782800"/>
              <a:ext cx="750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onat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159320" y="2971800"/>
            <a:ext cx="1262520" cy="954360"/>
            <a:chOff x="7159320" y="2971800"/>
            <a:chExt cx="1262520" cy="954360"/>
          </a:xfrm>
        </p:grpSpPr>
        <p:grpSp>
          <p:nvGrpSpPr>
            <p:cNvPr id="226" name=""/>
            <p:cNvGrpSpPr/>
            <p:nvPr/>
          </p:nvGrpSpPr>
          <p:grpSpPr>
            <a:xfrm>
              <a:off x="7621200" y="2971800"/>
              <a:ext cx="305280" cy="527040"/>
              <a:chOff x="7621200" y="2971800"/>
              <a:chExt cx="305280" cy="527040"/>
            </a:xfrm>
          </p:grpSpPr>
          <p:sp>
            <p:nvSpPr>
              <p:cNvPr id="227" name=""/>
              <p:cNvSpPr/>
              <p:nvPr/>
            </p:nvSpPr>
            <p:spPr>
              <a:xfrm>
                <a:off x="7704000" y="29718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73840" y="31179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7659360" y="32036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773840" y="334656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7621200" y="3346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159320" y="3468600"/>
              <a:ext cx="1262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thée, Pro-choix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omosexuel, et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572000" y="3505320"/>
            <a:ext cx="1447920" cy="532800"/>
            <a:chOff x="4572000" y="3505320"/>
            <a:chExt cx="1447920" cy="532800"/>
          </a:xfrm>
        </p:grpSpPr>
        <p:sp>
          <p:nvSpPr>
            <p:cNvPr id="234" name=""/>
            <p:cNvSpPr/>
            <p:nvPr/>
          </p:nvSpPr>
          <p:spPr>
            <a:xfrm>
              <a:off x="4572000" y="3505320"/>
              <a:ext cx="1447920" cy="53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18320" y="3628440"/>
              <a:ext cx="742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180760" y="190512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ola scrip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7480" y="31240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1400" y="2057400"/>
            <a:ext cx="148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Dieu unique 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ersonne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ment b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ment sag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ment puiss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 nous aim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600200"/>
            <a:ext cx="3429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1600200"/>
            <a:ext cx="3429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4280" y="2286000"/>
            <a:ext cx="75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jet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'auto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ap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6560" y="32004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8200" y="259092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nssubta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19810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Vie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23080" y="38242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rotestant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55840" y="38242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Catholic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4160" y="1066680"/>
            <a:ext cx="66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royances populaires, il y a plus de 60 ans, aux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180760" y="190512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ola scrip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7480" y="31240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2480" y="2057400"/>
            <a:ext cx="1396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God, uniqu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erson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tely goo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tely wi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tely powerfu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ho loves u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1600200"/>
            <a:ext cx="3429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00200"/>
            <a:ext cx="3429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7960" y="2286000"/>
            <a:ext cx="929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je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a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6560" y="32004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78200" y="259092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nsubta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198108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Vir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3440" y="38242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rotestant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55840" y="3824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Catholic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30480" y="1066680"/>
            <a:ext cx="58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opular beliefs, over 60 years ago, 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723560" y="3459240"/>
            <a:ext cx="81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ough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3154320"/>
            <a:ext cx="20574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41200" y="3581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Protestant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6012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atholi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5240" y="106668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opular beliefs, today, 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494960" y="3230640"/>
            <a:ext cx="12193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79080" y="45720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154320"/>
            <a:ext cx="20574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2819520"/>
            <a:ext cx="198108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31840" y="32767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Athe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676520"/>
            <a:ext cx="25146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8360" y="2133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New 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362320"/>
            <a:ext cx="10670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2760" y="25146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4343400"/>
            <a:ext cx="12193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6600" y="44956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Many,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fan Jetchick</cp:lastModifiedBy>
  <dcterms:modified xsi:type="dcterms:W3CDTF">2010-05-03T14:50:51Z</dcterms:modified>
  <cp:revision>13</cp:revision>
  <dc:subject/>
  <dc:title>PowerPoint Presentation</dc:title>
</cp:coreProperties>
</file>