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6C4-E4EF-4ED0-8741-D0A51F7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C86-ABAD-48F9-9B7E-C1617E8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F4B-5B01-4A4F-AFAB-60307E67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1DB-6F00-47E3-8AAA-A3BFE79B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CCC-F94E-470F-B4D0-23DE40B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932-82C1-46C9-A75D-A15F2A19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E61-5273-4CB2-B141-B7C443E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F18-6ECB-414B-8534-61588AA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493-28A1-4156-B7AC-CE66D1C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996-7C4F-438A-9718-2D9EF71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E13-D75F-4A8B-837F-B184E17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E1-1D48-48BE-8D21-D692AD36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AA91-436F-4893-A764-39D88B442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evoyance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09640" y="2438280"/>
            <a:ext cx="221976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tally screwed u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9680" y="3505320"/>
            <a:ext cx="252756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hould have done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2880" y="1371600"/>
            <a:ext cx="299700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urned into a total dis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revoyance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99760" y="2438280"/>
            <a:ext cx="264492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Quelle foire bordél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97000" y="3505320"/>
            <a:ext cx="294372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us aurions du faire cec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97800" y="1371600"/>
            <a:ext cx="257508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'est avéré désastreu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1:53:36Z</dcterms:created>
  <dc:creator>sjj</dc:creator>
  <dc:description/>
  <dc:language>en-US</dc:language>
  <cp:lastModifiedBy>sjj</cp:lastModifiedBy>
  <dcterms:modified xsi:type="dcterms:W3CDTF">2019-03-24T17:07:15Z</dcterms:modified>
  <cp:revision>2</cp:revision>
  <dc:subject/>
  <dc:title>PowerPoint Presentation</dc:title>
</cp:coreProperties>
</file>