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2D1-7200-4222-ABBE-61A2F54A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C21-4572-4920-9AE6-A42BA40F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48A-F146-4E2C-8726-C279B300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828-541C-433C-8BF3-41594A74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C82-3F02-4984-B90D-96F01657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33B-9083-4203-97DA-25B4426D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286-0D54-45B3-AD71-B0F9C369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6F1-2EAC-4A05-A37C-3E4ED017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449-26AC-4CAD-9DBF-C5B455B1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E96-0850-4752-B28E-271C1E6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C12-8DF8-4470-83DF-8676F535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180-5F33-4429-A09D-2CCD6D12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E561-207E-4497-8E86-A0AF069C9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89200" y="31050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The P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99920" y="493380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Some b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shephe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971800" y="1098720"/>
            <a:ext cx="3123360" cy="501480"/>
            <a:chOff x="2971800" y="1098720"/>
            <a:chExt cx="3123360" cy="501480"/>
          </a:xfrm>
        </p:grpSpPr>
        <p:sp>
          <p:nvSpPr>
            <p:cNvPr id="44" name=""/>
            <p:cNvSpPr/>
            <p:nvPr/>
          </p:nvSpPr>
          <p:spPr>
            <a:xfrm rot="5400000">
              <a:off x="5372280" y="877320"/>
              <a:ext cx="501480" cy="944280"/>
            </a:xfrm>
            <a:custGeom>
              <a:avLst/>
              <a:gdLst>
                <a:gd name="textAreaLeft" fmla="*/ 0 w 501480"/>
                <a:gd name="textAreaRight" fmla="*/ 501480 w 50148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71800" y="1098720"/>
              <a:ext cx="2469960" cy="1501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43360" y="66204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Divine words : "He that heareth you, heareth me" [Luke, 10, 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960920" y="2743200"/>
            <a:ext cx="3296520" cy="533520"/>
            <a:chOff x="1960920" y="2743200"/>
            <a:chExt cx="3296520" cy="533520"/>
          </a:xfrm>
        </p:grpSpPr>
        <p:sp>
          <p:nvSpPr>
            <p:cNvPr id="48" name=""/>
            <p:cNvSpPr/>
            <p:nvPr/>
          </p:nvSpPr>
          <p:spPr>
            <a:xfrm flipH="1" rot="16200000">
              <a:off x="2192040" y="2511360"/>
              <a:ext cx="533520" cy="996840"/>
            </a:xfrm>
            <a:custGeom>
              <a:avLst/>
              <a:gdLst>
                <a:gd name="textAreaLeft" fmla="*/ 360 w 533520"/>
                <a:gd name="textAreaRight" fmla="*/ 534240 w 533520"/>
                <a:gd name="textAreaTop" fmla="*/ 0 h 996840"/>
                <a:gd name="textAreaBottom" fmla="*/ 997200 h 9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650320" y="2743200"/>
              <a:ext cx="2607120" cy="1598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063960" y="22464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asty and nutritious teachings of the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1880" y="22860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Jes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16040" y="3276720"/>
          <a:ext cx="1203480" cy="16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3276720"/>
                    <a:ext cx="1203480" cy="16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495680" y="3581280"/>
          <a:ext cx="2333880" cy="270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581280"/>
                    <a:ext cx="2333880" cy="27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2895480" y="3689280"/>
            <a:ext cx="2537640" cy="501840"/>
            <a:chOff x="2895480" y="3689280"/>
            <a:chExt cx="2537640" cy="501840"/>
          </a:xfrm>
        </p:grpSpPr>
        <p:sp>
          <p:nvSpPr>
            <p:cNvPr id="57" name=""/>
            <p:cNvSpPr/>
            <p:nvPr/>
          </p:nvSpPr>
          <p:spPr>
            <a:xfrm rot="5400000">
              <a:off x="4798440" y="3556440"/>
              <a:ext cx="501840" cy="7671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67160"/>
                <a:gd name="textAreaBottom" fmla="*/ 767520 h 76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5480" y="3689280"/>
              <a:ext cx="2007000" cy="15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276720" y="34290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Bland and toxic c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30680" y="5543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Sick f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3657600"/>
            <a:ext cx="1524240" cy="762120"/>
          </a:xfrm>
          <a:prstGeom prst="wedgeEllipseCallout">
            <a:avLst>
              <a:gd name="adj1" fmla="val -6666"/>
              <a:gd name="adj2" fmla="val 76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ommy, my stomach hur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152280"/>
          <a:ext cx="1278000" cy="21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152280"/>
                    <a:ext cx="127800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220px-Ombrellino-keys.svg" descr=""/>
          <p:cNvPicPr/>
          <p:nvPr/>
        </p:nvPicPr>
        <p:blipFill>
          <a:blip r:embed="rId7"/>
          <a:stretch/>
        </p:blipFill>
        <p:spPr>
          <a:xfrm>
            <a:off x="5419800" y="1654200"/>
            <a:ext cx="807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3:24:05Z</dcterms:created>
  <dc:creator>Stefan Jetchick</dc:creator>
  <dc:description/>
  <dc:language>en-US</dc:language>
  <cp:lastModifiedBy>sjj</cp:lastModifiedBy>
  <dcterms:modified xsi:type="dcterms:W3CDTF">2017-03-27T20:05:21Z</dcterms:modified>
  <cp:revision>48</cp:revision>
  <dc:subject/>
  <dc:title>PowerPoint Presentation</dc:title>
</cp:coreProperties>
</file>