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6F3-47C4-412F-AA6C-E75952C5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C65-36CA-4D34-975A-EBF8742A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A65-7CC8-4217-A77C-F4698F96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E30-9778-44D0-BC3E-AAAC7E03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C03-4046-44DD-B7DE-32511F98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E94-EA32-4818-A343-E226DA5C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336-0847-429D-9F93-F2AAA0BC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252-7545-4988-90C9-12D1299C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61D-97B3-4825-A293-6CFBCF2E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32D-A515-4A95-B2FF-E29FF0A0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CE1-6933-48F9-AD94-60C7F0FB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A1E-0A2A-43F3-8F32-79CD3274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EE1B-C46A-4843-9D2A-C8570D143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762120"/>
            <a:ext cx="1600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152280"/>
            <a:ext cx="761760" cy="1752480"/>
            <a:chOff x="304920" y="152280"/>
            <a:chExt cx="761760" cy="1752480"/>
          </a:xfrm>
        </p:grpSpPr>
        <p:sp>
          <p:nvSpPr>
            <p:cNvPr id="43" name=""/>
            <p:cNvSpPr/>
            <p:nvPr/>
          </p:nvSpPr>
          <p:spPr>
            <a:xfrm>
              <a:off x="380880" y="152280"/>
              <a:ext cx="609120" cy="609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800" y="76176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5800" y="1523880"/>
              <a:ext cx="3805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04920" y="1523880"/>
              <a:ext cx="3808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99036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486040" y="152280"/>
            <a:ext cx="762480" cy="1752480"/>
            <a:chOff x="5486040" y="152280"/>
            <a:chExt cx="762480" cy="1752480"/>
          </a:xfrm>
        </p:grpSpPr>
        <p:sp>
          <p:nvSpPr>
            <p:cNvPr id="49" name=""/>
            <p:cNvSpPr/>
            <p:nvPr/>
          </p:nvSpPr>
          <p:spPr>
            <a:xfrm>
              <a:off x="5562720" y="152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67640" y="76176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67640" y="1523880"/>
              <a:ext cx="3808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486040" y="1523880"/>
              <a:ext cx="3812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86400" y="9903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219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219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3"/>
          </p:cNvCxnSpPr>
          <p:nvPr/>
        </p:nvCxnSpPr>
        <p:spPr>
          <a:xfrm flipV="1">
            <a:off x="1295280" y="875880"/>
            <a:ext cx="1524960" cy="38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2971800" y="-152280"/>
            <a:ext cx="1066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16765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correspo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380880"/>
            <a:ext cx="2057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,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one and 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d abando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-380880"/>
            <a:ext cx="1066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447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symbo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2745000" y="0"/>
            <a:ext cx="2815560" cy="1557000"/>
            <a:chOff x="2745000" y="0"/>
            <a:chExt cx="2815560" cy="1557000"/>
          </a:xfrm>
        </p:grpSpPr>
        <p:sp>
          <p:nvSpPr>
            <p:cNvPr id="140" name=""/>
            <p:cNvSpPr/>
            <p:nvPr/>
          </p:nvSpPr>
          <p:spPr>
            <a:xfrm>
              <a:off x="3276720" y="457200"/>
              <a:ext cx="175248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5000" y="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9600" spc="-1" strike="noStrike">
                  <a:solidFill>
                    <a:srgbClr val="000000"/>
                  </a:solidFill>
                  <a:latin typeface="Courier New"/>
                </a:rPr>
                <a:t>[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48320" y="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96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51960" y="609480"/>
              <a:ext cx="16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"black box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357920" y="4083120"/>
            <a:ext cx="5731200" cy="2624040"/>
            <a:chOff x="1357920" y="4083120"/>
            <a:chExt cx="5731200" cy="2624040"/>
          </a:xfrm>
        </p:grpSpPr>
        <p:grpSp>
          <p:nvGrpSpPr>
            <p:cNvPr id="145" name=""/>
            <p:cNvGrpSpPr/>
            <p:nvPr/>
          </p:nvGrpSpPr>
          <p:grpSpPr>
            <a:xfrm>
              <a:off x="1357920" y="4083120"/>
              <a:ext cx="5731200" cy="1983960"/>
              <a:chOff x="1357920" y="4083120"/>
              <a:chExt cx="5731200" cy="1983960"/>
            </a:xfrm>
          </p:grpSpPr>
          <p:sp>
            <p:nvSpPr>
              <p:cNvPr id="146" name=""/>
              <p:cNvSpPr/>
              <p:nvPr/>
            </p:nvSpPr>
            <p:spPr>
              <a:xfrm>
                <a:off x="3191400" y="4235760"/>
                <a:ext cx="23752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9600" spc="-1" strike="noStrike">
                    <a:solidFill>
                      <a:srgbClr val="000000"/>
                    </a:solidFill>
                    <a:latin typeface="Courier New"/>
                  </a:rPr>
                  <a:t>[%]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357920" y="4083120"/>
                <a:ext cx="222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input parame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27280" y="4322880"/>
                <a:ext cx="838080" cy="457200"/>
              </a:xfrm>
              <a:custGeom>
                <a:avLst/>
                <a:gdLst/>
                <a:ahLst/>
                <a:rect l="l" t="t" r="r" b="b"/>
                <a:pathLst>
                  <a:path w="528" h="288">
                    <a:moveTo>
                      <a:pt x="0" y="0"/>
                    </a:moveTo>
                    <a:cubicBezTo>
                      <a:pt x="164" y="8"/>
                      <a:pt x="328" y="16"/>
                      <a:pt x="384" y="48"/>
                    </a:cubicBezTo>
                    <a:cubicBezTo>
                      <a:pt x="440" y="80"/>
                      <a:pt x="312" y="152"/>
                      <a:pt x="336" y="192"/>
                    </a:cubicBezTo>
                    <a:cubicBezTo>
                      <a:pt x="360" y="232"/>
                      <a:pt x="444" y="260"/>
                      <a:pt x="528" y="288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71920" y="5226120"/>
                <a:ext cx="241200" cy="6858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8" y="0"/>
                    </a:moveTo>
                    <a:cubicBezTo>
                      <a:pt x="56" y="44"/>
                      <a:pt x="104" y="88"/>
                      <a:pt x="104" y="144"/>
                    </a:cubicBezTo>
                    <a:cubicBezTo>
                      <a:pt x="104" y="200"/>
                      <a:pt x="0" y="288"/>
                      <a:pt x="8" y="336"/>
                    </a:cubicBezTo>
                    <a:cubicBezTo>
                      <a:pt x="16" y="384"/>
                      <a:pt x="84" y="408"/>
                      <a:pt x="152" y="43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10960" y="5607360"/>
                <a:ext cx="237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output parame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447920" y="454032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(flow "down" int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from the le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6920" y="60645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(flow "down" out of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to the righ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52680" y="1371600"/>
            <a:ext cx="1981080" cy="3142080"/>
            <a:chOff x="3352680" y="1371600"/>
            <a:chExt cx="1981080" cy="3142080"/>
          </a:xfrm>
        </p:grpSpPr>
        <p:sp>
          <p:nvSpPr>
            <p:cNvPr id="154" name=""/>
            <p:cNvSpPr/>
            <p:nvPr/>
          </p:nvSpPr>
          <p:spPr>
            <a:xfrm>
              <a:off x="3352680" y="1371600"/>
              <a:ext cx="198108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2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498840" y="2243160"/>
              <a:ext cx="1216080" cy="1338120"/>
              <a:chOff x="3498840" y="2243160"/>
              <a:chExt cx="1216080" cy="1338120"/>
            </a:xfrm>
          </p:grpSpPr>
          <p:sp>
            <p:nvSpPr>
              <p:cNvPr id="156" name=""/>
              <p:cNvSpPr/>
              <p:nvPr/>
            </p:nvSpPr>
            <p:spPr>
              <a:xfrm>
                <a:off x="3822120" y="224316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in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p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15880" y="3213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out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p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463600">
                <a:off x="3526920" y="2568240"/>
                <a:ext cx="115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process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41760" y="3049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fore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22240" y="1066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000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560" y="1066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101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960" y="47689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6040" y="480060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fter assignment, both memory cells are now equ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7960" y="53020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000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90920" y="53020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000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6840" y="25588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000000"/>
                </a:solidFill>
                <a:latin typeface="Courier New"/>
              </a:rPr>
              <a:t>=&gt;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32480" y="2133720"/>
            <a:ext cx="713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uring assignment, a copy of the bit pattern is "injecte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o the other memory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90560" y="30924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000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30924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101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57560" y="308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03080" y="3222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0  0   0  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30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2112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0720" y="312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52280" y="152280"/>
          <a:ext cx="16430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1643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379880" y="10666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5480" y="10666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1600" y="457200"/>
            <a:ext cx="21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 express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955440" y="60948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46160" y="1143000"/>
            <a:ext cx="16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.. squee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t by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74520" y="-152280"/>
            <a:ext cx="2896560" cy="3004920"/>
            <a:chOff x="74520" y="-152280"/>
            <a:chExt cx="2896560" cy="3004920"/>
          </a:xfrm>
        </p:grpSpPr>
        <p:graphicFrame>
          <p:nvGraphicFramePr>
            <p:cNvPr id="183" name=""/>
            <p:cNvGraphicFramePr/>
            <p:nvPr/>
          </p:nvGraphicFramePr>
          <p:xfrm>
            <a:off x="2346120" y="838440"/>
            <a:ext cx="549000" cy="103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46120" y="838440"/>
                      <a:ext cx="549000" cy="103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1365120" y="457200"/>
            <a:ext cx="105048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65120" y="457200"/>
                      <a:ext cx="105048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2058840" y="-15228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96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520" y="1295640"/>
              <a:ext cx="1886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snip! snip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comment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cut out of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source cod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18960" y="990360"/>
              <a:ext cx="6854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904760" y="1828440"/>
              <a:ext cx="4568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614760" y="3276360"/>
            <a:ext cx="2122200" cy="1371960"/>
            <a:chOff x="3614760" y="3276360"/>
            <a:chExt cx="2122200" cy="1371960"/>
          </a:xfrm>
        </p:grpSpPr>
        <p:grpSp>
          <p:nvGrpSpPr>
            <p:cNvPr id="192" name=""/>
            <p:cNvGrpSpPr/>
            <p:nvPr/>
          </p:nvGrpSpPr>
          <p:grpSpPr>
            <a:xfrm>
              <a:off x="4038480" y="3276360"/>
              <a:ext cx="1698480" cy="457560"/>
              <a:chOff x="4038480" y="3276360"/>
              <a:chExt cx="1698480" cy="457560"/>
            </a:xfrm>
          </p:grpSpPr>
          <p:sp>
            <p:nvSpPr>
              <p:cNvPr id="193" name=""/>
              <p:cNvSpPr/>
              <p:nvPr/>
            </p:nvSpPr>
            <p:spPr>
              <a:xfrm>
                <a:off x="4038480" y="3733920"/>
                <a:ext cx="1447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127840" y="3276000"/>
                <a:ext cx="6091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038480" y="4190760"/>
              <a:ext cx="1698480" cy="457560"/>
              <a:chOff x="4038480" y="4190760"/>
              <a:chExt cx="1698480" cy="457560"/>
            </a:xfrm>
          </p:grpSpPr>
          <p:sp>
            <p:nvSpPr>
              <p:cNvPr id="196" name=""/>
              <p:cNvSpPr/>
              <p:nvPr/>
            </p:nvSpPr>
            <p:spPr>
              <a:xfrm>
                <a:off x="4038480" y="4190760"/>
                <a:ext cx="1447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27840" y="4191480"/>
                <a:ext cx="6091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614760" y="3940200"/>
              <a:ext cx="762120" cy="439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634920" y="3516480"/>
              <a:ext cx="762120" cy="439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3962520" y="2743200"/>
            <a:ext cx="533160" cy="1676520"/>
            <a:chOff x="3962520" y="2743200"/>
            <a:chExt cx="533160" cy="1676520"/>
          </a:xfrm>
        </p:grpSpPr>
        <p:sp>
          <p:nvSpPr>
            <p:cNvPr id="59" name=""/>
            <p:cNvSpPr/>
            <p:nvPr/>
          </p:nvSpPr>
          <p:spPr>
            <a:xfrm>
              <a:off x="3962520" y="2743200"/>
              <a:ext cx="533160" cy="1676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38480" y="2819520"/>
              <a:ext cx="381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33720" y="1676520"/>
            <a:ext cx="2286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ld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609480"/>
            <a:ext cx="2590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Poisonous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1676520"/>
            <a:ext cx="2590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eManShirtSle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3352680"/>
            <a:ext cx="2286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anker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919400" y="304272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5" idx="3"/>
            <a:endCxn id="63" idx="2"/>
          </p:cNvCxnSpPr>
          <p:nvPr/>
        </p:nvCxnSpPr>
        <p:spPr>
          <a:xfrm flipH="1" flipV="1" rot="5400000">
            <a:off x="5605200" y="1865160"/>
            <a:ext cx="603720" cy="174996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65" idx="3"/>
            <a:endCxn id="61" idx="2"/>
          </p:cNvCxnSpPr>
          <p:nvPr/>
        </p:nvCxnSpPr>
        <p:spPr>
          <a:xfrm flipV="1" rot="16200000">
            <a:off x="3852360" y="1861920"/>
            <a:ext cx="603720" cy="175644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2" idx="2"/>
            <a:endCxn id="65" idx="3"/>
          </p:cNvCxnSpPr>
          <p:nvPr/>
        </p:nvCxnSpPr>
        <p:spPr>
          <a:xfrm>
            <a:off x="5028840" y="1371240"/>
            <a:ext cx="3960" cy="167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>
            <a:off x="380880" y="3505320"/>
            <a:ext cx="1828800" cy="457200"/>
          </a:xfrm>
          <a:prstGeom prst="roundRect">
            <a:avLst>
              <a:gd name="adj" fmla="val 368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lowN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4" idx="1"/>
            <a:endCxn id="69" idx="3"/>
          </p:cNvCxnSpPr>
          <p:nvPr/>
        </p:nvCxnSpPr>
        <p:spPr>
          <a:xfrm flipH="1">
            <a:off x="2208960" y="3733560"/>
            <a:ext cx="167724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71" name=""/>
          <p:cNvSpPr/>
          <p:nvPr/>
        </p:nvSpPr>
        <p:spPr>
          <a:xfrm>
            <a:off x="2516040" y="3352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«uses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24280" y="280980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9512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9196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rive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i.e. the "so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.k.a "subclas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15228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2716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i.e. the "father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.k.a "superclas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4457520" y="6476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7" idx="3"/>
            <a:endCxn id="73" idx="3"/>
          </p:cNvCxnSpPr>
          <p:nvPr/>
        </p:nvCxnSpPr>
        <p:spPr>
          <a:xfrm flipH="1">
            <a:off x="3504600" y="798480"/>
            <a:ext cx="9133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1219320" y="149076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1587600"/>
            <a:ext cx="1905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e.g. impor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48104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1522440"/>
            <a:ext cx="198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dep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e.g. expor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1" idx="1"/>
            <a:endCxn id="79" idx="3"/>
          </p:cNvCxnSpPr>
          <p:nvPr/>
        </p:nvCxnSpPr>
        <p:spPr>
          <a:xfrm flipH="1">
            <a:off x="3504960" y="2090880"/>
            <a:ext cx="1219680" cy="10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84" name=""/>
          <p:cNvSpPr/>
          <p:nvPr/>
        </p:nvSpPr>
        <p:spPr>
          <a:xfrm>
            <a:off x="1219320" y="281952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3049560"/>
            <a:ext cx="1904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i.e. the "own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04956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i.e. the ow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3"/>
            <a:endCxn id="72" idx="1"/>
          </p:cNvCxnSpPr>
          <p:nvPr/>
        </p:nvCxnSpPr>
        <p:spPr>
          <a:xfrm flipV="1">
            <a:off x="3809880" y="3418920"/>
            <a:ext cx="915120" cy="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3505320" y="331164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548640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548496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57150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rface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rfac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0" idx="3"/>
          </p:cNvCxnSpPr>
          <p:nvPr/>
        </p:nvCxnSpPr>
        <p:spPr>
          <a:xfrm>
            <a:off x="3504960" y="6094440"/>
            <a:ext cx="533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4091040" y="5977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1"/>
          </p:cNvCxnSpPr>
          <p:nvPr/>
        </p:nvCxnSpPr>
        <p:spPr>
          <a:xfrm>
            <a:off x="4319640" y="6090840"/>
            <a:ext cx="4053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rot="16200000">
            <a:off x="3994920" y="5931720"/>
            <a:ext cx="380880" cy="316080"/>
          </a:xfrm>
          <a:prstGeom prst="blockArc">
            <a:avLst>
              <a:gd name="adj1" fmla="val 11998732"/>
              <a:gd name="adj2" fmla="val 20401268"/>
              <a:gd name="adj3" fmla="val 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415764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415620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386240"/>
            <a:ext cx="1904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ther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e.g. Bo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438624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e.g. a Libr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3"/>
            <a:endCxn id="97" idx="1"/>
          </p:cNvCxnSpPr>
          <p:nvPr/>
        </p:nvCxnSpPr>
        <p:spPr>
          <a:xfrm>
            <a:off x="3505320" y="4765680"/>
            <a:ext cx="12196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3506760" y="441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1160" y="446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3049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04920"/>
            <a:ext cx="1752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4" idx="3"/>
            <a:endCxn id="105" idx="1"/>
          </p:cNvCxnSpPr>
          <p:nvPr/>
        </p:nvCxnSpPr>
        <p:spPr>
          <a:xfrm>
            <a:off x="1904760" y="761760"/>
            <a:ext cx="2896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89480" y="2286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86200" y="152280"/>
            <a:ext cx="1905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ird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de no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der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41436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3"/>
            <a:endCxn id="109" idx="1"/>
          </p:cNvCxnSpPr>
          <p:nvPr/>
        </p:nvCxnSpPr>
        <p:spPr>
          <a:xfrm flipV="1">
            <a:off x="5791320" y="870840"/>
            <a:ext cx="182952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018480" y="3380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95200"/>
            <a:ext cx="1149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3"/>
            <a:endCxn id="108" idx="1"/>
          </p:cNvCxnSpPr>
          <p:nvPr/>
        </p:nvCxnSpPr>
        <p:spPr>
          <a:xfrm>
            <a:off x="1301400" y="866880"/>
            <a:ext cx="25851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368000" y="338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nsmog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320" y="763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52280"/>
            <a:ext cx="1218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228600"/>
            <a:ext cx="1600200" cy="228600"/>
          </a:xfrm>
          <a:custGeom>
            <a:avLst/>
            <a:gdLst/>
            <a:ahLst/>
            <a:rect l="l" t="t" r="r" b="b"/>
            <a:pathLst>
              <a:path w="1008" h="144">
                <a:moveTo>
                  <a:pt x="0" y="144"/>
                </a:moveTo>
                <a:cubicBezTo>
                  <a:pt x="180" y="72"/>
                  <a:pt x="360" y="0"/>
                  <a:pt x="528" y="0"/>
                </a:cubicBezTo>
                <a:cubicBezTo>
                  <a:pt x="696" y="0"/>
                  <a:pt x="928" y="120"/>
                  <a:pt x="1008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12193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52280"/>
            <a:ext cx="1219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295280"/>
            <a:ext cx="1219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2438280"/>
            <a:ext cx="1752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op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other 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8" idx="3"/>
            <a:endCxn id="119" idx="1"/>
          </p:cNvCxnSpPr>
          <p:nvPr/>
        </p:nvCxnSpPr>
        <p:spPr>
          <a:xfrm flipV="1">
            <a:off x="1447920" y="532800"/>
            <a:ext cx="129600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8" idx="3"/>
            <a:endCxn id="120" idx="1"/>
          </p:cNvCxnSpPr>
          <p:nvPr/>
        </p:nvCxnSpPr>
        <p:spPr>
          <a:xfrm>
            <a:off x="1447920" y="1600200"/>
            <a:ext cx="175320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8" idx="1"/>
            <a:endCxn id="121" idx="2"/>
          </p:cNvCxnSpPr>
          <p:nvPr/>
        </p:nvCxnSpPr>
        <p:spPr>
          <a:xfrm flipH="1" flipV="1" rot="10800000">
            <a:off x="304560" y="1599120"/>
            <a:ext cx="3086640" cy="1677240"/>
          </a:xfrm>
          <a:prstGeom prst="curvedConnector5">
            <a:avLst>
              <a:gd name="adj1" fmla="val -7406"/>
              <a:gd name="adj2" fmla="val 56805"/>
              <a:gd name="adj3" fmla="val -740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52280"/>
            <a:ext cx="1143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1143000"/>
            <a:ext cx="1752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Just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6" idx="1"/>
          </p:cNvCxnSpPr>
          <p:nvPr/>
        </p:nvCxnSpPr>
        <p:spPr>
          <a:xfrm>
            <a:off x="1294920" y="533160"/>
            <a:ext cx="1143720" cy="1028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04920" y="1295280"/>
            <a:ext cx="1143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438280"/>
            <a:ext cx="16761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Yet a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other 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26" idx="2"/>
          </p:cNvCxnSpPr>
          <p:nvPr/>
        </p:nvCxnSpPr>
        <p:spPr>
          <a:xfrm flipV="1">
            <a:off x="1980720" y="1980360"/>
            <a:ext cx="1334520" cy="877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3"/>
            <a:endCxn id="126" idx="3"/>
          </p:cNvCxnSpPr>
          <p:nvPr/>
        </p:nvCxnSpPr>
        <p:spPr>
          <a:xfrm flipV="1">
            <a:off x="1447920" y="1561680"/>
            <a:ext cx="2743920" cy="115200"/>
          </a:xfrm>
          <a:prstGeom prst="curvedConnector5">
            <a:avLst>
              <a:gd name="adj1" fmla="val 18055"/>
              <a:gd name="adj2" fmla="val -233228"/>
              <a:gd name="adj3" fmla="val 1805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23:27:17Z</dcterms:created>
  <dc:creator>sjj</dc:creator>
  <dc:description/>
  <dc:language>en-US</dc:language>
  <cp:lastModifiedBy>sjj</cp:lastModifiedBy>
  <dcterms:modified xsi:type="dcterms:W3CDTF">2016-08-03T14:28:46Z</dcterms:modified>
  <cp:revision>24</cp:revision>
  <dc:subject/>
  <dc:title>PowerPoint Presentation</dc:title>
</cp:coreProperties>
</file>