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D4B-3F92-4129-982D-D82CC4CE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8C7-868C-4182-90E0-D563317F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931-4940-4C4A-A59A-E5A6B6EF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8DC-17F2-4DE6-9E7E-148937A7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1B6-6A6C-4740-A075-3D2B9BC5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D42-DEAF-4A3A-8BE6-18EB2B18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6A0-EB78-4143-836A-BA8AD397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75B-CB32-49BA-8643-25537C7B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56C-3100-4B0F-B0DF-E7F068BD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5D6-AEC5-4E9B-ACD8-FA721F34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708-0F07-4157-A653-F71BBFF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EDB-994B-4D4B-8085-7AC5BC9B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B11F-B62F-405A-AB32-870B93F7C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447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electrical diagram of a transistor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68600" y="2286000"/>
            <a:ext cx="167652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616200" y="35053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33720" y="3048120"/>
            <a:ext cx="1334520" cy="152280"/>
            <a:chOff x="2133720" y="3048120"/>
            <a:chExt cx="1334520" cy="152280"/>
          </a:xfrm>
        </p:grpSpPr>
        <p:sp>
          <p:nvSpPr>
            <p:cNvPr id="45" name=""/>
            <p:cNvSpPr/>
            <p:nvPr/>
          </p:nvSpPr>
          <p:spPr>
            <a:xfrm>
              <a:off x="2133720" y="32004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66880" y="3048120"/>
              <a:ext cx="266400" cy="15228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96"/>
                  </a:moveTo>
                  <a:lnTo>
                    <a:pt x="26" y="0"/>
                  </a:lnTo>
                  <a:lnTo>
                    <a:pt x="52" y="96"/>
                  </a:lnTo>
                  <a:lnTo>
                    <a:pt x="78" y="0"/>
                  </a:lnTo>
                  <a:lnTo>
                    <a:pt x="104" y="96"/>
                  </a:lnTo>
                  <a:lnTo>
                    <a:pt x="129" y="0"/>
                  </a:lnTo>
                  <a:lnTo>
                    <a:pt x="155" y="96"/>
                  </a:lnTo>
                  <a:lnTo>
                    <a:pt x="168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35080" y="312444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468600" y="312408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87920" y="30481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451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3092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0724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3200" y="29718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0800" y="3505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04812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fr-CA" sz="1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44197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A" sz="1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13372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A" sz="1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50120" y="38466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</p:cNvCxnSpPr>
          <p:nvPr/>
        </p:nvCxnSpPr>
        <p:spPr>
          <a:xfrm flipV="1" rot="16200000">
            <a:off x="5277960" y="3255120"/>
            <a:ext cx="799200" cy="383760"/>
          </a:xfrm>
          <a:prstGeom prst="curvedConnector3">
            <a:avLst>
              <a:gd name="adj1" fmla="val 24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3126240" y="42670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3"/>
          </p:cNvCxnSpPr>
          <p:nvPr/>
        </p:nvCxnSpPr>
        <p:spPr>
          <a:xfrm flipV="1">
            <a:off x="3602520" y="4190400"/>
            <a:ext cx="664920" cy="215280"/>
          </a:xfrm>
          <a:prstGeom prst="curvedConnector3">
            <a:avLst>
              <a:gd name="adj1" fmla="val 25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200400" y="25138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60800" y="3079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41520" y="373392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0"/>
            <a:endCxn id="63" idx="4"/>
          </p:cNvCxnSpPr>
          <p:nvPr/>
        </p:nvCxnSpPr>
        <p:spPr>
          <a:xfrm flipH="1" flipV="1" rot="5400000">
            <a:off x="2718000" y="3252960"/>
            <a:ext cx="578160" cy="384120"/>
          </a:xfrm>
          <a:prstGeom prst="curvedConnector3">
            <a:avLst>
              <a:gd name="adj1" fmla="val 242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304920" y="2286000"/>
            <a:ext cx="3124080" cy="533160"/>
            <a:chOff x="304920" y="2286000"/>
            <a:chExt cx="3124080" cy="533160"/>
          </a:xfrm>
        </p:grpSpPr>
        <p:sp>
          <p:nvSpPr>
            <p:cNvPr id="664" name=""/>
            <p:cNvSpPr/>
            <p:nvPr/>
          </p:nvSpPr>
          <p:spPr>
            <a:xfrm>
              <a:off x="304920" y="2286000"/>
              <a:ext cx="3124080" cy="533160"/>
            </a:xfrm>
            <a:prstGeom prst="cube">
              <a:avLst>
                <a:gd name="adj" fmla="val 4643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8000" y="2562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8920" y="2574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9480" y="2571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30400" y="256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1320" y="2565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32240" y="2570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82800" y="2566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33720" y="25635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84640" y="2560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635200" y="2565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86120" y="2562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304200" y="13716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view of "rack" of WT hous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d out of a block of Delr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 flipH="1">
            <a:off x="2932200" y="2660760"/>
            <a:ext cx="2666880" cy="19810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08160" y="341460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379040" y="2736720"/>
            <a:ext cx="12193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93760" y="3422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endCxn id="677" idx="1"/>
          </p:cNvCxnSpPr>
          <p:nvPr/>
        </p:nvCxnSpPr>
        <p:spPr>
          <a:xfrm>
            <a:off x="2475000" y="3574800"/>
            <a:ext cx="457920" cy="7524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4379760" y="1898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2" idx="4"/>
            <a:endCxn id="677" idx="0"/>
          </p:cNvCxnSpPr>
          <p:nvPr/>
        </p:nvCxnSpPr>
        <p:spPr>
          <a:xfrm rot="5400000">
            <a:off x="4169520" y="2298960"/>
            <a:ext cx="457920" cy="267120"/>
          </a:xfrm>
          <a:prstGeom prst="curvedConnector5">
            <a:avLst>
              <a:gd name="adj1" fmla="val 49960"/>
              <a:gd name="adj2" fmla="val 49932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 flipH="1">
            <a:off x="2931480" y="3956040"/>
            <a:ext cx="53316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rot="5400000">
            <a:off x="3346200" y="3837600"/>
            <a:ext cx="8424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931480" y="3110040"/>
            <a:ext cx="75960" cy="16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5400000">
            <a:off x="2932200" y="3186000"/>
            <a:ext cx="304560" cy="15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008160" y="2660760"/>
            <a:ext cx="152640" cy="44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93960" y="4336920"/>
            <a:ext cx="15264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931480" y="4413240"/>
            <a:ext cx="1447560" cy="144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312360" y="4108320"/>
            <a:ext cx="152280" cy="53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5400000">
            <a:off x="3613680" y="3951360"/>
            <a:ext cx="312840" cy="152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932200" y="4184640"/>
            <a:ext cx="914400" cy="152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70080" y="41767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4" idx="6"/>
            <a:endCxn id="684" idx="1"/>
          </p:cNvCxnSpPr>
          <p:nvPr/>
        </p:nvCxnSpPr>
        <p:spPr>
          <a:xfrm flipV="1">
            <a:off x="2475000" y="4029840"/>
            <a:ext cx="457920" cy="2991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"/>
          <p:cNvSpPr/>
          <p:nvPr/>
        </p:nvSpPr>
        <p:spPr>
          <a:xfrm>
            <a:off x="2170080" y="516744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6" idx="6"/>
            <a:endCxn id="690" idx="1"/>
          </p:cNvCxnSpPr>
          <p:nvPr/>
        </p:nvCxnSpPr>
        <p:spPr>
          <a:xfrm flipV="1">
            <a:off x="2475000" y="4484160"/>
            <a:ext cx="457920" cy="835920"/>
          </a:xfrm>
          <a:prstGeom prst="curvedConnector5">
            <a:avLst>
              <a:gd name="adj1" fmla="val 49960"/>
              <a:gd name="adj2" fmla="val 49978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>
            <a:off x="2170080" y="471024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"/>
          <p:cNvCxnSpPr>
            <a:stCxn id="698" idx="6"/>
            <a:endCxn id="693" idx="1"/>
          </p:cNvCxnSpPr>
          <p:nvPr/>
        </p:nvCxnSpPr>
        <p:spPr>
          <a:xfrm flipV="1">
            <a:off x="2475000" y="4259160"/>
            <a:ext cx="457920" cy="6037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>
            <a:off x="2170080" y="2576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700" idx="6"/>
            <a:endCxn id="686" idx="1"/>
          </p:cNvCxnSpPr>
          <p:nvPr/>
        </p:nvCxnSpPr>
        <p:spPr>
          <a:xfrm>
            <a:off x="2475000" y="2728440"/>
            <a:ext cx="457920" cy="4611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2" name=""/>
          <p:cNvSpPr/>
          <p:nvPr/>
        </p:nvSpPr>
        <p:spPr>
          <a:xfrm>
            <a:off x="3313080" y="1898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3" name=""/>
          <p:cNvCxnSpPr>
            <a:stCxn id="702" idx="4"/>
            <a:endCxn id="688" idx="0"/>
          </p:cNvCxnSpPr>
          <p:nvPr/>
        </p:nvCxnSpPr>
        <p:spPr>
          <a:xfrm rot="5400000">
            <a:off x="3045600" y="22417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04" name=""/>
          <p:cNvGrpSpPr/>
          <p:nvPr/>
        </p:nvGrpSpPr>
        <p:grpSpPr>
          <a:xfrm>
            <a:off x="3123720" y="2743200"/>
            <a:ext cx="1503360" cy="1814400"/>
            <a:chOff x="3123720" y="2743200"/>
            <a:chExt cx="1503360" cy="1814400"/>
          </a:xfrm>
        </p:grpSpPr>
        <p:sp>
          <p:nvSpPr>
            <p:cNvPr id="705" name=""/>
            <p:cNvSpPr/>
            <p:nvPr/>
          </p:nvSpPr>
          <p:spPr>
            <a:xfrm flipH="1">
              <a:off x="3123360" y="3454200"/>
              <a:ext cx="127476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3195720" y="3422520"/>
              <a:ext cx="777960" cy="434520"/>
              <a:chOff x="3195720" y="3422520"/>
              <a:chExt cx="777960" cy="434520"/>
            </a:xfrm>
          </p:grpSpPr>
          <p:sp>
            <p:nvSpPr>
              <p:cNvPr id="707" name=""/>
              <p:cNvSpPr/>
              <p:nvPr/>
            </p:nvSpPr>
            <p:spPr>
              <a:xfrm>
                <a:off x="3195720" y="342252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95720" y="37810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897360" y="342252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97360" y="37810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6200000">
                <a:off x="3543480" y="3219840"/>
                <a:ext cx="78840" cy="533520"/>
              </a:xfrm>
              <a:custGeom>
                <a:avLst/>
                <a:gdLst>
                  <a:gd name="textAreaLeft" fmla="*/ 23040 w 78840"/>
                  <a:gd name="textAreaRight" fmla="*/ 79200 w 78840"/>
                  <a:gd name="textAreaTop" fmla="*/ 41040 h 533520"/>
                  <a:gd name="textAreaBottom" fmla="*/ 49248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1671"/>
                      <a:pt x="0" y="3342"/>
                    </a:cubicBezTo>
                    <a:lnTo>
                      <a:pt x="0" y="18258"/>
                    </a:lnTo>
                    <a:cubicBezTo>
                      <a:pt x="0" y="19929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 rot="5400000">
                <a:off x="3538800" y="3539520"/>
                <a:ext cx="79200" cy="533520"/>
              </a:xfrm>
              <a:custGeom>
                <a:avLst/>
                <a:gdLst>
                  <a:gd name="textAreaLeft" fmla="*/ 23040 w 79200"/>
                  <a:gd name="textAreaRight" fmla="*/ 79560 w 79200"/>
                  <a:gd name="textAreaTop" fmla="*/ 41040 h 533520"/>
                  <a:gd name="textAreaBottom" fmla="*/ 49248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1671"/>
                      <a:pt x="0" y="3342"/>
                    </a:cubicBezTo>
                    <a:lnTo>
                      <a:pt x="0" y="18258"/>
                    </a:lnTo>
                    <a:cubicBezTo>
                      <a:pt x="0" y="19929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 flipH="1">
              <a:off x="4398120" y="2773080"/>
              <a:ext cx="228600" cy="175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4475160" y="2743200"/>
              <a:ext cx="76320" cy="1814400"/>
              <a:chOff x="4475160" y="2743200"/>
              <a:chExt cx="76320" cy="1814400"/>
            </a:xfrm>
          </p:grpSpPr>
          <p:sp>
            <p:nvSpPr>
              <p:cNvPr id="715" name=""/>
              <p:cNvSpPr/>
              <p:nvPr/>
            </p:nvSpPr>
            <p:spPr>
              <a:xfrm>
                <a:off x="4475160" y="27432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475160" y="44812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 flipH="1">
            <a:off x="5293440" y="2749680"/>
            <a:ext cx="304920" cy="18000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369760" y="2965320"/>
            <a:ext cx="228600" cy="13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32400" y="50227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9" idx="0"/>
            <a:endCxn id="716" idx="4"/>
          </p:cNvCxnSpPr>
          <p:nvPr/>
        </p:nvCxnSpPr>
        <p:spPr>
          <a:xfrm flipV="1" rot="16200000">
            <a:off x="4366080" y="4703760"/>
            <a:ext cx="465840" cy="172080"/>
          </a:xfrm>
          <a:prstGeom prst="curvedConnector5">
            <a:avLst>
              <a:gd name="adj1" fmla="val 49806"/>
              <a:gd name="adj2" fmla="val 49895"/>
              <a:gd name="adj3" fmla="val 498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1" name=""/>
          <p:cNvSpPr/>
          <p:nvPr/>
        </p:nvSpPr>
        <p:spPr>
          <a:xfrm>
            <a:off x="3489480" y="2765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1" idx="4"/>
          </p:cNvCxnSpPr>
          <p:nvPr/>
        </p:nvCxnSpPr>
        <p:spPr>
          <a:xfrm rot="5400000">
            <a:off x="3392640" y="3234240"/>
            <a:ext cx="413640" cy="84960"/>
          </a:xfrm>
          <a:prstGeom prst="curvedConnector5">
            <a:avLst>
              <a:gd name="adj1" fmla="val 50000"/>
              <a:gd name="adj2" fmla="val 4978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5827680" y="38797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32600" y="2050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3" idx="2"/>
          </p:cNvCxnSpPr>
          <p:nvPr/>
        </p:nvCxnSpPr>
        <p:spPr>
          <a:xfrm flipH="1" flipV="1">
            <a:off x="5370120" y="3879360"/>
            <a:ext cx="4579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6" name=""/>
          <p:cNvSpPr/>
          <p:nvPr/>
        </p:nvSpPr>
        <p:spPr>
          <a:xfrm>
            <a:off x="5904000" y="266076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6" idx="2"/>
          </p:cNvCxnSpPr>
          <p:nvPr/>
        </p:nvCxnSpPr>
        <p:spPr>
          <a:xfrm flipH="1">
            <a:off x="4989240" y="2813040"/>
            <a:ext cx="9151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 flipH="1">
            <a:off x="5369760" y="4413240"/>
            <a:ext cx="228600" cy="763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5369760" y="2813040"/>
            <a:ext cx="228600" cy="763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79960" y="4565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0" idx="2"/>
            <a:endCxn id="728" idx="3"/>
          </p:cNvCxnSpPr>
          <p:nvPr/>
        </p:nvCxnSpPr>
        <p:spPr>
          <a:xfrm rot="10800000">
            <a:off x="5598360" y="4448880"/>
            <a:ext cx="381600" cy="269280"/>
          </a:xfrm>
          <a:prstGeom prst="curvedConnector5">
            <a:avLst>
              <a:gd name="adj1" fmla="val 49952"/>
              <a:gd name="adj2" fmla="val 49933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24" idx="3"/>
          </p:cNvCxnSpPr>
          <p:nvPr/>
        </p:nvCxnSpPr>
        <p:spPr>
          <a:xfrm flipH="1">
            <a:off x="5598360" y="2311200"/>
            <a:ext cx="57852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"/>
          <p:cNvSpPr/>
          <p:nvPr/>
        </p:nvSpPr>
        <p:spPr>
          <a:xfrm>
            <a:off x="4913280" y="47941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stCxn id="733" idx="0"/>
            <a:endCxn id="713" idx="3"/>
          </p:cNvCxnSpPr>
          <p:nvPr/>
        </p:nvCxnSpPr>
        <p:spPr>
          <a:xfrm flipV="1" rot="16200000">
            <a:off x="4272840" y="4001400"/>
            <a:ext cx="1146600" cy="438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588760" y="11430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view of individual W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764360" y="2286000"/>
            <a:ext cx="4407840" cy="2513880"/>
            <a:chOff x="1764360" y="2286000"/>
            <a:chExt cx="4407840" cy="2513880"/>
          </a:xfrm>
        </p:grpSpPr>
        <p:sp>
          <p:nvSpPr>
            <p:cNvPr id="67" name=""/>
            <p:cNvSpPr/>
            <p:nvPr/>
          </p:nvSpPr>
          <p:spPr>
            <a:xfrm>
              <a:off x="1764360" y="31032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"/>
                </a:rPr>
                <a:t>VCC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438280" y="2286000"/>
              <a:ext cx="3733920" cy="2513880"/>
              <a:chOff x="2438280" y="2286000"/>
              <a:chExt cx="3733920" cy="2513880"/>
            </a:xfrm>
          </p:grpSpPr>
          <p:sp>
            <p:nvSpPr>
              <p:cNvPr id="69" name=""/>
              <p:cNvSpPr/>
              <p:nvPr/>
            </p:nvSpPr>
            <p:spPr>
              <a:xfrm>
                <a:off x="4419720" y="2286000"/>
                <a:ext cx="1752480" cy="1981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495680" y="2361960"/>
                <a:ext cx="160020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89120" y="2570040"/>
                <a:ext cx="1906560" cy="137124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66880" y="2666880"/>
                <a:ext cx="10670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33920" y="3147840"/>
                <a:ext cx="761760" cy="19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03640" y="310824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106880" y="313200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0800000">
                <a:off x="4103640" y="33526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0800000">
                <a:off x="4106880" y="3315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2438280" y="3187440"/>
                <a:ext cx="228600" cy="151560"/>
                <a:chOff x="2438280" y="3187440"/>
                <a:chExt cx="228600" cy="1515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438280" y="3187440"/>
                  <a:ext cx="228600" cy="15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438280" y="3187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438280" y="333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062520" y="3809880"/>
                <a:ext cx="152280" cy="228240"/>
                <a:chOff x="3062520" y="3809880"/>
                <a:chExt cx="152280" cy="228240"/>
              </a:xfrm>
            </p:grpSpPr>
            <p:sp>
              <p:nvSpPr>
                <p:cNvPr id="83" name=""/>
                <p:cNvSpPr/>
                <p:nvPr/>
              </p:nvSpPr>
              <p:spPr>
                <a:xfrm rot="5400000">
                  <a:off x="3024360" y="3847680"/>
                  <a:ext cx="2282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1480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0625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505320" y="3809880"/>
                <a:ext cx="151920" cy="228240"/>
                <a:chOff x="3505320" y="3809880"/>
                <a:chExt cx="151920" cy="228240"/>
              </a:xfrm>
            </p:grpSpPr>
            <p:sp>
              <p:nvSpPr>
                <p:cNvPr id="87" name=""/>
                <p:cNvSpPr/>
                <p:nvPr/>
              </p:nvSpPr>
              <p:spPr>
                <a:xfrm rot="5400000">
                  <a:off x="3467160" y="384804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5724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053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572000" y="4190760"/>
                <a:ext cx="151920" cy="228240"/>
                <a:chOff x="4572000" y="4190760"/>
                <a:chExt cx="151920" cy="228240"/>
              </a:xfrm>
            </p:grpSpPr>
            <p:sp>
              <p:nvSpPr>
                <p:cNvPr id="91" name=""/>
                <p:cNvSpPr/>
                <p:nvPr/>
              </p:nvSpPr>
              <p:spPr>
                <a:xfrm rot="5400000">
                  <a:off x="4533840" y="422892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72392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57200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 rot="16200000">
                <a:off x="4492080" y="446688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200000">
                <a:off x="2868120" y="41382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3294720" y="41454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2790720" y="2341440"/>
            <a:ext cx="2222280" cy="1841400"/>
            <a:chOff x="2790720" y="2341440"/>
            <a:chExt cx="2222280" cy="1841400"/>
          </a:xfrm>
        </p:grpSpPr>
        <p:sp>
          <p:nvSpPr>
            <p:cNvPr id="98" name=""/>
            <p:cNvSpPr/>
            <p:nvPr/>
          </p:nvSpPr>
          <p:spPr>
            <a:xfrm>
              <a:off x="2943000" y="32115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0720" y="271440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30320" y="26892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27080" y="37209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0720" y="237492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00320" y="23493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97080" y="40910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7080" y="267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30320" y="373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00320" y="4106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00320" y="2341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052960" y="2401920"/>
            <a:ext cx="990000" cy="1752480"/>
            <a:chOff x="5052960" y="2401920"/>
            <a:chExt cx="990000" cy="1752480"/>
          </a:xfrm>
        </p:grpSpPr>
        <p:sp>
          <p:nvSpPr>
            <p:cNvPr id="110" name=""/>
            <p:cNvSpPr/>
            <p:nvPr/>
          </p:nvSpPr>
          <p:spPr>
            <a:xfrm>
              <a:off x="5052960" y="2401920"/>
              <a:ext cx="33048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1820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8344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7960" y="2401920"/>
              <a:ext cx="33048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1320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828800" y="1447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ydraulic diagram of a water-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de-view of cutaway)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1055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-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83600" y="3390120"/>
            <a:ext cx="2044080" cy="1715400"/>
            <a:chOff x="2883600" y="3390120"/>
            <a:chExt cx="2044080" cy="1715400"/>
          </a:xfrm>
        </p:grpSpPr>
        <p:cxnSp>
          <p:nvCxnSpPr>
            <p:cNvPr id="118" name=""/>
            <p:cNvCxnSpPr>
              <a:stCxn id="116" idx="0"/>
              <a:endCxn id="107" idx="4"/>
            </p:cNvCxnSpPr>
            <p:nvPr/>
          </p:nvCxnSpPr>
          <p:spPr>
            <a:xfrm flipH="1" flipV="1" rot="5400000">
              <a:off x="4178520" y="4356360"/>
              <a:ext cx="913680" cy="585000"/>
            </a:xfrm>
            <a:prstGeom prst="curvedConnector5">
              <a:avLst>
                <a:gd name="adj1" fmla="val 49901"/>
                <a:gd name="adj2" fmla="val 50000"/>
                <a:gd name="adj3" fmla="val 499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6" idx="0"/>
              <a:endCxn id="77" idx="0"/>
            </p:cNvCxnSpPr>
            <p:nvPr/>
          </p:nvCxnSpPr>
          <p:spPr>
            <a:xfrm flipV="1" rot="16200000">
              <a:off x="3386160" y="4148280"/>
              <a:ext cx="1715400" cy="199080"/>
            </a:xfrm>
            <a:prstGeom prst="curvedConnector5">
              <a:avLst>
                <a:gd name="adj1" fmla="val 49895"/>
                <a:gd name="adj2" fmla="val 50000"/>
                <a:gd name="adj3" fmla="val 498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0"/>
              <a:endCxn id="106" idx="5"/>
            </p:cNvCxnSpPr>
            <p:nvPr/>
          </p:nvCxnSpPr>
          <p:spPr>
            <a:xfrm flipV="1" rot="16200000">
              <a:off x="2963880" y="3726000"/>
              <a:ext cx="1299240" cy="145980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6402600" y="281952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14" idx="6"/>
          </p:cNvCxnSpPr>
          <p:nvPr/>
        </p:nvCxnSpPr>
        <p:spPr>
          <a:xfrm flipV="1" rot="10800000">
            <a:off x="6062040" y="3139560"/>
            <a:ext cx="338760" cy="138960"/>
          </a:xfrm>
          <a:prstGeom prst="curvedConnector5">
            <a:avLst>
              <a:gd name="adj1" fmla="val 52553"/>
              <a:gd name="adj2" fmla="val 49870"/>
              <a:gd name="adj3" fmla="val 525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3506760" y="22096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3" idx="2"/>
            <a:endCxn id="98" idx="0"/>
          </p:cNvCxnSpPr>
          <p:nvPr/>
        </p:nvCxnSpPr>
        <p:spPr>
          <a:xfrm flipH="1" rot="16200000">
            <a:off x="3514680" y="2754000"/>
            <a:ext cx="727560" cy="187920"/>
          </a:xfrm>
          <a:prstGeom prst="curvedConnector5">
            <a:avLst>
              <a:gd name="adj1" fmla="val 50000"/>
              <a:gd name="adj2" fmla="val 49904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64360" y="2286000"/>
            <a:ext cx="4407840" cy="2513880"/>
            <a:chOff x="1764360" y="2286000"/>
            <a:chExt cx="4407840" cy="2513880"/>
          </a:xfrm>
        </p:grpSpPr>
        <p:sp>
          <p:nvSpPr>
            <p:cNvPr id="126" name=""/>
            <p:cNvSpPr/>
            <p:nvPr/>
          </p:nvSpPr>
          <p:spPr>
            <a:xfrm>
              <a:off x="1764360" y="31032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"/>
                </a:rPr>
                <a:t>VCC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38280" y="2286000"/>
              <a:ext cx="3733920" cy="2513880"/>
              <a:chOff x="2438280" y="2286000"/>
              <a:chExt cx="3733920" cy="2513880"/>
            </a:xfrm>
          </p:grpSpPr>
          <p:sp>
            <p:nvSpPr>
              <p:cNvPr id="128" name=""/>
              <p:cNvSpPr/>
              <p:nvPr/>
            </p:nvSpPr>
            <p:spPr>
              <a:xfrm>
                <a:off x="4419720" y="2286000"/>
                <a:ext cx="1752480" cy="1981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495680" y="2361960"/>
                <a:ext cx="160020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89120" y="2570040"/>
                <a:ext cx="1906560" cy="137124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66880" y="2666880"/>
                <a:ext cx="10670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33920" y="3147840"/>
                <a:ext cx="761760" cy="19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03640" y="310824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06880" y="313200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0800000">
                <a:off x="4103640" y="33526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0800000">
                <a:off x="4106880" y="3315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438280" y="3187440"/>
                <a:ext cx="228600" cy="151560"/>
                <a:chOff x="2438280" y="3187440"/>
                <a:chExt cx="228600" cy="1515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438280" y="3187440"/>
                  <a:ext cx="228600" cy="15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38280" y="3187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438280" y="333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062520" y="3809880"/>
                <a:ext cx="152280" cy="228240"/>
                <a:chOff x="3062520" y="3809880"/>
                <a:chExt cx="152280" cy="228240"/>
              </a:xfrm>
            </p:grpSpPr>
            <p:sp>
              <p:nvSpPr>
                <p:cNvPr id="142" name=""/>
                <p:cNvSpPr/>
                <p:nvPr/>
              </p:nvSpPr>
              <p:spPr>
                <a:xfrm rot="5400000">
                  <a:off x="3024360" y="3847680"/>
                  <a:ext cx="2282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1480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0625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505320" y="3809880"/>
                <a:ext cx="151920" cy="228240"/>
                <a:chOff x="3505320" y="3809880"/>
                <a:chExt cx="151920" cy="228240"/>
              </a:xfrm>
            </p:grpSpPr>
            <p:sp>
              <p:nvSpPr>
                <p:cNvPr id="146" name=""/>
                <p:cNvSpPr/>
                <p:nvPr/>
              </p:nvSpPr>
              <p:spPr>
                <a:xfrm rot="5400000">
                  <a:off x="3467160" y="384804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65724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5053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572000" y="4190760"/>
                <a:ext cx="151920" cy="228240"/>
                <a:chOff x="4572000" y="4190760"/>
                <a:chExt cx="151920" cy="228240"/>
              </a:xfrm>
            </p:grpSpPr>
            <p:sp>
              <p:nvSpPr>
                <p:cNvPr id="150" name=""/>
                <p:cNvSpPr/>
                <p:nvPr/>
              </p:nvSpPr>
              <p:spPr>
                <a:xfrm rot="5400000">
                  <a:off x="4533840" y="422892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2392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57200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 rot="16200000">
                <a:off x="4492080" y="446688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6200000">
                <a:off x="2868120" y="41382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6200000">
                <a:off x="3294720" y="41454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2790720" y="2341440"/>
            <a:ext cx="2222280" cy="1841400"/>
            <a:chOff x="2790720" y="2341440"/>
            <a:chExt cx="2222280" cy="1841400"/>
          </a:xfrm>
        </p:grpSpPr>
        <p:sp>
          <p:nvSpPr>
            <p:cNvPr id="157" name=""/>
            <p:cNvSpPr/>
            <p:nvPr/>
          </p:nvSpPr>
          <p:spPr>
            <a:xfrm>
              <a:off x="2943000" y="32115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90720" y="271440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30320" y="26892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080" y="37209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60720" y="237492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00320" y="23493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97080" y="40910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080" y="267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30320" y="373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00320" y="4106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00320" y="2341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052960" y="2401920"/>
            <a:ext cx="990000" cy="1752480"/>
            <a:chOff x="5052960" y="2401920"/>
            <a:chExt cx="990000" cy="1752480"/>
          </a:xfrm>
        </p:grpSpPr>
        <p:sp>
          <p:nvSpPr>
            <p:cNvPr id="169" name=""/>
            <p:cNvSpPr/>
            <p:nvPr/>
          </p:nvSpPr>
          <p:spPr>
            <a:xfrm>
              <a:off x="5052960" y="2401920"/>
              <a:ext cx="33048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1820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8344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47960" y="2401920"/>
              <a:ext cx="33048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1320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828800" y="1447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 in Logical Zero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666880"/>
            <a:ext cx="8568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531160" y="312336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55840" y="31827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764360" y="2286000"/>
            <a:ext cx="4407840" cy="2513880"/>
            <a:chOff x="1764360" y="2286000"/>
            <a:chExt cx="4407840" cy="2513880"/>
          </a:xfrm>
        </p:grpSpPr>
        <p:sp>
          <p:nvSpPr>
            <p:cNvPr id="179" name=""/>
            <p:cNvSpPr/>
            <p:nvPr/>
          </p:nvSpPr>
          <p:spPr>
            <a:xfrm>
              <a:off x="1764360" y="31032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"/>
                </a:rPr>
                <a:t>VCC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2438280" y="2286000"/>
              <a:ext cx="3733920" cy="2513880"/>
              <a:chOff x="2438280" y="2286000"/>
              <a:chExt cx="3733920" cy="2513880"/>
            </a:xfrm>
          </p:grpSpPr>
          <p:sp>
            <p:nvSpPr>
              <p:cNvPr id="181" name=""/>
              <p:cNvSpPr/>
              <p:nvPr/>
            </p:nvSpPr>
            <p:spPr>
              <a:xfrm>
                <a:off x="4419720" y="2286000"/>
                <a:ext cx="1752480" cy="1981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95680" y="2361960"/>
                <a:ext cx="160020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89120" y="2570040"/>
                <a:ext cx="1906560" cy="137124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666880" y="2666880"/>
                <a:ext cx="10670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33920" y="3147840"/>
                <a:ext cx="761760" cy="19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03640" y="310824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06880" y="313200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4103640" y="33526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0800000">
                <a:off x="4106880" y="3315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2438280" y="3187440"/>
                <a:ext cx="228600" cy="151560"/>
                <a:chOff x="2438280" y="3187440"/>
                <a:chExt cx="228600" cy="1515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438280" y="3187440"/>
                  <a:ext cx="228600" cy="15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38280" y="3187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438280" y="333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062520" y="3809880"/>
                <a:ext cx="152280" cy="228240"/>
                <a:chOff x="3062520" y="3809880"/>
                <a:chExt cx="152280" cy="228240"/>
              </a:xfrm>
            </p:grpSpPr>
            <p:sp>
              <p:nvSpPr>
                <p:cNvPr id="195" name=""/>
                <p:cNvSpPr/>
                <p:nvPr/>
              </p:nvSpPr>
              <p:spPr>
                <a:xfrm rot="5400000">
                  <a:off x="3024360" y="3847680"/>
                  <a:ext cx="2282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21480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0625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05320" y="3809880"/>
                <a:ext cx="151920" cy="228240"/>
                <a:chOff x="3505320" y="3809880"/>
                <a:chExt cx="151920" cy="228240"/>
              </a:xfrm>
            </p:grpSpPr>
            <p:sp>
              <p:nvSpPr>
                <p:cNvPr id="199" name=""/>
                <p:cNvSpPr/>
                <p:nvPr/>
              </p:nvSpPr>
              <p:spPr>
                <a:xfrm rot="5400000">
                  <a:off x="3467160" y="384804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5724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5053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72000" y="4190760"/>
                <a:ext cx="151920" cy="228240"/>
                <a:chOff x="4572000" y="4190760"/>
                <a:chExt cx="151920" cy="228240"/>
              </a:xfrm>
            </p:grpSpPr>
            <p:sp>
              <p:nvSpPr>
                <p:cNvPr id="203" name=""/>
                <p:cNvSpPr/>
                <p:nvPr/>
              </p:nvSpPr>
              <p:spPr>
                <a:xfrm rot="5400000">
                  <a:off x="4533840" y="422892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2392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57200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 rot="16200000">
                <a:off x="4492080" y="446688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2868120" y="41382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3294720" y="41454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971800" y="2341440"/>
            <a:ext cx="2222280" cy="1841400"/>
            <a:chOff x="2971800" y="2341440"/>
            <a:chExt cx="2222280" cy="1841400"/>
          </a:xfrm>
        </p:grpSpPr>
        <p:sp>
          <p:nvSpPr>
            <p:cNvPr id="210" name=""/>
            <p:cNvSpPr/>
            <p:nvPr/>
          </p:nvSpPr>
          <p:spPr>
            <a:xfrm>
              <a:off x="3124080" y="32115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71800" y="271440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1400" y="26892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08160" y="37209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41800" y="237492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81400" y="23493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78160" y="40910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08160" y="267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1400" y="373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1400" y="4106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81400" y="2341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257800" y="2401920"/>
            <a:ext cx="785160" cy="1752480"/>
            <a:chOff x="5257800" y="2401920"/>
            <a:chExt cx="785160" cy="1752480"/>
          </a:xfrm>
        </p:grpSpPr>
        <p:sp>
          <p:nvSpPr>
            <p:cNvPr id="222" name=""/>
            <p:cNvSpPr/>
            <p:nvPr/>
          </p:nvSpPr>
          <p:spPr>
            <a:xfrm>
              <a:off x="5257800" y="2401920"/>
              <a:ext cx="26208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8840" y="2401920"/>
              <a:ext cx="2613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19880" y="2401920"/>
              <a:ext cx="2613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0560" y="2401920"/>
              <a:ext cx="26208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81600" y="2401920"/>
              <a:ext cx="2613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1600" y="1447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5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 starting to change its position from Zero to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666880"/>
            <a:ext cx="30492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2531160" y="312336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55840" y="31827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2362320"/>
            <a:ext cx="52848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4592520" y="412092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4521240" y="4885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764360" y="2286000"/>
            <a:ext cx="4407840" cy="2513880"/>
            <a:chOff x="1764360" y="2286000"/>
            <a:chExt cx="4407840" cy="2513880"/>
          </a:xfrm>
        </p:grpSpPr>
        <p:sp>
          <p:nvSpPr>
            <p:cNvPr id="235" name=""/>
            <p:cNvSpPr/>
            <p:nvPr/>
          </p:nvSpPr>
          <p:spPr>
            <a:xfrm>
              <a:off x="1764360" y="31032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"/>
                </a:rPr>
                <a:t>VCC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438280" y="2286000"/>
              <a:ext cx="3733920" cy="2513880"/>
              <a:chOff x="2438280" y="2286000"/>
              <a:chExt cx="3733920" cy="2513880"/>
            </a:xfrm>
          </p:grpSpPr>
          <p:sp>
            <p:nvSpPr>
              <p:cNvPr id="237" name=""/>
              <p:cNvSpPr/>
              <p:nvPr/>
            </p:nvSpPr>
            <p:spPr>
              <a:xfrm>
                <a:off x="4419720" y="2286000"/>
                <a:ext cx="1752480" cy="1981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495680" y="2361960"/>
                <a:ext cx="160020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89120" y="2570040"/>
                <a:ext cx="1906560" cy="137124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66880" y="2666880"/>
                <a:ext cx="10670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33920" y="3147840"/>
                <a:ext cx="761760" cy="19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03640" y="310824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06880" y="313200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0800000">
                <a:off x="4103640" y="33526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0800000">
                <a:off x="4106880" y="3315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2438280" y="3187440"/>
                <a:ext cx="228600" cy="151560"/>
                <a:chOff x="2438280" y="3187440"/>
                <a:chExt cx="228600" cy="1515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438280" y="3187440"/>
                  <a:ext cx="228600" cy="15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438280" y="3187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438280" y="333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062520" y="3809880"/>
                <a:ext cx="152280" cy="228240"/>
                <a:chOff x="3062520" y="3809880"/>
                <a:chExt cx="152280" cy="228240"/>
              </a:xfrm>
            </p:grpSpPr>
            <p:sp>
              <p:nvSpPr>
                <p:cNvPr id="251" name=""/>
                <p:cNvSpPr/>
                <p:nvPr/>
              </p:nvSpPr>
              <p:spPr>
                <a:xfrm rot="5400000">
                  <a:off x="3024360" y="3847680"/>
                  <a:ext cx="2282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21480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0625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505320" y="3809880"/>
                <a:ext cx="151920" cy="228240"/>
                <a:chOff x="3505320" y="3809880"/>
                <a:chExt cx="151920" cy="228240"/>
              </a:xfrm>
            </p:grpSpPr>
            <p:sp>
              <p:nvSpPr>
                <p:cNvPr id="255" name=""/>
                <p:cNvSpPr/>
                <p:nvPr/>
              </p:nvSpPr>
              <p:spPr>
                <a:xfrm rot="5400000">
                  <a:off x="3467160" y="384804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65724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5053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572000" y="4190760"/>
                <a:ext cx="151920" cy="228240"/>
                <a:chOff x="4572000" y="4190760"/>
                <a:chExt cx="151920" cy="228240"/>
              </a:xfrm>
            </p:grpSpPr>
            <p:sp>
              <p:nvSpPr>
                <p:cNvPr id="259" name=""/>
                <p:cNvSpPr/>
                <p:nvPr/>
              </p:nvSpPr>
              <p:spPr>
                <a:xfrm rot="5400000">
                  <a:off x="4533840" y="422892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72392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7200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rot="16200000">
                <a:off x="4492080" y="446688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200000">
                <a:off x="2868120" y="41382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200000">
                <a:off x="3294720" y="41454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3340080" y="2341440"/>
            <a:ext cx="2222280" cy="1841400"/>
            <a:chOff x="3340080" y="2341440"/>
            <a:chExt cx="2222280" cy="1841400"/>
          </a:xfrm>
        </p:grpSpPr>
        <p:sp>
          <p:nvSpPr>
            <p:cNvPr id="266" name=""/>
            <p:cNvSpPr/>
            <p:nvPr/>
          </p:nvSpPr>
          <p:spPr>
            <a:xfrm>
              <a:off x="3492360" y="32115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40080" y="271440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79680" y="26892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76440" y="37209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0080" y="237492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49680" y="23493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46440" y="40910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76440" y="267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79680" y="373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49680" y="4106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49680" y="2341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638680" y="2401920"/>
            <a:ext cx="404640" cy="1752480"/>
            <a:chOff x="5638680" y="2401920"/>
            <a:chExt cx="404640" cy="1752480"/>
          </a:xfrm>
        </p:grpSpPr>
        <p:sp>
          <p:nvSpPr>
            <p:cNvPr id="278" name=""/>
            <p:cNvSpPr/>
            <p:nvPr/>
          </p:nvSpPr>
          <p:spPr>
            <a:xfrm>
              <a:off x="5638680" y="2401920"/>
              <a:ext cx="13500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06000" y="2401920"/>
              <a:ext cx="13464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73680" y="2401920"/>
              <a:ext cx="13464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41000" y="2401920"/>
              <a:ext cx="13500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08680" y="2401920"/>
              <a:ext cx="13464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209680" y="1447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 in Logical On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666880"/>
            <a:ext cx="6858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2531160" y="312336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55840" y="31827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2362320"/>
            <a:ext cx="91440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4592520" y="412092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4513320" y="483048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0800000">
            <a:off x="3087360" y="3754080"/>
            <a:ext cx="9828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rot="16200000">
            <a:off x="2985840" y="46335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1764360" y="2286000"/>
            <a:ext cx="4407840" cy="2513880"/>
            <a:chOff x="1764360" y="2286000"/>
            <a:chExt cx="4407840" cy="2513880"/>
          </a:xfrm>
        </p:grpSpPr>
        <p:sp>
          <p:nvSpPr>
            <p:cNvPr id="293" name=""/>
            <p:cNvSpPr/>
            <p:nvPr/>
          </p:nvSpPr>
          <p:spPr>
            <a:xfrm>
              <a:off x="1764360" y="31032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"/>
                </a:rPr>
                <a:t>VCC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2438280" y="2286000"/>
              <a:ext cx="3733920" cy="2513880"/>
              <a:chOff x="2438280" y="2286000"/>
              <a:chExt cx="3733920" cy="2513880"/>
            </a:xfrm>
          </p:grpSpPr>
          <p:sp>
            <p:nvSpPr>
              <p:cNvPr id="295" name=""/>
              <p:cNvSpPr/>
              <p:nvPr/>
            </p:nvSpPr>
            <p:spPr>
              <a:xfrm>
                <a:off x="4419720" y="2286000"/>
                <a:ext cx="1752480" cy="1981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95680" y="2361960"/>
                <a:ext cx="160020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89120" y="2570040"/>
                <a:ext cx="1906560" cy="137124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66880" y="2666880"/>
                <a:ext cx="10670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33920" y="3147840"/>
                <a:ext cx="761760" cy="19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03640" y="310824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06880" y="313200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0800000">
                <a:off x="4103640" y="33526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0800000">
                <a:off x="4106880" y="3315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2438280" y="3187440"/>
                <a:ext cx="228600" cy="151560"/>
                <a:chOff x="2438280" y="3187440"/>
                <a:chExt cx="228600" cy="1515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438280" y="3187440"/>
                  <a:ext cx="228600" cy="15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438280" y="3187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438280" y="333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062520" y="3809880"/>
                <a:ext cx="152280" cy="228240"/>
                <a:chOff x="3062520" y="3809880"/>
                <a:chExt cx="152280" cy="228240"/>
              </a:xfrm>
            </p:grpSpPr>
            <p:sp>
              <p:nvSpPr>
                <p:cNvPr id="309" name=""/>
                <p:cNvSpPr/>
                <p:nvPr/>
              </p:nvSpPr>
              <p:spPr>
                <a:xfrm rot="5400000">
                  <a:off x="3024360" y="3847680"/>
                  <a:ext cx="2282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21480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0625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505320" y="3809880"/>
                <a:ext cx="151920" cy="228240"/>
                <a:chOff x="3505320" y="3809880"/>
                <a:chExt cx="151920" cy="228240"/>
              </a:xfrm>
            </p:grpSpPr>
            <p:sp>
              <p:nvSpPr>
                <p:cNvPr id="313" name=""/>
                <p:cNvSpPr/>
                <p:nvPr/>
              </p:nvSpPr>
              <p:spPr>
                <a:xfrm rot="5400000">
                  <a:off x="3467160" y="384804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65724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5053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572000" y="4190760"/>
                <a:ext cx="151920" cy="228240"/>
                <a:chOff x="4572000" y="4190760"/>
                <a:chExt cx="151920" cy="228240"/>
              </a:xfrm>
            </p:grpSpPr>
            <p:sp>
              <p:nvSpPr>
                <p:cNvPr id="317" name=""/>
                <p:cNvSpPr/>
                <p:nvPr/>
              </p:nvSpPr>
              <p:spPr>
                <a:xfrm rot="5400000">
                  <a:off x="4533840" y="422892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72392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57200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 rot="16200000">
                <a:off x="4492080" y="446688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2868120" y="41382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6200000">
                <a:off x="3294720" y="41454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2900520" y="2341440"/>
            <a:ext cx="2222280" cy="1841400"/>
            <a:chOff x="2900520" y="2341440"/>
            <a:chExt cx="2222280" cy="1841400"/>
          </a:xfrm>
        </p:grpSpPr>
        <p:sp>
          <p:nvSpPr>
            <p:cNvPr id="324" name=""/>
            <p:cNvSpPr/>
            <p:nvPr/>
          </p:nvSpPr>
          <p:spPr>
            <a:xfrm>
              <a:off x="3052800" y="32115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0520" y="271440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40120" y="26892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6880" y="37209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70520" y="237492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10120" y="23493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06880" y="40910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6880" y="267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40120" y="373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10120" y="4106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10120" y="2341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181480" y="2401920"/>
            <a:ext cx="861480" cy="1752480"/>
            <a:chOff x="5181480" y="2401920"/>
            <a:chExt cx="861480" cy="1752480"/>
          </a:xfrm>
        </p:grpSpPr>
        <p:sp>
          <p:nvSpPr>
            <p:cNvPr id="336" name=""/>
            <p:cNvSpPr/>
            <p:nvPr/>
          </p:nvSpPr>
          <p:spPr>
            <a:xfrm>
              <a:off x="5181480" y="2401920"/>
              <a:ext cx="28764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25120" y="2401920"/>
              <a:ext cx="28692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69120" y="2401920"/>
              <a:ext cx="28692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12400" y="2401920"/>
              <a:ext cx="28764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56040" y="2401920"/>
              <a:ext cx="28692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371600" y="1447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 returning to Logical Zero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2666880"/>
            <a:ext cx="228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2531160" y="312336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00720" y="2362320"/>
            <a:ext cx="45216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4592520" y="412092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2986200" y="46036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rot="16200000">
            <a:off x="4509000" y="4822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rot="16200000">
            <a:off x="3427200" y="4601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0800000">
            <a:off x="3520800" y="3733560"/>
            <a:ext cx="9828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0800000">
            <a:off x="3085920" y="3735000"/>
            <a:ext cx="9828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0800000">
            <a:off x="3047760" y="3505320"/>
            <a:ext cx="6858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459800" y="31813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 rot="5400000">
            <a:off x="6244560" y="178632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CC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5676480" y="4149720"/>
            <a:ext cx="1752480" cy="198108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5752800" y="422568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5400000">
            <a:off x="5620680" y="270108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5400000">
            <a:off x="6057360" y="24732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5400000">
            <a:off x="6201000" y="3859200"/>
            <a:ext cx="76176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6645240" y="39481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621480" y="3951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6400800" y="39481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6437160" y="39506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489720" y="2282760"/>
            <a:ext cx="151920" cy="228600"/>
            <a:chOff x="6489720" y="2282760"/>
            <a:chExt cx="151920" cy="228600"/>
          </a:xfrm>
        </p:grpSpPr>
        <p:sp>
          <p:nvSpPr>
            <p:cNvPr id="364" name=""/>
            <p:cNvSpPr/>
            <p:nvPr/>
          </p:nvSpPr>
          <p:spPr>
            <a:xfrm rot="5400000">
              <a:off x="6451200" y="232092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41640" y="2282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89720" y="2282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790960" y="2907000"/>
            <a:ext cx="228600" cy="152280"/>
            <a:chOff x="5790960" y="2907000"/>
            <a:chExt cx="228600" cy="152280"/>
          </a:xfrm>
        </p:grpSpPr>
        <p:sp>
          <p:nvSpPr>
            <p:cNvPr id="368" name=""/>
            <p:cNvSpPr/>
            <p:nvPr/>
          </p:nvSpPr>
          <p:spPr>
            <a:xfrm rot="10800000">
              <a:off x="5790960" y="290700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790960" y="3059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790960" y="2907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790960" y="3349800"/>
            <a:ext cx="228600" cy="151920"/>
            <a:chOff x="5790960" y="3349800"/>
            <a:chExt cx="228600" cy="151920"/>
          </a:xfrm>
        </p:grpSpPr>
        <p:sp>
          <p:nvSpPr>
            <p:cNvPr id="372" name=""/>
            <p:cNvSpPr/>
            <p:nvPr/>
          </p:nvSpPr>
          <p:spPr>
            <a:xfrm rot="10800000">
              <a:off x="5790960" y="334980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790960" y="3501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790960" y="3349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09720" y="4416480"/>
            <a:ext cx="228600" cy="151920"/>
            <a:chOff x="5409720" y="4416480"/>
            <a:chExt cx="228600" cy="151920"/>
          </a:xfrm>
        </p:grpSpPr>
        <p:sp>
          <p:nvSpPr>
            <p:cNvPr id="376" name=""/>
            <p:cNvSpPr/>
            <p:nvPr/>
          </p:nvSpPr>
          <p:spPr>
            <a:xfrm rot="10800000">
              <a:off x="5409720" y="441648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409720" y="4568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409720" y="4416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29200" y="43624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5550480" y="4328280"/>
            <a:ext cx="2057400" cy="77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6507000" y="2728800"/>
            <a:ext cx="1526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7065720" y="322596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6033960" y="322236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5400000">
            <a:off x="6482160" y="4436280"/>
            <a:ext cx="152280" cy="179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5400000">
            <a:off x="7405560" y="529596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5664240" y="5292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076880" y="3222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6022800" y="3225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5647680" y="52959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5400000">
            <a:off x="7413480" y="5295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5400000">
            <a:off x="6485400" y="4675680"/>
            <a:ext cx="134640" cy="1752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5400000">
            <a:off x="6485400" y="474408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6487200" y="4812480"/>
            <a:ext cx="13500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6485400" y="487908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6485400" y="494568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400000">
            <a:off x="6251040" y="2286000"/>
            <a:ext cx="6858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0800000">
            <a:off x="6518160" y="228564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6420960" y="13795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6107040" y="3894120"/>
            <a:ext cx="91440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5518800" y="4346640"/>
            <a:ext cx="9828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73600" y="443700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5159160" y="2155680"/>
            <a:ext cx="146160" cy="1625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400000">
            <a:off x="2447640" y="4141440"/>
            <a:ext cx="1752840" cy="198144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2523960" y="421776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5400000">
            <a:off x="2391480" y="269316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2828520" y="2465280"/>
            <a:ext cx="1066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5400000">
            <a:off x="2971440" y="3851280"/>
            <a:ext cx="76212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3415680" y="394020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3392280" y="394344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3171600" y="394020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3208320" y="39427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3222360" y="23130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27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59080" y="227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0800000">
            <a:off x="2561760" y="289836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560320" y="304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60320" y="2897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0800000">
            <a:off x="2561760" y="334152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560320" y="349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60320" y="3340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2180880" y="44082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179440" y="4559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2179440" y="44067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3024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420640" y="2630520"/>
            <a:ext cx="1841400" cy="2222280"/>
            <a:chOff x="2420640" y="2630520"/>
            <a:chExt cx="1841400" cy="2222280"/>
          </a:xfrm>
        </p:grpSpPr>
        <p:sp>
          <p:nvSpPr>
            <p:cNvPr id="426" name=""/>
            <p:cNvSpPr/>
            <p:nvPr/>
          </p:nvSpPr>
          <p:spPr>
            <a:xfrm rot="5400000">
              <a:off x="2324160" y="377244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3279240" y="217296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5400000">
              <a:off x="3837960" y="267012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400000">
              <a:off x="2806200" y="266688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5400000">
              <a:off x="3256200" y="388044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177800" y="474012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5400000">
              <a:off x="2436120" y="473688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5400000">
              <a:off x="3849120" y="2666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5400000">
              <a:off x="2795040" y="2670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2420280" y="47401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5400000">
              <a:off x="4185720" y="4740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449080" y="4892760"/>
            <a:ext cx="1752840" cy="989280"/>
            <a:chOff x="2449080" y="4892760"/>
            <a:chExt cx="1752840" cy="989280"/>
          </a:xfrm>
        </p:grpSpPr>
        <p:sp>
          <p:nvSpPr>
            <p:cNvPr id="438" name=""/>
            <p:cNvSpPr/>
            <p:nvPr/>
          </p:nvSpPr>
          <p:spPr>
            <a:xfrm rot="5400000">
              <a:off x="3160080" y="4181400"/>
              <a:ext cx="330480" cy="1752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3160800" y="4346280"/>
              <a:ext cx="32940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5400000">
              <a:off x="3160800" y="4511520"/>
              <a:ext cx="32940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3160080" y="4676040"/>
              <a:ext cx="33048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3160800" y="4840920"/>
              <a:ext cx="32940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rot="5400000">
            <a:off x="3322080" y="1977840"/>
            <a:ext cx="8568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0800000">
            <a:off x="3289320" y="1828440"/>
            <a:ext cx="139680" cy="7333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71600" y="5335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0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-gate built with two W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this case, 1 + 0 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4419360" y="1828440"/>
            <a:ext cx="15228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3837960" y="1265760"/>
            <a:ext cx="153720" cy="1276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2880" y="28195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 rot="5400000">
            <a:off x="6244560" y="239904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CC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5400000">
            <a:off x="5676480" y="4762440"/>
            <a:ext cx="1752480" cy="198108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5400000">
            <a:off x="5752800" y="483840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5400000">
            <a:off x="5620680" y="331380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6057360" y="3085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6201000" y="4471920"/>
            <a:ext cx="76176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6645240" y="4560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6621480" y="456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6400800" y="4560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6437160" y="456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489720" y="2895480"/>
            <a:ext cx="151920" cy="228600"/>
            <a:chOff x="6489720" y="2895480"/>
            <a:chExt cx="151920" cy="228600"/>
          </a:xfrm>
        </p:grpSpPr>
        <p:sp>
          <p:nvSpPr>
            <p:cNvPr id="460" name=""/>
            <p:cNvSpPr/>
            <p:nvPr/>
          </p:nvSpPr>
          <p:spPr>
            <a:xfrm rot="5400000">
              <a:off x="6451200" y="293364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41640" y="2895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89720" y="2895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790960" y="3519720"/>
            <a:ext cx="228600" cy="152280"/>
            <a:chOff x="5790960" y="3519720"/>
            <a:chExt cx="228600" cy="152280"/>
          </a:xfrm>
        </p:grpSpPr>
        <p:sp>
          <p:nvSpPr>
            <p:cNvPr id="464" name=""/>
            <p:cNvSpPr/>
            <p:nvPr/>
          </p:nvSpPr>
          <p:spPr>
            <a:xfrm rot="10800000">
              <a:off x="5790960" y="35197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790960" y="367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790960" y="3519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790960" y="3962520"/>
            <a:ext cx="228600" cy="151920"/>
            <a:chOff x="5790960" y="3962520"/>
            <a:chExt cx="228600" cy="151920"/>
          </a:xfrm>
        </p:grpSpPr>
        <p:sp>
          <p:nvSpPr>
            <p:cNvPr id="468" name=""/>
            <p:cNvSpPr/>
            <p:nvPr/>
          </p:nvSpPr>
          <p:spPr>
            <a:xfrm rot="10800000">
              <a:off x="5790960" y="396252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790960" y="4114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790960" y="3962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409720" y="5029200"/>
            <a:ext cx="228600" cy="151920"/>
            <a:chOff x="5409720" y="5029200"/>
            <a:chExt cx="228600" cy="151920"/>
          </a:xfrm>
        </p:grpSpPr>
        <p:sp>
          <p:nvSpPr>
            <p:cNvPr id="472" name=""/>
            <p:cNvSpPr/>
            <p:nvPr/>
          </p:nvSpPr>
          <p:spPr>
            <a:xfrm rot="10800000">
              <a:off x="5409720" y="502920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409720" y="51811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409720" y="5029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029200" y="49752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5400000">
            <a:off x="5550480" y="4941000"/>
            <a:ext cx="2057400" cy="77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5400000">
            <a:off x="6507000" y="3341520"/>
            <a:ext cx="1526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7065720" y="383868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5400000">
            <a:off x="6033960" y="38354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6482160" y="5049000"/>
            <a:ext cx="152280" cy="179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405560" y="5908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5664240" y="59054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076520" y="383544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5400000">
            <a:off x="6022800" y="38383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5647680" y="5908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5400000">
            <a:off x="7413480" y="5908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5400000">
            <a:off x="6485400" y="5288760"/>
            <a:ext cx="135000" cy="1752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5400000">
            <a:off x="6485400" y="53568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5400000">
            <a:off x="6487200" y="5425200"/>
            <a:ext cx="13500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5400000">
            <a:off x="6485400" y="54918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5400000">
            <a:off x="6485400" y="55584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5400000">
            <a:off x="6251040" y="2898720"/>
            <a:ext cx="6858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0800000">
            <a:off x="6518160" y="289836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5400000">
            <a:off x="6420960" y="19922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6107040" y="4506840"/>
            <a:ext cx="91440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5518800" y="496008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773600" y="504972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5541840" y="3150720"/>
            <a:ext cx="114120" cy="8920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3015360" y="239112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CC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2448000" y="4754520"/>
            <a:ext cx="1752480" cy="198144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2523960" y="483048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2391480" y="330588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2828160" y="30780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2971440" y="4464000"/>
            <a:ext cx="76176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3415680" y="4552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3391920" y="4556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3171600" y="4552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3208320" y="45561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400000">
            <a:off x="3222360" y="29257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11360" y="288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59080" y="288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0800000">
            <a:off x="2561760" y="351144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560320" y="3662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560320" y="3510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0800000">
            <a:off x="2561760" y="395424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560320" y="41054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560320" y="3952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0800000">
            <a:off x="2180880" y="50209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179440" y="5172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2179440" y="5019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00000" y="496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38400" y="10666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420640" y="3243240"/>
            <a:ext cx="1841400" cy="2222280"/>
            <a:chOff x="2420640" y="3243240"/>
            <a:chExt cx="1841400" cy="2222280"/>
          </a:xfrm>
        </p:grpSpPr>
        <p:sp>
          <p:nvSpPr>
            <p:cNvPr id="524" name=""/>
            <p:cNvSpPr/>
            <p:nvPr/>
          </p:nvSpPr>
          <p:spPr>
            <a:xfrm rot="5400000">
              <a:off x="2324160" y="43851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5400000">
              <a:off x="3279240" y="278568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5400000">
              <a:off x="3837960" y="32828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5400000">
              <a:off x="2806200" y="327960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5400000">
              <a:off x="3256200" y="449316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5400000">
              <a:off x="4177800" y="535284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5400000">
              <a:off x="2436120" y="53496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5400000">
              <a:off x="3849120" y="3279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2795040" y="32828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2420280" y="5352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4185720" y="53528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449080" y="5505480"/>
            <a:ext cx="1752840" cy="990000"/>
            <a:chOff x="2449080" y="5505480"/>
            <a:chExt cx="1752840" cy="990000"/>
          </a:xfrm>
        </p:grpSpPr>
        <p:sp>
          <p:nvSpPr>
            <p:cNvPr id="536" name=""/>
            <p:cNvSpPr/>
            <p:nvPr/>
          </p:nvSpPr>
          <p:spPr>
            <a:xfrm rot="5400000">
              <a:off x="3160080" y="4794120"/>
              <a:ext cx="330480" cy="1752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3160440" y="495900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5400000">
              <a:off x="3160440" y="512424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5400000">
              <a:off x="3160080" y="5289120"/>
              <a:ext cx="33048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5400000">
              <a:off x="3160440" y="545400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 rot="5400000">
            <a:off x="3322080" y="2590560"/>
            <a:ext cx="8568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3288960" y="2890440"/>
            <a:ext cx="9828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3192120" y="19843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832040" y="3662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832040" y="1376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831680" y="1376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6200000">
            <a:off x="4402800" y="654480"/>
            <a:ext cx="123840" cy="1614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49800" y="1465200"/>
            <a:ext cx="119160" cy="212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3720960" y="11664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84320" y="1528920"/>
            <a:ext cx="3886200" cy="2133360"/>
          </a:xfrm>
          <a:custGeom>
            <a:avLst/>
            <a:gdLst/>
            <a:ahLst/>
            <a:rect l="l" t="t" r="r" b="b"/>
            <a:pathLst>
              <a:path w="2448" h="1344">
                <a:moveTo>
                  <a:pt x="384" y="1248"/>
                </a:moveTo>
                <a:lnTo>
                  <a:pt x="0" y="1248"/>
                </a:lnTo>
                <a:lnTo>
                  <a:pt x="0" y="0"/>
                </a:lnTo>
                <a:lnTo>
                  <a:pt x="1968" y="0"/>
                </a:lnTo>
                <a:lnTo>
                  <a:pt x="1968" y="1344"/>
                </a:lnTo>
                <a:lnTo>
                  <a:pt x="2448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5400" y="1376280"/>
            <a:ext cx="1905120" cy="2133720"/>
          </a:xfrm>
          <a:custGeom>
            <a:avLst/>
            <a:gdLst/>
            <a:ahLst/>
            <a:rect l="l" t="t" r="r" b="b"/>
            <a:pathLst>
              <a:path w="1200" h="1344">
                <a:moveTo>
                  <a:pt x="1200" y="1344"/>
                </a:moveTo>
                <a:lnTo>
                  <a:pt x="864" y="1344"/>
                </a:lnTo>
                <a:lnTo>
                  <a:pt x="86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9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OR-gate built with two W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this case, 1 + 0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 rot="5400000">
            <a:off x="6244560" y="239904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CC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5676480" y="4762440"/>
            <a:ext cx="1752480" cy="198108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5752800" y="483840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5400000">
            <a:off x="5620680" y="331380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6057360" y="3085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5400000">
            <a:off x="6201000" y="4471920"/>
            <a:ext cx="76176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5400000">
            <a:off x="6645240" y="4560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6621480" y="456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6400800" y="4560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6437160" y="456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489720" y="2895480"/>
            <a:ext cx="151920" cy="228600"/>
            <a:chOff x="6489720" y="2895480"/>
            <a:chExt cx="151920" cy="228600"/>
          </a:xfrm>
        </p:grpSpPr>
        <p:sp>
          <p:nvSpPr>
            <p:cNvPr id="564" name=""/>
            <p:cNvSpPr/>
            <p:nvPr/>
          </p:nvSpPr>
          <p:spPr>
            <a:xfrm rot="5400000">
              <a:off x="6451200" y="293364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41640" y="2895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89720" y="2895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790960" y="3519720"/>
            <a:ext cx="228600" cy="152280"/>
            <a:chOff x="5790960" y="3519720"/>
            <a:chExt cx="228600" cy="152280"/>
          </a:xfrm>
        </p:grpSpPr>
        <p:sp>
          <p:nvSpPr>
            <p:cNvPr id="568" name=""/>
            <p:cNvSpPr/>
            <p:nvPr/>
          </p:nvSpPr>
          <p:spPr>
            <a:xfrm rot="10800000">
              <a:off x="5790960" y="35197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790960" y="367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790960" y="3519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790960" y="3962520"/>
            <a:ext cx="228600" cy="151920"/>
            <a:chOff x="5790960" y="3962520"/>
            <a:chExt cx="228600" cy="151920"/>
          </a:xfrm>
        </p:grpSpPr>
        <p:sp>
          <p:nvSpPr>
            <p:cNvPr id="572" name=""/>
            <p:cNvSpPr/>
            <p:nvPr/>
          </p:nvSpPr>
          <p:spPr>
            <a:xfrm rot="10800000">
              <a:off x="5790960" y="396252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790960" y="4114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790960" y="3962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409720" y="5029200"/>
            <a:ext cx="228600" cy="151920"/>
            <a:chOff x="5409720" y="5029200"/>
            <a:chExt cx="228600" cy="151920"/>
          </a:xfrm>
        </p:grpSpPr>
        <p:sp>
          <p:nvSpPr>
            <p:cNvPr id="576" name=""/>
            <p:cNvSpPr/>
            <p:nvPr/>
          </p:nvSpPr>
          <p:spPr>
            <a:xfrm rot="10800000">
              <a:off x="5409720" y="502920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409720" y="51811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409720" y="5029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5029200" y="49752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5550480" y="4941000"/>
            <a:ext cx="2057400" cy="77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5400000">
            <a:off x="6507000" y="3341520"/>
            <a:ext cx="1526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5400000">
            <a:off x="7065720" y="383868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6033960" y="38354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6482160" y="5049000"/>
            <a:ext cx="152280" cy="179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5400000">
            <a:off x="7405560" y="5908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5400000">
            <a:off x="5664240" y="59054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5400000">
            <a:off x="7076520" y="383544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5400000">
            <a:off x="6022800" y="38383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5400000">
            <a:off x="5647680" y="5908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5400000">
            <a:off x="7413480" y="5908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5400000">
            <a:off x="6485400" y="5288760"/>
            <a:ext cx="135000" cy="1752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5400000">
            <a:off x="6485400" y="53568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5400000">
            <a:off x="6487200" y="5425200"/>
            <a:ext cx="13500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5400000">
            <a:off x="6485400" y="54918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5400000">
            <a:off x="6485400" y="55584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6251040" y="2898720"/>
            <a:ext cx="6858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6518160" y="289836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6420960" y="19922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5400000">
            <a:off x="6107040" y="4506840"/>
            <a:ext cx="91440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5518800" y="496008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73600" y="504972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16200000">
            <a:off x="5541840" y="3150720"/>
            <a:ext cx="114120" cy="8920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3015360" y="239112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CC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5400000">
            <a:off x="2448000" y="4754520"/>
            <a:ext cx="1752480" cy="198144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2523960" y="483048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5400000">
            <a:off x="2391480" y="330588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2828160" y="30780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2971440" y="4464000"/>
            <a:ext cx="76176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3415680" y="4552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3391920" y="4556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3171600" y="4552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208320" y="45561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3222360" y="29257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1360" y="288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59080" y="288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561760" y="351144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2560320" y="3662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560320" y="3510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00000">
            <a:off x="2561760" y="395424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560320" y="41054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560320" y="3952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10800000">
            <a:off x="2180880" y="50209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2179440" y="5172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2179440" y="5019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00000" y="496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38400" y="10666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420640" y="3243240"/>
            <a:ext cx="1841400" cy="2222280"/>
            <a:chOff x="2420640" y="3243240"/>
            <a:chExt cx="1841400" cy="2222280"/>
          </a:xfrm>
        </p:grpSpPr>
        <p:sp>
          <p:nvSpPr>
            <p:cNvPr id="628" name=""/>
            <p:cNvSpPr/>
            <p:nvPr/>
          </p:nvSpPr>
          <p:spPr>
            <a:xfrm rot="5400000">
              <a:off x="2324160" y="43851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5400000">
              <a:off x="3279240" y="278568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3837960" y="32828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5400000">
              <a:off x="2806200" y="327960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5400000">
              <a:off x="3256200" y="449316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5400000">
              <a:off x="4177800" y="535284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5400000">
              <a:off x="2436120" y="53496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5400000">
              <a:off x="3849120" y="3279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5400000">
              <a:off x="2795040" y="32828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5400000">
              <a:off x="2420280" y="5352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4185720" y="53528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449080" y="5505480"/>
            <a:ext cx="1752840" cy="990000"/>
            <a:chOff x="2449080" y="5505480"/>
            <a:chExt cx="1752840" cy="990000"/>
          </a:xfrm>
        </p:grpSpPr>
        <p:sp>
          <p:nvSpPr>
            <p:cNvPr id="640" name=""/>
            <p:cNvSpPr/>
            <p:nvPr/>
          </p:nvSpPr>
          <p:spPr>
            <a:xfrm rot="5400000">
              <a:off x="3160080" y="4794120"/>
              <a:ext cx="330480" cy="1752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3160440" y="495900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5400000">
              <a:off x="3160440" y="512424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5400000">
              <a:off x="3160080" y="5289120"/>
              <a:ext cx="33048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5400000">
              <a:off x="3160440" y="545400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 rot="5400000">
            <a:off x="3322080" y="2590560"/>
            <a:ext cx="8568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0800000">
            <a:off x="3288960" y="2890440"/>
            <a:ext cx="9828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5400000">
            <a:off x="3192120" y="19843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832040" y="3662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32040" y="1376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831680" y="1376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6200000">
            <a:off x="4402800" y="654480"/>
            <a:ext cx="123840" cy="1614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49800" y="1465200"/>
            <a:ext cx="119160" cy="212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16200000">
            <a:off x="3720960" y="11664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84320" y="1528920"/>
            <a:ext cx="3886200" cy="2133360"/>
          </a:xfrm>
          <a:custGeom>
            <a:avLst/>
            <a:gdLst/>
            <a:ahLst/>
            <a:rect l="l" t="t" r="r" b="b"/>
            <a:pathLst>
              <a:path w="2448" h="1344">
                <a:moveTo>
                  <a:pt x="384" y="1248"/>
                </a:moveTo>
                <a:lnTo>
                  <a:pt x="0" y="1248"/>
                </a:lnTo>
                <a:lnTo>
                  <a:pt x="0" y="0"/>
                </a:lnTo>
                <a:lnTo>
                  <a:pt x="1968" y="0"/>
                </a:lnTo>
                <a:lnTo>
                  <a:pt x="1968" y="1344"/>
                </a:lnTo>
                <a:lnTo>
                  <a:pt x="2448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65400" y="1376280"/>
            <a:ext cx="1905120" cy="2133720"/>
          </a:xfrm>
          <a:custGeom>
            <a:avLst/>
            <a:gdLst/>
            <a:ahLst/>
            <a:rect l="l" t="t" r="r" b="b"/>
            <a:pathLst>
              <a:path w="1200" h="1344">
                <a:moveTo>
                  <a:pt x="1200" y="1344"/>
                </a:moveTo>
                <a:lnTo>
                  <a:pt x="864" y="1344"/>
                </a:lnTo>
                <a:lnTo>
                  <a:pt x="86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228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way va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00400" y="106668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95680" y="106668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9" name=""/>
          <p:cNvCxnSpPr>
            <a:stCxn id="656" idx="2"/>
            <a:endCxn id="657" idx="0"/>
          </p:cNvCxnSpPr>
          <p:nvPr/>
        </p:nvCxnSpPr>
        <p:spPr>
          <a:xfrm flipH="1" rot="16200000">
            <a:off x="2769120" y="598320"/>
            <a:ext cx="99360" cy="762840"/>
          </a:xfrm>
          <a:prstGeom prst="curvedConnector5">
            <a:avLst>
              <a:gd name="adj1" fmla="val 69090"/>
              <a:gd name="adj2" fmla="val 50000"/>
              <a:gd name="adj3" fmla="val 690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6" idx="3"/>
            <a:endCxn id="658" idx="0"/>
          </p:cNvCxnSpPr>
          <p:nvPr/>
        </p:nvCxnSpPr>
        <p:spPr>
          <a:xfrm>
            <a:off x="2971440" y="579600"/>
            <a:ext cx="1524600" cy="450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 rot="5400000">
            <a:off x="2724120" y="1162080"/>
            <a:ext cx="419040" cy="533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rot="16200000">
            <a:off x="4552920" y="1162080"/>
            <a:ext cx="419040" cy="533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7:40:42Z</dcterms:created>
  <dc:creator>Stefan Jetchick</dc:creator>
  <dc:description/>
  <dc:language>en-US</dc:language>
  <cp:lastModifiedBy>sjj</cp:lastModifiedBy>
  <dcterms:modified xsi:type="dcterms:W3CDTF">2019-01-09T16:15:05Z</dcterms:modified>
  <cp:revision>40</cp:revision>
  <dc:subject/>
  <dc:title>PowerPoint Presentation</dc:title>
</cp:coreProperties>
</file>