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F6D-7F9B-478F-A8B6-3CDFFA9F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11D-F351-4729-8B3A-0DF5B864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FC8-EFAB-42FE-92FE-BAC3F4FD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8CF-A924-4F4D-839F-4BF19898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135-B98E-4E8F-8746-3D2D3B0E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310-F9AC-430F-886A-A05039A6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A90-2826-45B4-9C4F-B574F31E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693-2402-4654-9C2D-6211D094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0CA-BB36-4F3A-947F-67CD731F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3EE-90CA-44F8-A61B-A75950D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472-1295-45F1-8901-C0F861D5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F51-7272-4BB0-B4D9-8D0F4EC6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74D2-CF43-42F8-90E4-7DD81BFC7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72548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4960" y="1832040"/>
            <a:ext cx="52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Invitation: Débat électroniq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6760" y="4089240"/>
            <a:ext cx="51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Le premier qui invoque une croyance religieuse, per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45194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ww.inquisition.ca/jo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62800" y="29764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200" spc="-1" strike="noStrike">
                <a:solidFill>
                  <a:srgbClr val="000000"/>
                </a:solidFill>
                <a:latin typeface="Arial"/>
              </a:rPr>
              <a:t>PENS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200" spc="-1" strike="noStrike">
                <a:solidFill>
                  <a:srgbClr val="000000"/>
                </a:solidFill>
                <a:latin typeface="Arial"/>
              </a:rPr>
              <a:t>CRI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30280" y="2506680"/>
            <a:ext cx="31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'Islam est-il un mensong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13320" y="284472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'avortement est-il un meurt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38200" y="321804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a sodomie est-elle contre Natu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8680" y="3592440"/>
            <a:ext cx="31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'athéisme empoisonne-t-il tou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4400" y="2482920"/>
            <a:ext cx="7238880" cy="1452600"/>
            <a:chOff x="914400" y="2482920"/>
            <a:chExt cx="7238880" cy="1452600"/>
          </a:xfrm>
        </p:grpSpPr>
        <p:sp>
          <p:nvSpPr>
            <p:cNvPr id="51" name=""/>
            <p:cNvSpPr/>
            <p:nvPr/>
          </p:nvSpPr>
          <p:spPr>
            <a:xfrm>
              <a:off x="914400" y="2487600"/>
              <a:ext cx="76320" cy="1447920"/>
            </a:xfrm>
            <a:custGeom>
              <a:avLst/>
              <a:gdLst/>
              <a:ahLst/>
              <a:rect l="l" t="t" r="r" b="b"/>
              <a:pathLst>
                <a:path w="48" h="912">
                  <a:moveTo>
                    <a:pt x="0" y="816"/>
                  </a:moveTo>
                  <a:lnTo>
                    <a:pt x="0" y="96"/>
                  </a:lnTo>
                  <a:lnTo>
                    <a:pt x="48" y="0"/>
                  </a:lnTo>
                  <a:lnTo>
                    <a:pt x="48" y="912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90720" y="2487600"/>
              <a:ext cx="1522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43000" y="2640240"/>
              <a:ext cx="15228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95280" y="2487600"/>
              <a:ext cx="152640" cy="1447920"/>
            </a:xfrm>
            <a:custGeom>
              <a:avLst/>
              <a:gdLst/>
              <a:ahLst/>
              <a:rect l="l" t="t" r="r" b="b"/>
              <a:pathLst>
                <a:path w="96" h="912">
                  <a:moveTo>
                    <a:pt x="0" y="816"/>
                  </a:moveTo>
                  <a:lnTo>
                    <a:pt x="96" y="912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2487600"/>
              <a:ext cx="33526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4419360" y="2863800"/>
              <a:ext cx="1447920" cy="685800"/>
            </a:xfrm>
            <a:custGeom>
              <a:avLst/>
              <a:gdLst>
                <a:gd name="textAreaLeft" fmla="*/ 292680 w 1447920"/>
                <a:gd name="textAreaRight" fmla="*/ 1155240 w 1447920"/>
                <a:gd name="textAreaTop" fmla="*/ 138600 h 685800"/>
                <a:gd name="textAreaBottom" fmla="*/ 547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887" y="21600"/>
                  </a:lnTo>
                  <a:lnTo>
                    <a:pt x="4713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86400" y="2797200"/>
              <a:ext cx="990720" cy="814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77120" y="2826000"/>
              <a:ext cx="1676160" cy="380880"/>
            </a:xfrm>
            <a:custGeom>
              <a:avLst/>
              <a:gdLst/>
              <a:ahLst/>
              <a:rect l="l" t="t" r="r" b="b"/>
              <a:pathLst>
                <a:path w="1056" h="240">
                  <a:moveTo>
                    <a:pt x="0" y="0"/>
                  </a:moveTo>
                  <a:cubicBezTo>
                    <a:pt x="248" y="4"/>
                    <a:pt x="496" y="8"/>
                    <a:pt x="672" y="48"/>
                  </a:cubicBezTo>
                  <a:cubicBezTo>
                    <a:pt x="848" y="88"/>
                    <a:pt x="952" y="164"/>
                    <a:pt x="1056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477120" y="3191760"/>
              <a:ext cx="1676160" cy="381240"/>
            </a:xfrm>
            <a:custGeom>
              <a:avLst/>
              <a:gdLst/>
              <a:ahLst/>
              <a:rect l="l" t="t" r="r" b="b"/>
              <a:pathLst>
                <a:path w="1056" h="240">
                  <a:moveTo>
                    <a:pt x="0" y="0"/>
                  </a:moveTo>
                  <a:cubicBezTo>
                    <a:pt x="248" y="4"/>
                    <a:pt x="496" y="8"/>
                    <a:pt x="672" y="48"/>
                  </a:cubicBezTo>
                  <a:cubicBezTo>
                    <a:pt x="848" y="88"/>
                    <a:pt x="952" y="164"/>
                    <a:pt x="1056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60020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75680" y="170640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Invitation: Electronic Deb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93200" y="3963960"/>
            <a:ext cx="44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first one to invoke a religious belief</a:t>
            </a: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loses</a:t>
            </a: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43941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ww.inquisition.ca/jo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62800" y="2851200"/>
            <a:ext cx="91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200" spc="-1" strike="noStrike">
                <a:solidFill>
                  <a:srgbClr val="000000"/>
                </a:solidFill>
                <a:latin typeface="Arial"/>
              </a:rPr>
              <a:t>CRI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2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19200" y="2381400"/>
            <a:ext cx="18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Is Islam a li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73280" y="27115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Is abortion murd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11280" y="3073320"/>
            <a:ext cx="28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Is sodomy against Natu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346716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Does Atheism poison everyth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14400" y="2357280"/>
            <a:ext cx="7238880" cy="1452600"/>
            <a:chOff x="914400" y="2357280"/>
            <a:chExt cx="7238880" cy="1452600"/>
          </a:xfrm>
        </p:grpSpPr>
        <p:sp>
          <p:nvSpPr>
            <p:cNvPr id="70" name=""/>
            <p:cNvSpPr/>
            <p:nvPr/>
          </p:nvSpPr>
          <p:spPr>
            <a:xfrm>
              <a:off x="914400" y="2361960"/>
              <a:ext cx="76320" cy="1447920"/>
            </a:xfrm>
            <a:custGeom>
              <a:avLst/>
              <a:gdLst/>
              <a:ahLst/>
              <a:rect l="l" t="t" r="r" b="b"/>
              <a:pathLst>
                <a:path w="48" h="912">
                  <a:moveTo>
                    <a:pt x="0" y="816"/>
                  </a:moveTo>
                  <a:lnTo>
                    <a:pt x="0" y="96"/>
                  </a:lnTo>
                  <a:lnTo>
                    <a:pt x="48" y="0"/>
                  </a:lnTo>
                  <a:lnTo>
                    <a:pt x="48" y="912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90720" y="2361960"/>
              <a:ext cx="1522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43000" y="2514600"/>
              <a:ext cx="15228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95280" y="2361960"/>
              <a:ext cx="152640" cy="1447920"/>
            </a:xfrm>
            <a:custGeom>
              <a:avLst/>
              <a:gdLst/>
              <a:ahLst/>
              <a:rect l="l" t="t" r="r" b="b"/>
              <a:pathLst>
                <a:path w="96" h="912">
                  <a:moveTo>
                    <a:pt x="0" y="816"/>
                  </a:moveTo>
                  <a:lnTo>
                    <a:pt x="96" y="912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47920" y="2361960"/>
              <a:ext cx="33526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19360" y="2738160"/>
              <a:ext cx="1447920" cy="685800"/>
            </a:xfrm>
            <a:custGeom>
              <a:avLst/>
              <a:gdLst>
                <a:gd name="textAreaLeft" fmla="*/ 292680 w 1447920"/>
                <a:gd name="textAreaRight" fmla="*/ 1155240 w 1447920"/>
                <a:gd name="textAreaTop" fmla="*/ 138600 h 685800"/>
                <a:gd name="textAreaBottom" fmla="*/ 547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887" y="21600"/>
                  </a:lnTo>
                  <a:lnTo>
                    <a:pt x="4713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86400" y="2671560"/>
              <a:ext cx="990720" cy="814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77120" y="2700360"/>
              <a:ext cx="1676160" cy="380880"/>
            </a:xfrm>
            <a:custGeom>
              <a:avLst/>
              <a:gdLst/>
              <a:ahLst/>
              <a:rect l="l" t="t" r="r" b="b"/>
              <a:pathLst>
                <a:path w="1056" h="240">
                  <a:moveTo>
                    <a:pt x="0" y="0"/>
                  </a:moveTo>
                  <a:cubicBezTo>
                    <a:pt x="248" y="4"/>
                    <a:pt x="496" y="8"/>
                    <a:pt x="672" y="48"/>
                  </a:cubicBezTo>
                  <a:cubicBezTo>
                    <a:pt x="848" y="88"/>
                    <a:pt x="952" y="164"/>
                    <a:pt x="1056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477120" y="3066120"/>
              <a:ext cx="1676160" cy="381240"/>
            </a:xfrm>
            <a:custGeom>
              <a:avLst/>
              <a:gdLst/>
              <a:ahLst/>
              <a:rect l="l" t="t" r="r" b="b"/>
              <a:pathLst>
                <a:path w="1056" h="240">
                  <a:moveTo>
                    <a:pt x="0" y="0"/>
                  </a:moveTo>
                  <a:cubicBezTo>
                    <a:pt x="248" y="4"/>
                    <a:pt x="496" y="8"/>
                    <a:pt x="672" y="48"/>
                  </a:cubicBezTo>
                  <a:cubicBezTo>
                    <a:pt x="848" y="88"/>
                    <a:pt x="952" y="164"/>
                    <a:pt x="1056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343040" y="1843200"/>
            <a:ext cx="33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e gant du philosop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03920" y="4602240"/>
            <a:ext cx="286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ww.jesus-eucharistie.org/sag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609480" y="175176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38080" y="1973160"/>
            <a:ext cx="3365640" cy="2832120"/>
            <a:chOff x="838080" y="1973160"/>
            <a:chExt cx="3365640" cy="2832120"/>
          </a:xfrm>
        </p:grpSpPr>
        <p:sp>
          <p:nvSpPr>
            <p:cNvPr id="83" name=""/>
            <p:cNvSpPr/>
            <p:nvPr/>
          </p:nvSpPr>
          <p:spPr>
            <a:xfrm>
              <a:off x="838080" y="2187720"/>
              <a:ext cx="1403280" cy="1143000"/>
            </a:xfrm>
            <a:custGeom>
              <a:avLst/>
              <a:gdLst/>
              <a:ahLst/>
              <a:rect l="l" t="t" r="r" b="b"/>
              <a:pathLst>
                <a:path w="884" h="720">
                  <a:moveTo>
                    <a:pt x="0" y="720"/>
                  </a:moveTo>
                  <a:cubicBezTo>
                    <a:pt x="23" y="713"/>
                    <a:pt x="51" y="707"/>
                    <a:pt x="72" y="696"/>
                  </a:cubicBezTo>
                  <a:cubicBezTo>
                    <a:pt x="89" y="687"/>
                    <a:pt x="104" y="675"/>
                    <a:pt x="123" y="669"/>
                  </a:cubicBezTo>
                  <a:cubicBezTo>
                    <a:pt x="136" y="660"/>
                    <a:pt x="151" y="657"/>
                    <a:pt x="164" y="648"/>
                  </a:cubicBezTo>
                  <a:cubicBezTo>
                    <a:pt x="169" y="637"/>
                    <a:pt x="171" y="627"/>
                    <a:pt x="178" y="617"/>
                  </a:cubicBezTo>
                  <a:cubicBezTo>
                    <a:pt x="187" y="588"/>
                    <a:pt x="199" y="560"/>
                    <a:pt x="216" y="535"/>
                  </a:cubicBezTo>
                  <a:cubicBezTo>
                    <a:pt x="223" y="512"/>
                    <a:pt x="234" y="502"/>
                    <a:pt x="253" y="491"/>
                  </a:cubicBezTo>
                  <a:cubicBezTo>
                    <a:pt x="264" y="473"/>
                    <a:pt x="281" y="461"/>
                    <a:pt x="298" y="449"/>
                  </a:cubicBezTo>
                  <a:cubicBezTo>
                    <a:pt x="306" y="443"/>
                    <a:pt x="322" y="432"/>
                    <a:pt x="322" y="432"/>
                  </a:cubicBezTo>
                  <a:cubicBezTo>
                    <a:pt x="334" y="414"/>
                    <a:pt x="361" y="404"/>
                    <a:pt x="380" y="391"/>
                  </a:cubicBezTo>
                  <a:cubicBezTo>
                    <a:pt x="391" y="384"/>
                    <a:pt x="390" y="384"/>
                    <a:pt x="401" y="377"/>
                  </a:cubicBezTo>
                  <a:cubicBezTo>
                    <a:pt x="404" y="375"/>
                    <a:pt x="411" y="371"/>
                    <a:pt x="411" y="371"/>
                  </a:cubicBezTo>
                  <a:cubicBezTo>
                    <a:pt x="420" y="356"/>
                    <a:pt x="433" y="354"/>
                    <a:pt x="449" y="343"/>
                  </a:cubicBezTo>
                  <a:cubicBezTo>
                    <a:pt x="470" y="329"/>
                    <a:pt x="488" y="312"/>
                    <a:pt x="510" y="299"/>
                  </a:cubicBezTo>
                  <a:cubicBezTo>
                    <a:pt x="517" y="289"/>
                    <a:pt x="538" y="275"/>
                    <a:pt x="538" y="275"/>
                  </a:cubicBezTo>
                  <a:cubicBezTo>
                    <a:pt x="546" y="263"/>
                    <a:pt x="551" y="258"/>
                    <a:pt x="565" y="254"/>
                  </a:cubicBezTo>
                  <a:cubicBezTo>
                    <a:pt x="575" y="247"/>
                    <a:pt x="591" y="230"/>
                    <a:pt x="603" y="227"/>
                  </a:cubicBezTo>
                  <a:cubicBezTo>
                    <a:pt x="613" y="220"/>
                    <a:pt x="622" y="217"/>
                    <a:pt x="634" y="213"/>
                  </a:cubicBezTo>
                  <a:cubicBezTo>
                    <a:pt x="650" y="202"/>
                    <a:pt x="638" y="208"/>
                    <a:pt x="658" y="203"/>
                  </a:cubicBezTo>
                  <a:cubicBezTo>
                    <a:pt x="666" y="201"/>
                    <a:pt x="682" y="196"/>
                    <a:pt x="682" y="196"/>
                  </a:cubicBezTo>
                  <a:cubicBezTo>
                    <a:pt x="697" y="186"/>
                    <a:pt x="709" y="176"/>
                    <a:pt x="723" y="165"/>
                  </a:cubicBezTo>
                  <a:cubicBezTo>
                    <a:pt x="730" y="160"/>
                    <a:pt x="744" y="151"/>
                    <a:pt x="744" y="151"/>
                  </a:cubicBezTo>
                  <a:cubicBezTo>
                    <a:pt x="752" y="138"/>
                    <a:pt x="766" y="126"/>
                    <a:pt x="778" y="117"/>
                  </a:cubicBezTo>
                  <a:cubicBezTo>
                    <a:pt x="794" y="93"/>
                    <a:pt x="785" y="101"/>
                    <a:pt x="802" y="89"/>
                  </a:cubicBezTo>
                  <a:cubicBezTo>
                    <a:pt x="806" y="76"/>
                    <a:pt x="821" y="63"/>
                    <a:pt x="833" y="55"/>
                  </a:cubicBezTo>
                  <a:cubicBezTo>
                    <a:pt x="841" y="43"/>
                    <a:pt x="845" y="36"/>
                    <a:pt x="857" y="28"/>
                  </a:cubicBezTo>
                  <a:cubicBezTo>
                    <a:pt x="863" y="19"/>
                    <a:pt x="884" y="6"/>
                    <a:pt x="884" y="0"/>
                  </a:cubicBezTo>
                  <a:lnTo>
                    <a:pt x="867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66840" y="1973160"/>
              <a:ext cx="1784520" cy="1003320"/>
            </a:xfrm>
            <a:custGeom>
              <a:avLst/>
              <a:gdLst/>
              <a:ahLst/>
              <a:rect l="l" t="t" r="r" b="b"/>
              <a:pathLst>
                <a:path w="1124" h="632">
                  <a:moveTo>
                    <a:pt x="57" y="125"/>
                  </a:moveTo>
                  <a:cubicBezTo>
                    <a:pt x="80" y="119"/>
                    <a:pt x="71" y="82"/>
                    <a:pt x="99" y="74"/>
                  </a:cubicBezTo>
                  <a:cubicBezTo>
                    <a:pt x="110" y="66"/>
                    <a:pt x="122" y="50"/>
                    <a:pt x="133" y="46"/>
                  </a:cubicBezTo>
                  <a:cubicBezTo>
                    <a:pt x="147" y="27"/>
                    <a:pt x="171" y="14"/>
                    <a:pt x="191" y="2"/>
                  </a:cubicBezTo>
                  <a:cubicBezTo>
                    <a:pt x="222" y="4"/>
                    <a:pt x="234" y="0"/>
                    <a:pt x="256" y="15"/>
                  </a:cubicBezTo>
                  <a:cubicBezTo>
                    <a:pt x="268" y="48"/>
                    <a:pt x="250" y="6"/>
                    <a:pt x="270" y="32"/>
                  </a:cubicBezTo>
                  <a:cubicBezTo>
                    <a:pt x="279" y="44"/>
                    <a:pt x="289" y="78"/>
                    <a:pt x="294" y="94"/>
                  </a:cubicBezTo>
                  <a:cubicBezTo>
                    <a:pt x="292" y="189"/>
                    <a:pt x="301" y="270"/>
                    <a:pt x="219" y="327"/>
                  </a:cubicBezTo>
                  <a:cubicBezTo>
                    <a:pt x="210" y="342"/>
                    <a:pt x="189" y="353"/>
                    <a:pt x="171" y="358"/>
                  </a:cubicBezTo>
                  <a:cubicBezTo>
                    <a:pt x="158" y="366"/>
                    <a:pt x="133" y="392"/>
                    <a:pt x="119" y="396"/>
                  </a:cubicBezTo>
                  <a:cubicBezTo>
                    <a:pt x="100" y="402"/>
                    <a:pt x="84" y="412"/>
                    <a:pt x="68" y="423"/>
                  </a:cubicBezTo>
                  <a:cubicBezTo>
                    <a:pt x="66" y="427"/>
                    <a:pt x="64" y="431"/>
                    <a:pt x="61" y="434"/>
                  </a:cubicBezTo>
                  <a:cubicBezTo>
                    <a:pt x="58" y="437"/>
                    <a:pt x="54" y="437"/>
                    <a:pt x="51" y="440"/>
                  </a:cubicBezTo>
                  <a:cubicBezTo>
                    <a:pt x="35" y="457"/>
                    <a:pt x="20" y="483"/>
                    <a:pt x="6" y="502"/>
                  </a:cubicBezTo>
                  <a:cubicBezTo>
                    <a:pt x="0" y="521"/>
                    <a:pt x="5" y="531"/>
                    <a:pt x="20" y="540"/>
                  </a:cubicBezTo>
                  <a:cubicBezTo>
                    <a:pt x="34" y="560"/>
                    <a:pt x="58" y="560"/>
                    <a:pt x="78" y="571"/>
                  </a:cubicBezTo>
                  <a:cubicBezTo>
                    <a:pt x="96" y="581"/>
                    <a:pt x="109" y="592"/>
                    <a:pt x="129" y="598"/>
                  </a:cubicBezTo>
                  <a:cubicBezTo>
                    <a:pt x="155" y="615"/>
                    <a:pt x="142" y="611"/>
                    <a:pt x="167" y="615"/>
                  </a:cubicBezTo>
                  <a:cubicBezTo>
                    <a:pt x="207" y="631"/>
                    <a:pt x="260" y="630"/>
                    <a:pt x="301" y="632"/>
                  </a:cubicBezTo>
                  <a:cubicBezTo>
                    <a:pt x="322" y="631"/>
                    <a:pt x="342" y="631"/>
                    <a:pt x="363" y="629"/>
                  </a:cubicBezTo>
                  <a:cubicBezTo>
                    <a:pt x="382" y="627"/>
                    <a:pt x="398" y="612"/>
                    <a:pt x="417" y="608"/>
                  </a:cubicBezTo>
                  <a:cubicBezTo>
                    <a:pt x="434" y="605"/>
                    <a:pt x="448" y="604"/>
                    <a:pt x="465" y="598"/>
                  </a:cubicBezTo>
                  <a:cubicBezTo>
                    <a:pt x="478" y="594"/>
                    <a:pt x="493" y="587"/>
                    <a:pt x="507" y="584"/>
                  </a:cubicBezTo>
                  <a:cubicBezTo>
                    <a:pt x="521" y="581"/>
                    <a:pt x="548" y="578"/>
                    <a:pt x="548" y="578"/>
                  </a:cubicBezTo>
                  <a:cubicBezTo>
                    <a:pt x="602" y="556"/>
                    <a:pt x="661" y="547"/>
                    <a:pt x="719" y="543"/>
                  </a:cubicBezTo>
                  <a:cubicBezTo>
                    <a:pt x="739" y="537"/>
                    <a:pt x="760" y="521"/>
                    <a:pt x="781" y="519"/>
                  </a:cubicBezTo>
                  <a:cubicBezTo>
                    <a:pt x="803" y="517"/>
                    <a:pt x="824" y="517"/>
                    <a:pt x="846" y="516"/>
                  </a:cubicBezTo>
                  <a:cubicBezTo>
                    <a:pt x="899" y="506"/>
                    <a:pt x="950" y="496"/>
                    <a:pt x="1004" y="492"/>
                  </a:cubicBezTo>
                  <a:cubicBezTo>
                    <a:pt x="1029" y="494"/>
                    <a:pt x="1038" y="496"/>
                    <a:pt x="1059" y="502"/>
                  </a:cubicBezTo>
                  <a:cubicBezTo>
                    <a:pt x="1069" y="509"/>
                    <a:pt x="1078" y="512"/>
                    <a:pt x="1089" y="516"/>
                  </a:cubicBezTo>
                  <a:cubicBezTo>
                    <a:pt x="1099" y="525"/>
                    <a:pt x="1104" y="535"/>
                    <a:pt x="1117" y="540"/>
                  </a:cubicBezTo>
                  <a:cubicBezTo>
                    <a:pt x="1121" y="554"/>
                    <a:pt x="1124" y="566"/>
                    <a:pt x="1124" y="5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51200" y="2895480"/>
              <a:ext cx="1352520" cy="917640"/>
            </a:xfrm>
            <a:custGeom>
              <a:avLst/>
              <a:gdLst/>
              <a:ahLst/>
              <a:rect l="l" t="t" r="r" b="b"/>
              <a:pathLst>
                <a:path w="852" h="578">
                  <a:moveTo>
                    <a:pt x="693" y="0"/>
                  </a:moveTo>
                  <a:cubicBezTo>
                    <a:pt x="691" y="16"/>
                    <a:pt x="694" y="33"/>
                    <a:pt x="682" y="45"/>
                  </a:cubicBezTo>
                  <a:cubicBezTo>
                    <a:pt x="659" y="68"/>
                    <a:pt x="626" y="73"/>
                    <a:pt x="597" y="82"/>
                  </a:cubicBezTo>
                  <a:cubicBezTo>
                    <a:pt x="560" y="93"/>
                    <a:pt x="524" y="109"/>
                    <a:pt x="487" y="120"/>
                  </a:cubicBezTo>
                  <a:cubicBezTo>
                    <a:pt x="457" y="141"/>
                    <a:pt x="410" y="150"/>
                    <a:pt x="374" y="161"/>
                  </a:cubicBezTo>
                  <a:cubicBezTo>
                    <a:pt x="339" y="186"/>
                    <a:pt x="291" y="195"/>
                    <a:pt x="250" y="209"/>
                  </a:cubicBezTo>
                  <a:cubicBezTo>
                    <a:pt x="177" y="233"/>
                    <a:pt x="104" y="261"/>
                    <a:pt x="28" y="274"/>
                  </a:cubicBezTo>
                  <a:cubicBezTo>
                    <a:pt x="14" y="279"/>
                    <a:pt x="9" y="279"/>
                    <a:pt x="0" y="291"/>
                  </a:cubicBezTo>
                  <a:cubicBezTo>
                    <a:pt x="40" y="307"/>
                    <a:pt x="87" y="302"/>
                    <a:pt x="130" y="305"/>
                  </a:cubicBezTo>
                  <a:cubicBezTo>
                    <a:pt x="179" y="316"/>
                    <a:pt x="231" y="311"/>
                    <a:pt x="281" y="315"/>
                  </a:cubicBezTo>
                  <a:cubicBezTo>
                    <a:pt x="335" y="328"/>
                    <a:pt x="401" y="324"/>
                    <a:pt x="453" y="326"/>
                  </a:cubicBezTo>
                  <a:cubicBezTo>
                    <a:pt x="470" y="331"/>
                    <a:pt x="487" y="336"/>
                    <a:pt x="504" y="343"/>
                  </a:cubicBezTo>
                  <a:cubicBezTo>
                    <a:pt x="571" y="339"/>
                    <a:pt x="627" y="347"/>
                    <a:pt x="693" y="353"/>
                  </a:cubicBezTo>
                  <a:cubicBezTo>
                    <a:pt x="729" y="360"/>
                    <a:pt x="761" y="374"/>
                    <a:pt x="796" y="384"/>
                  </a:cubicBezTo>
                  <a:cubicBezTo>
                    <a:pt x="807" y="391"/>
                    <a:pt x="812" y="401"/>
                    <a:pt x="823" y="408"/>
                  </a:cubicBezTo>
                  <a:cubicBezTo>
                    <a:pt x="826" y="419"/>
                    <a:pt x="833" y="428"/>
                    <a:pt x="837" y="439"/>
                  </a:cubicBezTo>
                  <a:cubicBezTo>
                    <a:pt x="852" y="525"/>
                    <a:pt x="823" y="536"/>
                    <a:pt x="751" y="542"/>
                  </a:cubicBezTo>
                  <a:cubicBezTo>
                    <a:pt x="630" y="578"/>
                    <a:pt x="755" y="542"/>
                    <a:pt x="394" y="542"/>
                  </a:cubicBezTo>
                  <a:cubicBezTo>
                    <a:pt x="297" y="542"/>
                    <a:pt x="181" y="546"/>
                    <a:pt x="82" y="549"/>
                  </a:cubicBezTo>
                  <a:cubicBezTo>
                    <a:pt x="73" y="551"/>
                    <a:pt x="50" y="559"/>
                    <a:pt x="38" y="5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81280" y="3787920"/>
              <a:ext cx="1301760" cy="1017360"/>
            </a:xfrm>
            <a:custGeom>
              <a:avLst/>
              <a:gdLst/>
              <a:ahLst/>
              <a:rect l="l" t="t" r="r" b="b"/>
              <a:pathLst>
                <a:path w="820" h="641">
                  <a:moveTo>
                    <a:pt x="155" y="0"/>
                  </a:moveTo>
                  <a:cubicBezTo>
                    <a:pt x="188" y="9"/>
                    <a:pt x="223" y="8"/>
                    <a:pt x="255" y="17"/>
                  </a:cubicBezTo>
                  <a:cubicBezTo>
                    <a:pt x="276" y="23"/>
                    <a:pt x="295" y="38"/>
                    <a:pt x="316" y="45"/>
                  </a:cubicBezTo>
                  <a:cubicBezTo>
                    <a:pt x="390" y="70"/>
                    <a:pt x="469" y="93"/>
                    <a:pt x="546" y="103"/>
                  </a:cubicBezTo>
                  <a:cubicBezTo>
                    <a:pt x="563" y="108"/>
                    <a:pt x="580" y="109"/>
                    <a:pt x="597" y="113"/>
                  </a:cubicBezTo>
                  <a:cubicBezTo>
                    <a:pt x="605" y="115"/>
                    <a:pt x="621" y="120"/>
                    <a:pt x="621" y="120"/>
                  </a:cubicBezTo>
                  <a:cubicBezTo>
                    <a:pt x="657" y="143"/>
                    <a:pt x="691" y="146"/>
                    <a:pt x="731" y="158"/>
                  </a:cubicBezTo>
                  <a:cubicBezTo>
                    <a:pt x="746" y="162"/>
                    <a:pt x="758" y="171"/>
                    <a:pt x="772" y="175"/>
                  </a:cubicBezTo>
                  <a:cubicBezTo>
                    <a:pt x="783" y="182"/>
                    <a:pt x="792" y="191"/>
                    <a:pt x="803" y="199"/>
                  </a:cubicBezTo>
                  <a:cubicBezTo>
                    <a:pt x="809" y="213"/>
                    <a:pt x="816" y="226"/>
                    <a:pt x="820" y="240"/>
                  </a:cubicBezTo>
                  <a:cubicBezTo>
                    <a:pt x="818" y="267"/>
                    <a:pt x="817" y="296"/>
                    <a:pt x="793" y="312"/>
                  </a:cubicBezTo>
                  <a:cubicBezTo>
                    <a:pt x="784" y="327"/>
                    <a:pt x="788" y="326"/>
                    <a:pt x="765" y="329"/>
                  </a:cubicBezTo>
                  <a:cubicBezTo>
                    <a:pt x="749" y="331"/>
                    <a:pt x="717" y="336"/>
                    <a:pt x="717" y="336"/>
                  </a:cubicBezTo>
                  <a:cubicBezTo>
                    <a:pt x="688" y="333"/>
                    <a:pt x="660" y="328"/>
                    <a:pt x="632" y="323"/>
                  </a:cubicBezTo>
                  <a:cubicBezTo>
                    <a:pt x="607" y="314"/>
                    <a:pt x="583" y="311"/>
                    <a:pt x="556" y="309"/>
                  </a:cubicBezTo>
                  <a:cubicBezTo>
                    <a:pt x="524" y="303"/>
                    <a:pt x="490" y="288"/>
                    <a:pt x="457" y="285"/>
                  </a:cubicBezTo>
                  <a:cubicBezTo>
                    <a:pt x="422" y="281"/>
                    <a:pt x="386" y="281"/>
                    <a:pt x="351" y="275"/>
                  </a:cubicBezTo>
                  <a:cubicBezTo>
                    <a:pt x="330" y="272"/>
                    <a:pt x="310" y="260"/>
                    <a:pt x="289" y="257"/>
                  </a:cubicBezTo>
                  <a:cubicBezTo>
                    <a:pt x="265" y="254"/>
                    <a:pt x="241" y="254"/>
                    <a:pt x="217" y="251"/>
                  </a:cubicBezTo>
                  <a:cubicBezTo>
                    <a:pt x="187" y="248"/>
                    <a:pt x="150" y="245"/>
                    <a:pt x="121" y="237"/>
                  </a:cubicBezTo>
                  <a:cubicBezTo>
                    <a:pt x="101" y="231"/>
                    <a:pt x="59" y="223"/>
                    <a:pt x="59" y="223"/>
                  </a:cubicBezTo>
                  <a:cubicBezTo>
                    <a:pt x="45" y="224"/>
                    <a:pt x="30" y="220"/>
                    <a:pt x="18" y="227"/>
                  </a:cubicBezTo>
                  <a:cubicBezTo>
                    <a:pt x="0" y="237"/>
                    <a:pt x="39" y="253"/>
                    <a:pt x="42" y="254"/>
                  </a:cubicBezTo>
                  <a:cubicBezTo>
                    <a:pt x="62" y="268"/>
                    <a:pt x="76" y="292"/>
                    <a:pt x="100" y="299"/>
                  </a:cubicBezTo>
                  <a:cubicBezTo>
                    <a:pt x="107" y="301"/>
                    <a:pt x="121" y="305"/>
                    <a:pt x="121" y="305"/>
                  </a:cubicBezTo>
                  <a:cubicBezTo>
                    <a:pt x="133" y="313"/>
                    <a:pt x="138" y="322"/>
                    <a:pt x="152" y="326"/>
                  </a:cubicBezTo>
                  <a:cubicBezTo>
                    <a:pt x="168" y="342"/>
                    <a:pt x="191" y="360"/>
                    <a:pt x="213" y="367"/>
                  </a:cubicBezTo>
                  <a:cubicBezTo>
                    <a:pt x="231" y="379"/>
                    <a:pt x="254" y="392"/>
                    <a:pt x="275" y="398"/>
                  </a:cubicBezTo>
                  <a:cubicBezTo>
                    <a:pt x="289" y="407"/>
                    <a:pt x="300" y="417"/>
                    <a:pt x="316" y="422"/>
                  </a:cubicBezTo>
                  <a:cubicBezTo>
                    <a:pt x="330" y="431"/>
                    <a:pt x="341" y="441"/>
                    <a:pt x="357" y="446"/>
                  </a:cubicBezTo>
                  <a:cubicBezTo>
                    <a:pt x="371" y="455"/>
                    <a:pt x="384" y="465"/>
                    <a:pt x="399" y="473"/>
                  </a:cubicBezTo>
                  <a:cubicBezTo>
                    <a:pt x="405" y="484"/>
                    <a:pt x="426" y="497"/>
                    <a:pt x="426" y="497"/>
                  </a:cubicBezTo>
                  <a:cubicBezTo>
                    <a:pt x="435" y="512"/>
                    <a:pt x="447" y="520"/>
                    <a:pt x="457" y="535"/>
                  </a:cubicBezTo>
                  <a:cubicBezTo>
                    <a:pt x="462" y="542"/>
                    <a:pt x="471" y="556"/>
                    <a:pt x="471" y="556"/>
                  </a:cubicBezTo>
                  <a:cubicBezTo>
                    <a:pt x="489" y="616"/>
                    <a:pt x="455" y="631"/>
                    <a:pt x="409" y="641"/>
                  </a:cubicBezTo>
                  <a:cubicBezTo>
                    <a:pt x="372" y="639"/>
                    <a:pt x="359" y="640"/>
                    <a:pt x="330" y="62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61920" y="4168800"/>
              <a:ext cx="2243160" cy="615960"/>
            </a:xfrm>
            <a:custGeom>
              <a:avLst/>
              <a:gdLst/>
              <a:ahLst/>
              <a:rect l="l" t="t" r="r" b="b"/>
              <a:pathLst>
                <a:path w="1413" h="388">
                  <a:moveTo>
                    <a:pt x="1413" y="388"/>
                  </a:moveTo>
                  <a:cubicBezTo>
                    <a:pt x="1408" y="369"/>
                    <a:pt x="1397" y="375"/>
                    <a:pt x="1379" y="371"/>
                  </a:cubicBezTo>
                  <a:cubicBezTo>
                    <a:pt x="1371" y="369"/>
                    <a:pt x="1355" y="364"/>
                    <a:pt x="1355" y="364"/>
                  </a:cubicBezTo>
                  <a:cubicBezTo>
                    <a:pt x="1341" y="355"/>
                    <a:pt x="1330" y="345"/>
                    <a:pt x="1314" y="340"/>
                  </a:cubicBezTo>
                  <a:cubicBezTo>
                    <a:pt x="1275" y="315"/>
                    <a:pt x="1227" y="304"/>
                    <a:pt x="1183" y="292"/>
                  </a:cubicBezTo>
                  <a:cubicBezTo>
                    <a:pt x="1157" y="274"/>
                    <a:pt x="1087" y="253"/>
                    <a:pt x="1056" y="244"/>
                  </a:cubicBezTo>
                  <a:cubicBezTo>
                    <a:pt x="1037" y="231"/>
                    <a:pt x="1017" y="213"/>
                    <a:pt x="995" y="206"/>
                  </a:cubicBezTo>
                  <a:cubicBezTo>
                    <a:pt x="941" y="170"/>
                    <a:pt x="884" y="157"/>
                    <a:pt x="820" y="144"/>
                  </a:cubicBezTo>
                  <a:cubicBezTo>
                    <a:pt x="785" y="137"/>
                    <a:pt x="751" y="119"/>
                    <a:pt x="714" y="117"/>
                  </a:cubicBezTo>
                  <a:cubicBezTo>
                    <a:pt x="676" y="115"/>
                    <a:pt x="562" y="111"/>
                    <a:pt x="522" y="110"/>
                  </a:cubicBezTo>
                  <a:cubicBezTo>
                    <a:pt x="500" y="104"/>
                    <a:pt x="478" y="93"/>
                    <a:pt x="456" y="89"/>
                  </a:cubicBezTo>
                  <a:cubicBezTo>
                    <a:pt x="442" y="86"/>
                    <a:pt x="415" y="83"/>
                    <a:pt x="415" y="83"/>
                  </a:cubicBezTo>
                  <a:cubicBezTo>
                    <a:pt x="380" y="69"/>
                    <a:pt x="342" y="63"/>
                    <a:pt x="306" y="52"/>
                  </a:cubicBezTo>
                  <a:cubicBezTo>
                    <a:pt x="287" y="39"/>
                    <a:pt x="267" y="21"/>
                    <a:pt x="244" y="14"/>
                  </a:cubicBezTo>
                  <a:cubicBezTo>
                    <a:pt x="234" y="7"/>
                    <a:pt x="225" y="5"/>
                    <a:pt x="213" y="0"/>
                  </a:cubicBezTo>
                  <a:cubicBezTo>
                    <a:pt x="171" y="4"/>
                    <a:pt x="134" y="20"/>
                    <a:pt x="93" y="24"/>
                  </a:cubicBezTo>
                  <a:cubicBezTo>
                    <a:pt x="61" y="31"/>
                    <a:pt x="32" y="35"/>
                    <a:pt x="0" y="35"/>
                  </a:cubicBezTo>
                  <a:lnTo>
                    <a:pt x="21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 rot="20470800">
            <a:off x="2603520" y="2917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) «Rien de trop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072800">
            <a:off x="609840" y="266652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) «Y a-t-il de bons livres à ce sujet?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250400">
            <a:off x="1904400" y="430524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«Ah oui? Vraiment?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752400">
            <a:off x="1675800" y="38448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«De quoi parle-t-on, exactement?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4765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) «Mais pourquoi?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2346480"/>
            <a:ext cx="38098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L'auriculaire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le doigt du doute). Un d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meilleurs mécanismes de défense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contre les fausses croyances est 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doute méthodiqu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L'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nulai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(le doigt des faits). Il fau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euser jusqu'à atteindre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'éviden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trouver les sources originales, définir les termes utilisés dans la discussion, quantifier les observations, mettre ça par écrit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Le majeur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le doigt des causes)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 Science est une connaissance profonde et certaine, 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la connaissan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ar les cause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L'index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le doigt de la morale). Comment devenir sage, si vous êtes trop paresseux pour étudier, trop orgueilleux pour admettre vos erreurs, trop saoûl ou drogué pour réfléchi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Le pouce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le doigt de l'étude). Pourquoi réinventer la roue? Il fau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ouver les bons livres qui ont été écrits sur le sujet et les étudie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343400" y="184320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The Philosopher's G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9600" y="4602240"/>
            <a:ext cx="25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ww.jesus-eucharistie.org/wis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609480" y="175176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1973160"/>
            <a:ext cx="3365640" cy="2832120"/>
            <a:chOff x="838080" y="1973160"/>
            <a:chExt cx="3365640" cy="2832120"/>
          </a:xfrm>
        </p:grpSpPr>
        <p:sp>
          <p:nvSpPr>
            <p:cNvPr id="98" name=""/>
            <p:cNvSpPr/>
            <p:nvPr/>
          </p:nvSpPr>
          <p:spPr>
            <a:xfrm>
              <a:off x="838080" y="2187720"/>
              <a:ext cx="1403280" cy="1143000"/>
            </a:xfrm>
            <a:custGeom>
              <a:avLst/>
              <a:gdLst/>
              <a:ahLst/>
              <a:rect l="l" t="t" r="r" b="b"/>
              <a:pathLst>
                <a:path w="884" h="720">
                  <a:moveTo>
                    <a:pt x="0" y="720"/>
                  </a:moveTo>
                  <a:cubicBezTo>
                    <a:pt x="23" y="713"/>
                    <a:pt x="51" y="707"/>
                    <a:pt x="72" y="696"/>
                  </a:cubicBezTo>
                  <a:cubicBezTo>
                    <a:pt x="89" y="687"/>
                    <a:pt x="104" y="675"/>
                    <a:pt x="123" y="669"/>
                  </a:cubicBezTo>
                  <a:cubicBezTo>
                    <a:pt x="136" y="660"/>
                    <a:pt x="151" y="657"/>
                    <a:pt x="164" y="648"/>
                  </a:cubicBezTo>
                  <a:cubicBezTo>
                    <a:pt x="169" y="637"/>
                    <a:pt x="171" y="627"/>
                    <a:pt x="178" y="617"/>
                  </a:cubicBezTo>
                  <a:cubicBezTo>
                    <a:pt x="187" y="588"/>
                    <a:pt x="199" y="560"/>
                    <a:pt x="216" y="535"/>
                  </a:cubicBezTo>
                  <a:cubicBezTo>
                    <a:pt x="223" y="512"/>
                    <a:pt x="234" y="502"/>
                    <a:pt x="253" y="491"/>
                  </a:cubicBezTo>
                  <a:cubicBezTo>
                    <a:pt x="264" y="473"/>
                    <a:pt x="281" y="461"/>
                    <a:pt x="298" y="449"/>
                  </a:cubicBezTo>
                  <a:cubicBezTo>
                    <a:pt x="306" y="443"/>
                    <a:pt x="322" y="432"/>
                    <a:pt x="322" y="432"/>
                  </a:cubicBezTo>
                  <a:cubicBezTo>
                    <a:pt x="334" y="414"/>
                    <a:pt x="361" y="404"/>
                    <a:pt x="380" y="391"/>
                  </a:cubicBezTo>
                  <a:cubicBezTo>
                    <a:pt x="391" y="384"/>
                    <a:pt x="390" y="384"/>
                    <a:pt x="401" y="377"/>
                  </a:cubicBezTo>
                  <a:cubicBezTo>
                    <a:pt x="404" y="375"/>
                    <a:pt x="411" y="371"/>
                    <a:pt x="411" y="371"/>
                  </a:cubicBezTo>
                  <a:cubicBezTo>
                    <a:pt x="420" y="356"/>
                    <a:pt x="433" y="354"/>
                    <a:pt x="449" y="343"/>
                  </a:cubicBezTo>
                  <a:cubicBezTo>
                    <a:pt x="470" y="329"/>
                    <a:pt x="488" y="312"/>
                    <a:pt x="510" y="299"/>
                  </a:cubicBezTo>
                  <a:cubicBezTo>
                    <a:pt x="517" y="289"/>
                    <a:pt x="538" y="275"/>
                    <a:pt x="538" y="275"/>
                  </a:cubicBezTo>
                  <a:cubicBezTo>
                    <a:pt x="546" y="263"/>
                    <a:pt x="551" y="258"/>
                    <a:pt x="565" y="254"/>
                  </a:cubicBezTo>
                  <a:cubicBezTo>
                    <a:pt x="575" y="247"/>
                    <a:pt x="591" y="230"/>
                    <a:pt x="603" y="227"/>
                  </a:cubicBezTo>
                  <a:cubicBezTo>
                    <a:pt x="613" y="220"/>
                    <a:pt x="622" y="217"/>
                    <a:pt x="634" y="213"/>
                  </a:cubicBezTo>
                  <a:cubicBezTo>
                    <a:pt x="650" y="202"/>
                    <a:pt x="638" y="208"/>
                    <a:pt x="658" y="203"/>
                  </a:cubicBezTo>
                  <a:cubicBezTo>
                    <a:pt x="666" y="201"/>
                    <a:pt x="682" y="196"/>
                    <a:pt x="682" y="196"/>
                  </a:cubicBezTo>
                  <a:cubicBezTo>
                    <a:pt x="697" y="186"/>
                    <a:pt x="709" y="176"/>
                    <a:pt x="723" y="165"/>
                  </a:cubicBezTo>
                  <a:cubicBezTo>
                    <a:pt x="730" y="160"/>
                    <a:pt x="744" y="151"/>
                    <a:pt x="744" y="151"/>
                  </a:cubicBezTo>
                  <a:cubicBezTo>
                    <a:pt x="752" y="138"/>
                    <a:pt x="766" y="126"/>
                    <a:pt x="778" y="117"/>
                  </a:cubicBezTo>
                  <a:cubicBezTo>
                    <a:pt x="794" y="93"/>
                    <a:pt x="785" y="101"/>
                    <a:pt x="802" y="89"/>
                  </a:cubicBezTo>
                  <a:cubicBezTo>
                    <a:pt x="806" y="76"/>
                    <a:pt x="821" y="63"/>
                    <a:pt x="833" y="55"/>
                  </a:cubicBezTo>
                  <a:cubicBezTo>
                    <a:pt x="841" y="43"/>
                    <a:pt x="845" y="36"/>
                    <a:pt x="857" y="28"/>
                  </a:cubicBezTo>
                  <a:cubicBezTo>
                    <a:pt x="863" y="19"/>
                    <a:pt x="884" y="6"/>
                    <a:pt x="884" y="0"/>
                  </a:cubicBezTo>
                  <a:lnTo>
                    <a:pt x="867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66840" y="1973160"/>
              <a:ext cx="1784520" cy="1003320"/>
            </a:xfrm>
            <a:custGeom>
              <a:avLst/>
              <a:gdLst/>
              <a:ahLst/>
              <a:rect l="l" t="t" r="r" b="b"/>
              <a:pathLst>
                <a:path w="1124" h="632">
                  <a:moveTo>
                    <a:pt x="57" y="125"/>
                  </a:moveTo>
                  <a:cubicBezTo>
                    <a:pt x="80" y="119"/>
                    <a:pt x="71" y="82"/>
                    <a:pt x="99" y="74"/>
                  </a:cubicBezTo>
                  <a:cubicBezTo>
                    <a:pt x="110" y="66"/>
                    <a:pt x="122" y="50"/>
                    <a:pt x="133" y="46"/>
                  </a:cubicBezTo>
                  <a:cubicBezTo>
                    <a:pt x="147" y="27"/>
                    <a:pt x="171" y="14"/>
                    <a:pt x="191" y="2"/>
                  </a:cubicBezTo>
                  <a:cubicBezTo>
                    <a:pt x="222" y="4"/>
                    <a:pt x="234" y="0"/>
                    <a:pt x="256" y="15"/>
                  </a:cubicBezTo>
                  <a:cubicBezTo>
                    <a:pt x="268" y="48"/>
                    <a:pt x="250" y="6"/>
                    <a:pt x="270" y="32"/>
                  </a:cubicBezTo>
                  <a:cubicBezTo>
                    <a:pt x="279" y="44"/>
                    <a:pt x="289" y="78"/>
                    <a:pt x="294" y="94"/>
                  </a:cubicBezTo>
                  <a:cubicBezTo>
                    <a:pt x="292" y="189"/>
                    <a:pt x="301" y="270"/>
                    <a:pt x="219" y="327"/>
                  </a:cubicBezTo>
                  <a:cubicBezTo>
                    <a:pt x="210" y="342"/>
                    <a:pt x="189" y="353"/>
                    <a:pt x="171" y="358"/>
                  </a:cubicBezTo>
                  <a:cubicBezTo>
                    <a:pt x="158" y="366"/>
                    <a:pt x="133" y="392"/>
                    <a:pt x="119" y="396"/>
                  </a:cubicBezTo>
                  <a:cubicBezTo>
                    <a:pt x="100" y="402"/>
                    <a:pt x="84" y="412"/>
                    <a:pt x="68" y="423"/>
                  </a:cubicBezTo>
                  <a:cubicBezTo>
                    <a:pt x="66" y="427"/>
                    <a:pt x="64" y="431"/>
                    <a:pt x="61" y="434"/>
                  </a:cubicBezTo>
                  <a:cubicBezTo>
                    <a:pt x="58" y="437"/>
                    <a:pt x="54" y="437"/>
                    <a:pt x="51" y="440"/>
                  </a:cubicBezTo>
                  <a:cubicBezTo>
                    <a:pt x="35" y="457"/>
                    <a:pt x="20" y="483"/>
                    <a:pt x="6" y="502"/>
                  </a:cubicBezTo>
                  <a:cubicBezTo>
                    <a:pt x="0" y="521"/>
                    <a:pt x="5" y="531"/>
                    <a:pt x="20" y="540"/>
                  </a:cubicBezTo>
                  <a:cubicBezTo>
                    <a:pt x="34" y="560"/>
                    <a:pt x="58" y="560"/>
                    <a:pt x="78" y="571"/>
                  </a:cubicBezTo>
                  <a:cubicBezTo>
                    <a:pt x="96" y="581"/>
                    <a:pt x="109" y="592"/>
                    <a:pt x="129" y="598"/>
                  </a:cubicBezTo>
                  <a:cubicBezTo>
                    <a:pt x="155" y="615"/>
                    <a:pt x="142" y="611"/>
                    <a:pt x="167" y="615"/>
                  </a:cubicBezTo>
                  <a:cubicBezTo>
                    <a:pt x="207" y="631"/>
                    <a:pt x="260" y="630"/>
                    <a:pt x="301" y="632"/>
                  </a:cubicBezTo>
                  <a:cubicBezTo>
                    <a:pt x="322" y="631"/>
                    <a:pt x="342" y="631"/>
                    <a:pt x="363" y="629"/>
                  </a:cubicBezTo>
                  <a:cubicBezTo>
                    <a:pt x="382" y="627"/>
                    <a:pt x="398" y="612"/>
                    <a:pt x="417" y="608"/>
                  </a:cubicBezTo>
                  <a:cubicBezTo>
                    <a:pt x="434" y="605"/>
                    <a:pt x="448" y="604"/>
                    <a:pt x="465" y="598"/>
                  </a:cubicBezTo>
                  <a:cubicBezTo>
                    <a:pt x="478" y="594"/>
                    <a:pt x="493" y="587"/>
                    <a:pt x="507" y="584"/>
                  </a:cubicBezTo>
                  <a:cubicBezTo>
                    <a:pt x="521" y="581"/>
                    <a:pt x="548" y="578"/>
                    <a:pt x="548" y="578"/>
                  </a:cubicBezTo>
                  <a:cubicBezTo>
                    <a:pt x="602" y="556"/>
                    <a:pt x="661" y="547"/>
                    <a:pt x="719" y="543"/>
                  </a:cubicBezTo>
                  <a:cubicBezTo>
                    <a:pt x="739" y="537"/>
                    <a:pt x="760" y="521"/>
                    <a:pt x="781" y="519"/>
                  </a:cubicBezTo>
                  <a:cubicBezTo>
                    <a:pt x="803" y="517"/>
                    <a:pt x="824" y="517"/>
                    <a:pt x="846" y="516"/>
                  </a:cubicBezTo>
                  <a:cubicBezTo>
                    <a:pt x="899" y="506"/>
                    <a:pt x="950" y="496"/>
                    <a:pt x="1004" y="492"/>
                  </a:cubicBezTo>
                  <a:cubicBezTo>
                    <a:pt x="1029" y="494"/>
                    <a:pt x="1038" y="496"/>
                    <a:pt x="1059" y="502"/>
                  </a:cubicBezTo>
                  <a:cubicBezTo>
                    <a:pt x="1069" y="509"/>
                    <a:pt x="1078" y="512"/>
                    <a:pt x="1089" y="516"/>
                  </a:cubicBezTo>
                  <a:cubicBezTo>
                    <a:pt x="1099" y="525"/>
                    <a:pt x="1104" y="535"/>
                    <a:pt x="1117" y="540"/>
                  </a:cubicBezTo>
                  <a:cubicBezTo>
                    <a:pt x="1121" y="554"/>
                    <a:pt x="1124" y="566"/>
                    <a:pt x="1124" y="5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51200" y="2895480"/>
              <a:ext cx="1352520" cy="917640"/>
            </a:xfrm>
            <a:custGeom>
              <a:avLst/>
              <a:gdLst/>
              <a:ahLst/>
              <a:rect l="l" t="t" r="r" b="b"/>
              <a:pathLst>
                <a:path w="852" h="578">
                  <a:moveTo>
                    <a:pt x="693" y="0"/>
                  </a:moveTo>
                  <a:cubicBezTo>
                    <a:pt x="691" y="16"/>
                    <a:pt x="694" y="33"/>
                    <a:pt x="682" y="45"/>
                  </a:cubicBezTo>
                  <a:cubicBezTo>
                    <a:pt x="659" y="68"/>
                    <a:pt x="626" y="73"/>
                    <a:pt x="597" y="82"/>
                  </a:cubicBezTo>
                  <a:cubicBezTo>
                    <a:pt x="560" y="93"/>
                    <a:pt x="524" y="109"/>
                    <a:pt x="487" y="120"/>
                  </a:cubicBezTo>
                  <a:cubicBezTo>
                    <a:pt x="457" y="141"/>
                    <a:pt x="410" y="150"/>
                    <a:pt x="374" y="161"/>
                  </a:cubicBezTo>
                  <a:cubicBezTo>
                    <a:pt x="339" y="186"/>
                    <a:pt x="291" y="195"/>
                    <a:pt x="250" y="209"/>
                  </a:cubicBezTo>
                  <a:cubicBezTo>
                    <a:pt x="177" y="233"/>
                    <a:pt x="104" y="261"/>
                    <a:pt x="28" y="274"/>
                  </a:cubicBezTo>
                  <a:cubicBezTo>
                    <a:pt x="14" y="279"/>
                    <a:pt x="9" y="279"/>
                    <a:pt x="0" y="291"/>
                  </a:cubicBezTo>
                  <a:cubicBezTo>
                    <a:pt x="40" y="307"/>
                    <a:pt x="87" y="302"/>
                    <a:pt x="130" y="305"/>
                  </a:cubicBezTo>
                  <a:cubicBezTo>
                    <a:pt x="179" y="316"/>
                    <a:pt x="231" y="311"/>
                    <a:pt x="281" y="315"/>
                  </a:cubicBezTo>
                  <a:cubicBezTo>
                    <a:pt x="335" y="328"/>
                    <a:pt x="401" y="324"/>
                    <a:pt x="453" y="326"/>
                  </a:cubicBezTo>
                  <a:cubicBezTo>
                    <a:pt x="470" y="331"/>
                    <a:pt x="487" y="336"/>
                    <a:pt x="504" y="343"/>
                  </a:cubicBezTo>
                  <a:cubicBezTo>
                    <a:pt x="571" y="339"/>
                    <a:pt x="627" y="347"/>
                    <a:pt x="693" y="353"/>
                  </a:cubicBezTo>
                  <a:cubicBezTo>
                    <a:pt x="729" y="360"/>
                    <a:pt x="761" y="374"/>
                    <a:pt x="796" y="384"/>
                  </a:cubicBezTo>
                  <a:cubicBezTo>
                    <a:pt x="807" y="391"/>
                    <a:pt x="812" y="401"/>
                    <a:pt x="823" y="408"/>
                  </a:cubicBezTo>
                  <a:cubicBezTo>
                    <a:pt x="826" y="419"/>
                    <a:pt x="833" y="428"/>
                    <a:pt x="837" y="439"/>
                  </a:cubicBezTo>
                  <a:cubicBezTo>
                    <a:pt x="852" y="525"/>
                    <a:pt x="823" y="536"/>
                    <a:pt x="751" y="542"/>
                  </a:cubicBezTo>
                  <a:cubicBezTo>
                    <a:pt x="630" y="578"/>
                    <a:pt x="755" y="542"/>
                    <a:pt x="394" y="542"/>
                  </a:cubicBezTo>
                  <a:cubicBezTo>
                    <a:pt x="297" y="542"/>
                    <a:pt x="181" y="546"/>
                    <a:pt x="82" y="549"/>
                  </a:cubicBezTo>
                  <a:cubicBezTo>
                    <a:pt x="73" y="551"/>
                    <a:pt x="50" y="559"/>
                    <a:pt x="38" y="5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81280" y="3787920"/>
              <a:ext cx="1301760" cy="1017360"/>
            </a:xfrm>
            <a:custGeom>
              <a:avLst/>
              <a:gdLst/>
              <a:ahLst/>
              <a:rect l="l" t="t" r="r" b="b"/>
              <a:pathLst>
                <a:path w="820" h="641">
                  <a:moveTo>
                    <a:pt x="155" y="0"/>
                  </a:moveTo>
                  <a:cubicBezTo>
                    <a:pt x="188" y="9"/>
                    <a:pt x="223" y="8"/>
                    <a:pt x="255" y="17"/>
                  </a:cubicBezTo>
                  <a:cubicBezTo>
                    <a:pt x="276" y="23"/>
                    <a:pt x="295" y="38"/>
                    <a:pt x="316" y="45"/>
                  </a:cubicBezTo>
                  <a:cubicBezTo>
                    <a:pt x="390" y="70"/>
                    <a:pt x="469" y="93"/>
                    <a:pt x="546" y="103"/>
                  </a:cubicBezTo>
                  <a:cubicBezTo>
                    <a:pt x="563" y="108"/>
                    <a:pt x="580" y="109"/>
                    <a:pt x="597" y="113"/>
                  </a:cubicBezTo>
                  <a:cubicBezTo>
                    <a:pt x="605" y="115"/>
                    <a:pt x="621" y="120"/>
                    <a:pt x="621" y="120"/>
                  </a:cubicBezTo>
                  <a:cubicBezTo>
                    <a:pt x="657" y="143"/>
                    <a:pt x="691" y="146"/>
                    <a:pt x="731" y="158"/>
                  </a:cubicBezTo>
                  <a:cubicBezTo>
                    <a:pt x="746" y="162"/>
                    <a:pt x="758" y="171"/>
                    <a:pt x="772" y="175"/>
                  </a:cubicBezTo>
                  <a:cubicBezTo>
                    <a:pt x="783" y="182"/>
                    <a:pt x="792" y="191"/>
                    <a:pt x="803" y="199"/>
                  </a:cubicBezTo>
                  <a:cubicBezTo>
                    <a:pt x="809" y="213"/>
                    <a:pt x="816" y="226"/>
                    <a:pt x="820" y="240"/>
                  </a:cubicBezTo>
                  <a:cubicBezTo>
                    <a:pt x="818" y="267"/>
                    <a:pt x="817" y="296"/>
                    <a:pt x="793" y="312"/>
                  </a:cubicBezTo>
                  <a:cubicBezTo>
                    <a:pt x="784" y="327"/>
                    <a:pt x="788" y="326"/>
                    <a:pt x="765" y="329"/>
                  </a:cubicBezTo>
                  <a:cubicBezTo>
                    <a:pt x="749" y="331"/>
                    <a:pt x="717" y="336"/>
                    <a:pt x="717" y="336"/>
                  </a:cubicBezTo>
                  <a:cubicBezTo>
                    <a:pt x="688" y="333"/>
                    <a:pt x="660" y="328"/>
                    <a:pt x="632" y="323"/>
                  </a:cubicBezTo>
                  <a:cubicBezTo>
                    <a:pt x="607" y="314"/>
                    <a:pt x="583" y="311"/>
                    <a:pt x="556" y="309"/>
                  </a:cubicBezTo>
                  <a:cubicBezTo>
                    <a:pt x="524" y="303"/>
                    <a:pt x="490" y="288"/>
                    <a:pt x="457" y="285"/>
                  </a:cubicBezTo>
                  <a:cubicBezTo>
                    <a:pt x="422" y="281"/>
                    <a:pt x="386" y="281"/>
                    <a:pt x="351" y="275"/>
                  </a:cubicBezTo>
                  <a:cubicBezTo>
                    <a:pt x="330" y="272"/>
                    <a:pt x="310" y="260"/>
                    <a:pt x="289" y="257"/>
                  </a:cubicBezTo>
                  <a:cubicBezTo>
                    <a:pt x="265" y="254"/>
                    <a:pt x="241" y="254"/>
                    <a:pt x="217" y="251"/>
                  </a:cubicBezTo>
                  <a:cubicBezTo>
                    <a:pt x="187" y="248"/>
                    <a:pt x="150" y="245"/>
                    <a:pt x="121" y="237"/>
                  </a:cubicBezTo>
                  <a:cubicBezTo>
                    <a:pt x="101" y="231"/>
                    <a:pt x="59" y="223"/>
                    <a:pt x="59" y="223"/>
                  </a:cubicBezTo>
                  <a:cubicBezTo>
                    <a:pt x="45" y="224"/>
                    <a:pt x="30" y="220"/>
                    <a:pt x="18" y="227"/>
                  </a:cubicBezTo>
                  <a:cubicBezTo>
                    <a:pt x="0" y="237"/>
                    <a:pt x="39" y="253"/>
                    <a:pt x="42" y="254"/>
                  </a:cubicBezTo>
                  <a:cubicBezTo>
                    <a:pt x="62" y="268"/>
                    <a:pt x="76" y="292"/>
                    <a:pt x="100" y="299"/>
                  </a:cubicBezTo>
                  <a:cubicBezTo>
                    <a:pt x="107" y="301"/>
                    <a:pt x="121" y="305"/>
                    <a:pt x="121" y="305"/>
                  </a:cubicBezTo>
                  <a:cubicBezTo>
                    <a:pt x="133" y="313"/>
                    <a:pt x="138" y="322"/>
                    <a:pt x="152" y="326"/>
                  </a:cubicBezTo>
                  <a:cubicBezTo>
                    <a:pt x="168" y="342"/>
                    <a:pt x="191" y="360"/>
                    <a:pt x="213" y="367"/>
                  </a:cubicBezTo>
                  <a:cubicBezTo>
                    <a:pt x="231" y="379"/>
                    <a:pt x="254" y="392"/>
                    <a:pt x="275" y="398"/>
                  </a:cubicBezTo>
                  <a:cubicBezTo>
                    <a:pt x="289" y="407"/>
                    <a:pt x="300" y="417"/>
                    <a:pt x="316" y="422"/>
                  </a:cubicBezTo>
                  <a:cubicBezTo>
                    <a:pt x="330" y="431"/>
                    <a:pt x="341" y="441"/>
                    <a:pt x="357" y="446"/>
                  </a:cubicBezTo>
                  <a:cubicBezTo>
                    <a:pt x="371" y="455"/>
                    <a:pt x="384" y="465"/>
                    <a:pt x="399" y="473"/>
                  </a:cubicBezTo>
                  <a:cubicBezTo>
                    <a:pt x="405" y="484"/>
                    <a:pt x="426" y="497"/>
                    <a:pt x="426" y="497"/>
                  </a:cubicBezTo>
                  <a:cubicBezTo>
                    <a:pt x="435" y="512"/>
                    <a:pt x="447" y="520"/>
                    <a:pt x="457" y="535"/>
                  </a:cubicBezTo>
                  <a:cubicBezTo>
                    <a:pt x="462" y="542"/>
                    <a:pt x="471" y="556"/>
                    <a:pt x="471" y="556"/>
                  </a:cubicBezTo>
                  <a:cubicBezTo>
                    <a:pt x="489" y="616"/>
                    <a:pt x="455" y="631"/>
                    <a:pt x="409" y="641"/>
                  </a:cubicBezTo>
                  <a:cubicBezTo>
                    <a:pt x="372" y="639"/>
                    <a:pt x="359" y="640"/>
                    <a:pt x="330" y="62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1920" y="4168800"/>
              <a:ext cx="2243160" cy="615960"/>
            </a:xfrm>
            <a:custGeom>
              <a:avLst/>
              <a:gdLst/>
              <a:ahLst/>
              <a:rect l="l" t="t" r="r" b="b"/>
              <a:pathLst>
                <a:path w="1413" h="388">
                  <a:moveTo>
                    <a:pt x="1413" y="388"/>
                  </a:moveTo>
                  <a:cubicBezTo>
                    <a:pt x="1408" y="369"/>
                    <a:pt x="1397" y="375"/>
                    <a:pt x="1379" y="371"/>
                  </a:cubicBezTo>
                  <a:cubicBezTo>
                    <a:pt x="1371" y="369"/>
                    <a:pt x="1355" y="364"/>
                    <a:pt x="1355" y="364"/>
                  </a:cubicBezTo>
                  <a:cubicBezTo>
                    <a:pt x="1341" y="355"/>
                    <a:pt x="1330" y="345"/>
                    <a:pt x="1314" y="340"/>
                  </a:cubicBezTo>
                  <a:cubicBezTo>
                    <a:pt x="1275" y="315"/>
                    <a:pt x="1227" y="304"/>
                    <a:pt x="1183" y="292"/>
                  </a:cubicBezTo>
                  <a:cubicBezTo>
                    <a:pt x="1157" y="274"/>
                    <a:pt x="1087" y="253"/>
                    <a:pt x="1056" y="244"/>
                  </a:cubicBezTo>
                  <a:cubicBezTo>
                    <a:pt x="1037" y="231"/>
                    <a:pt x="1017" y="213"/>
                    <a:pt x="995" y="206"/>
                  </a:cubicBezTo>
                  <a:cubicBezTo>
                    <a:pt x="941" y="170"/>
                    <a:pt x="884" y="157"/>
                    <a:pt x="820" y="144"/>
                  </a:cubicBezTo>
                  <a:cubicBezTo>
                    <a:pt x="785" y="137"/>
                    <a:pt x="751" y="119"/>
                    <a:pt x="714" y="117"/>
                  </a:cubicBezTo>
                  <a:cubicBezTo>
                    <a:pt x="676" y="115"/>
                    <a:pt x="562" y="111"/>
                    <a:pt x="522" y="110"/>
                  </a:cubicBezTo>
                  <a:cubicBezTo>
                    <a:pt x="500" y="104"/>
                    <a:pt x="478" y="93"/>
                    <a:pt x="456" y="89"/>
                  </a:cubicBezTo>
                  <a:cubicBezTo>
                    <a:pt x="442" y="86"/>
                    <a:pt x="415" y="83"/>
                    <a:pt x="415" y="83"/>
                  </a:cubicBezTo>
                  <a:cubicBezTo>
                    <a:pt x="380" y="69"/>
                    <a:pt x="342" y="63"/>
                    <a:pt x="306" y="52"/>
                  </a:cubicBezTo>
                  <a:cubicBezTo>
                    <a:pt x="287" y="39"/>
                    <a:pt x="267" y="21"/>
                    <a:pt x="244" y="14"/>
                  </a:cubicBezTo>
                  <a:cubicBezTo>
                    <a:pt x="234" y="7"/>
                    <a:pt x="225" y="5"/>
                    <a:pt x="213" y="0"/>
                  </a:cubicBezTo>
                  <a:cubicBezTo>
                    <a:pt x="171" y="4"/>
                    <a:pt x="134" y="20"/>
                    <a:pt x="93" y="24"/>
                  </a:cubicBezTo>
                  <a:cubicBezTo>
                    <a:pt x="61" y="31"/>
                    <a:pt x="32" y="35"/>
                    <a:pt x="0" y="35"/>
                  </a:cubicBezTo>
                  <a:lnTo>
                    <a:pt x="21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20470800">
            <a:off x="2345040" y="2925720"/>
            <a:ext cx="16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) "Nothing overmuch"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9072800">
            <a:off x="609840" y="266652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) "Any good books about this?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250400">
            <a:off x="1904400" y="4267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"Ah yes, really?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752400">
            <a:off x="1625040" y="38322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"What exactly are we talking about?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4765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) "But why?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346480"/>
            <a:ext cx="38098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Pinkie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the doubt finger). One of the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st defen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 mechanisms is 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thodical doub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nula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(the fact finger). 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 have to dig down until you reach the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viden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find the original sources,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ine the terms used in the discussion, quantify the observations, get it in writing, etc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Middle finger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the cause finger)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ience is deep, certain knowledge, 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knowledge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throug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aus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Index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the morality finger). How can you become wise, if you're too lazy to study, too proud to admit your mistakes, to drunk or drugged to thin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Thumb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the study finger). Why reinvent the wheel? You mus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ek out the best books that have been written on the topic, and study the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8:35:46Z</dcterms:created>
  <dc:creator>Stefan Jetchick</dc:creator>
  <dc:description/>
  <dc:language>en-US</dc:language>
  <cp:lastModifiedBy>Stefan Jetchick</cp:lastModifiedBy>
  <cp:lastPrinted>2010-04-07T19:37:04Z</cp:lastPrinted>
  <dcterms:modified xsi:type="dcterms:W3CDTF">2010-04-07T19:44:56Z</dcterms:modified>
  <cp:revision>34</cp:revision>
  <dc:subject/>
  <dc:title>PowerPoint Presentation</dc:title>
</cp:coreProperties>
</file>