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E3C-BC66-4BB1-BE48-81BC6FF3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677-4D4E-4AA7-8AB5-7CA55924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506-1A85-4816-8A3C-BEEB4E7E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922-AD9C-4DA2-BD82-5960EE20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AB1-E477-469C-A2DA-7CBED9A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03B-A98B-49C2-BCC7-E5C9A247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64A-B80B-4A6A-80BA-6C6EE2B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328-8BBA-4AB0-AD17-7EC24888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DE2-4AF2-4CFE-8522-2F8DD11F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DD6-E45E-43C2-8B8C-DCE99047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0F6-9E72-41E9-82AF-69DC5FD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CC0-481E-4E8E-9A25-FDA2C5C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FB9C-27B8-4206-9ED3-CC795F63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286000"/>
            <a:ext cx="1295280" cy="2209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200400"/>
            <a:ext cx="1447560" cy="380880"/>
          </a:xfrm>
          <a:prstGeom prst="cube">
            <a:avLst>
              <a:gd name="adj" fmla="val 8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286000"/>
            <a:ext cx="1447560" cy="380880"/>
          </a:xfrm>
          <a:prstGeom prst="cube">
            <a:avLst>
              <a:gd name="adj" fmla="val 8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2286000"/>
            <a:ext cx="1295280" cy="2209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4"/>
            <a:endCxn id="43" idx="0"/>
          </p:cNvCxnSpPr>
          <p:nvPr/>
        </p:nvCxnSpPr>
        <p:spPr>
          <a:xfrm flipH="1">
            <a:off x="4160880" y="2057400"/>
            <a:ext cx="297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6002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6"/>
            <a:endCxn id="41" idx="2"/>
          </p:cNvCxnSpPr>
          <p:nvPr/>
        </p:nvCxnSpPr>
        <p:spPr>
          <a:xfrm>
            <a:off x="1981080" y="3390840"/>
            <a:ext cx="3052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6:01:36Z</dcterms:created>
  <dc:creator> </dc:creator>
  <dc:description/>
  <dc:language>en-US</dc:language>
  <cp:lastModifiedBy> </cp:lastModifiedBy>
  <dcterms:modified xsi:type="dcterms:W3CDTF">2013-05-27T16:19:48Z</dcterms:modified>
  <cp:revision>2</cp:revision>
  <dc:subject/>
  <dc:title>PowerPoint Presentation</dc:title>
</cp:coreProperties>
</file>