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6D4-7481-4024-9814-D5A70045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6E8-CB67-4AC9-B76D-4EB229AF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BDF-526F-41D3-956B-26ADF24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5DF-F575-41E9-8EDB-6DBE8A67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1A8-4AE5-486B-8476-A8B7A8EB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C18-3F1D-441D-9A59-F3543BB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000-947B-43D8-BCB2-8C189D96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768-2F1E-45DC-86CB-1D542B00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8A9-9AE2-436E-A71F-491EF96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858-E1F0-4F00-A647-98107984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98B-66CC-449E-B465-1EEAB08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F58-507F-41A7-9E33-9E656B1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741-38F2-41B2-B065-5625DA572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rrow5" descr=""/>
          <p:cNvPicPr/>
          <p:nvPr/>
        </p:nvPicPr>
        <p:blipFill>
          <a:blip r:embed="rId1"/>
          <a:stretch/>
        </p:blipFill>
        <p:spPr>
          <a:xfrm>
            <a:off x="3886200" y="533520"/>
            <a:ext cx="3035160" cy="4481280"/>
          </a:xfrm>
          <a:prstGeom prst="rect">
            <a:avLst/>
          </a:prstGeom>
          <a:ln w="0">
            <a:noFill/>
          </a:ln>
        </p:spPr>
      </p:pic>
      <p:pic>
        <p:nvPicPr>
          <p:cNvPr id="42" name="glory5" descr=""/>
          <p:cNvPicPr/>
          <p:nvPr/>
        </p:nvPicPr>
        <p:blipFill>
          <a:blip r:embed="rId2"/>
          <a:stretch/>
        </p:blipFill>
        <p:spPr>
          <a:xfrm>
            <a:off x="6002280" y="2198520"/>
            <a:ext cx="2303640" cy="3287880"/>
          </a:xfrm>
          <a:prstGeom prst="rect">
            <a:avLst/>
          </a:prstGeom>
          <a:ln w="0">
            <a:noFill/>
          </a:ln>
        </p:spPr>
      </p:pic>
      <p:pic>
        <p:nvPicPr>
          <p:cNvPr id="43" name="sorrow5" descr=""/>
          <p:cNvPicPr/>
          <p:nvPr/>
        </p:nvPicPr>
        <p:blipFill>
          <a:blip r:embed="rId3"/>
          <a:stretch/>
        </p:blipFill>
        <p:spPr>
          <a:xfrm>
            <a:off x="2997360" y="990720"/>
            <a:ext cx="3035160" cy="44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2209680"/>
            <a:ext cx="114912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910520" y="2209680"/>
            <a:ext cx="114804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057560"/>
            <a:ext cx="22971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1760" y="4057560"/>
            <a:ext cx="22953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533520"/>
            <a:ext cx="146196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20520" y="533520"/>
            <a:ext cx="146052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108240"/>
            <a:ext cx="2922480" cy="314028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472000"/>
            <a:ext cx="751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7400" y="542592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mnes 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t sub P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2920" y="5638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d Je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35560" y="56386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er Mar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3200" y="2209680"/>
            <a:ext cx="11494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132680" y="2209680"/>
            <a:ext cx="11476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162920" y="2108160"/>
            <a:ext cx="1231920" cy="2019240"/>
          </a:xfrm>
          <a:custGeom>
            <a:avLst/>
            <a:gdLst/>
            <a:ahLst/>
            <a:rect l="l" t="t" r="r" b="b"/>
            <a:pathLst>
              <a:path w="776" h="1272">
                <a:moveTo>
                  <a:pt x="0" y="1272"/>
                </a:moveTo>
                <a:cubicBezTo>
                  <a:pt x="27" y="1155"/>
                  <a:pt x="31" y="780"/>
                  <a:pt x="160" y="568"/>
                </a:cubicBezTo>
                <a:cubicBezTo>
                  <a:pt x="289" y="356"/>
                  <a:pt x="648" y="118"/>
                  <a:pt x="77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44400" y="2158920"/>
            <a:ext cx="1041480" cy="1041480"/>
          </a:xfrm>
          <a:custGeom>
            <a:avLst/>
            <a:gdLst/>
            <a:ahLst/>
            <a:rect l="l" t="t" r="r" b="b"/>
            <a:pathLst>
              <a:path w="656" h="656">
                <a:moveTo>
                  <a:pt x="656" y="656"/>
                </a:moveTo>
                <a:cubicBezTo>
                  <a:pt x="617" y="600"/>
                  <a:pt x="533" y="429"/>
                  <a:pt x="424" y="320"/>
                </a:cubicBezTo>
                <a:cubicBezTo>
                  <a:pt x="315" y="211"/>
                  <a:pt x="88" y="67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516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52052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20px-Ombrellino-keys.svg" descr=""/>
          <p:cNvPicPr/>
          <p:nvPr/>
        </p:nvPicPr>
        <p:blipFill>
          <a:blip r:embed="rId4"/>
          <a:stretch/>
        </p:blipFill>
        <p:spPr>
          <a:xfrm>
            <a:off x="1087560" y="2405160"/>
            <a:ext cx="1655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00_200_0df92967eef63d60ebd3f57931c05dbb-1363203329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sorrow5" descr=""/>
          <p:cNvPicPr/>
          <p:nvPr/>
        </p:nvPicPr>
        <p:blipFill>
          <a:blip r:embed="rId2"/>
          <a:stretch/>
        </p:blipFill>
        <p:spPr>
          <a:xfrm>
            <a:off x="3886200" y="533520"/>
            <a:ext cx="3035160" cy="4481280"/>
          </a:xfrm>
          <a:prstGeom prst="rect">
            <a:avLst/>
          </a:prstGeom>
          <a:ln w="0">
            <a:noFill/>
          </a:ln>
        </p:spPr>
      </p:pic>
      <p:pic>
        <p:nvPicPr>
          <p:cNvPr id="64" name="glory5" descr=""/>
          <p:cNvPicPr/>
          <p:nvPr/>
        </p:nvPicPr>
        <p:blipFill>
          <a:blip r:embed="rId3"/>
          <a:stretch/>
        </p:blipFill>
        <p:spPr>
          <a:xfrm>
            <a:off x="6002280" y="2198520"/>
            <a:ext cx="2303640" cy="3287880"/>
          </a:xfrm>
          <a:prstGeom prst="rect">
            <a:avLst/>
          </a:prstGeom>
          <a:ln w="0">
            <a:noFill/>
          </a:ln>
        </p:spPr>
      </p:pic>
      <p:pic>
        <p:nvPicPr>
          <p:cNvPr id="65" name="sorrow5" descr=""/>
          <p:cNvPicPr/>
          <p:nvPr/>
        </p:nvPicPr>
        <p:blipFill>
          <a:blip r:embed="rId4"/>
          <a:stretch/>
        </p:blipFill>
        <p:spPr>
          <a:xfrm>
            <a:off x="2997360" y="990720"/>
            <a:ext cx="3035160" cy="44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2209680"/>
            <a:ext cx="114912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10520" y="2209680"/>
            <a:ext cx="114804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057560"/>
            <a:ext cx="22971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81760" y="4057560"/>
            <a:ext cx="22953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533520"/>
            <a:ext cx="146196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20520" y="533520"/>
            <a:ext cx="146052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3108240"/>
            <a:ext cx="2922480" cy="314028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472000"/>
            <a:ext cx="751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400" y="542592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mnes 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t sub P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22920" y="5638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d Je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560" y="56386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er Mar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83200" y="2209680"/>
            <a:ext cx="11494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132680" y="2209680"/>
            <a:ext cx="11476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0240" y="2095560"/>
            <a:ext cx="1231920" cy="2019240"/>
          </a:xfrm>
          <a:custGeom>
            <a:avLst/>
            <a:gdLst/>
            <a:ahLst/>
            <a:rect l="l" t="t" r="r" b="b"/>
            <a:pathLst>
              <a:path w="776" h="1272">
                <a:moveTo>
                  <a:pt x="0" y="1272"/>
                </a:moveTo>
                <a:cubicBezTo>
                  <a:pt x="27" y="1155"/>
                  <a:pt x="31" y="780"/>
                  <a:pt x="160" y="568"/>
                </a:cubicBezTo>
                <a:cubicBezTo>
                  <a:pt x="289" y="356"/>
                  <a:pt x="648" y="118"/>
                  <a:pt x="77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0320" y="2120760"/>
            <a:ext cx="1041480" cy="1041480"/>
          </a:xfrm>
          <a:custGeom>
            <a:avLst/>
            <a:gdLst/>
            <a:ahLst/>
            <a:rect l="l" t="t" r="r" b="b"/>
            <a:pathLst>
              <a:path w="656" h="656">
                <a:moveTo>
                  <a:pt x="656" y="656"/>
                </a:moveTo>
                <a:cubicBezTo>
                  <a:pt x="617" y="600"/>
                  <a:pt x="533" y="429"/>
                  <a:pt x="424" y="320"/>
                </a:cubicBezTo>
                <a:cubicBezTo>
                  <a:pt x="315" y="211"/>
                  <a:pt x="88" y="67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62920" y="2108160"/>
            <a:ext cx="1231920" cy="2019240"/>
          </a:xfrm>
          <a:custGeom>
            <a:avLst/>
            <a:gdLst/>
            <a:ahLst/>
            <a:rect l="l" t="t" r="r" b="b"/>
            <a:pathLst>
              <a:path w="776" h="1272">
                <a:moveTo>
                  <a:pt x="0" y="1272"/>
                </a:moveTo>
                <a:cubicBezTo>
                  <a:pt x="27" y="1155"/>
                  <a:pt x="31" y="780"/>
                  <a:pt x="160" y="568"/>
                </a:cubicBezTo>
                <a:cubicBezTo>
                  <a:pt x="289" y="356"/>
                  <a:pt x="648" y="118"/>
                  <a:pt x="77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44400" y="2158920"/>
            <a:ext cx="1041480" cy="1041480"/>
          </a:xfrm>
          <a:custGeom>
            <a:avLst/>
            <a:gdLst/>
            <a:ahLst/>
            <a:rect l="l" t="t" r="r" b="b"/>
            <a:pathLst>
              <a:path w="656" h="656">
                <a:moveTo>
                  <a:pt x="656" y="656"/>
                </a:moveTo>
                <a:cubicBezTo>
                  <a:pt x="617" y="600"/>
                  <a:pt x="533" y="429"/>
                  <a:pt x="424" y="320"/>
                </a:cubicBezTo>
                <a:cubicBezTo>
                  <a:pt x="315" y="211"/>
                  <a:pt x="88" y="67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516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2052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9880" y="190512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952880"/>
            <a:ext cx="510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286000"/>
            <a:ext cx="510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2860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3200" y="4616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hemin Saint-Lou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4280" y="19051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levard Lau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184920" y="371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44956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276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3800" y="29401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pp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720" y="415908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ergerville (Saint-Mich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33840" y="4597560"/>
            <a:ext cx="228600" cy="217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9680" y="5181480"/>
            <a:ext cx="23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1450, Des 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Grands-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1"/>
            <a:endCxn id="96" idx="0"/>
          </p:cNvCxnSpPr>
          <p:nvPr/>
        </p:nvCxnSpPr>
        <p:spPr>
          <a:xfrm rot="10800000">
            <a:off x="4577760" y="4814280"/>
            <a:ext cx="597600" cy="535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592360" y="1066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768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257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28440" y="1257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344040" y="3363120"/>
            <a:ext cx="172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Grands-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27432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suré/Cens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304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572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04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9907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04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335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808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304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85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9144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133720" y="1523880"/>
            <a:ext cx="4952880" cy="1600200"/>
            <a:chOff x="2133720" y="1523880"/>
            <a:chExt cx="4952880" cy="1600200"/>
          </a:xfrm>
        </p:grpSpPr>
        <p:sp>
          <p:nvSpPr>
            <p:cNvPr id="118" name=""/>
            <p:cNvSpPr/>
            <p:nvPr/>
          </p:nvSpPr>
          <p:spPr>
            <a:xfrm flipV="1">
              <a:off x="2133720" y="1904760"/>
              <a:ext cx="4952880" cy="838080"/>
            </a:xfrm>
            <a:custGeom>
              <a:avLst/>
              <a:gdLst>
                <a:gd name="textAreaLeft" fmla="*/ 1089000 w 4952880"/>
                <a:gd name="textAreaRight" fmla="*/ 3863880 w 4952880"/>
                <a:gd name="textAreaTop" fmla="*/ 184320 h 838080"/>
                <a:gd name="textAreaBottom" fmla="*/ 653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523880"/>
              <a:ext cx="2514600" cy="533520"/>
            </a:xfrm>
            <a:prstGeom prst="can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1523880"/>
              <a:ext cx="2514600" cy="27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720" y="2438280"/>
              <a:ext cx="4952880" cy="68580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0000" y="2362320"/>
              <a:ext cx="455940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248520" y="1143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1447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124080" y="3505320"/>
            <a:ext cx="2971800" cy="990360"/>
            <a:chOff x="3124080" y="3505320"/>
            <a:chExt cx="2971800" cy="990360"/>
          </a:xfrm>
        </p:grpSpPr>
        <p:sp>
          <p:nvSpPr>
            <p:cNvPr id="126" name=""/>
            <p:cNvSpPr/>
            <p:nvPr/>
          </p:nvSpPr>
          <p:spPr>
            <a:xfrm flipV="1">
              <a:off x="3124080" y="3741120"/>
              <a:ext cx="2971800" cy="518400"/>
            </a:xfrm>
            <a:custGeom>
              <a:avLst/>
              <a:gdLst>
                <a:gd name="textAreaLeft" fmla="*/ 653400 w 2971800"/>
                <a:gd name="textAreaRight" fmla="*/ 2318400 w 2971800"/>
                <a:gd name="textAreaTop" fmla="*/ 113760 h 518400"/>
                <a:gd name="textAreaBottom" fmla="*/ 404640 h 51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5240" y="3505320"/>
              <a:ext cx="1508760" cy="330120"/>
            </a:xfrm>
            <a:prstGeom prst="can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5240" y="3505320"/>
              <a:ext cx="1508760" cy="167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071240"/>
              <a:ext cx="2971800" cy="4244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7560" y="4024080"/>
              <a:ext cx="2735640" cy="376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57600" y="4952880"/>
            <a:ext cx="1828800" cy="609840"/>
            <a:chOff x="3657600" y="4952880"/>
            <a:chExt cx="1828800" cy="609840"/>
          </a:xfrm>
        </p:grpSpPr>
        <p:sp>
          <p:nvSpPr>
            <p:cNvPr id="132" name=""/>
            <p:cNvSpPr/>
            <p:nvPr/>
          </p:nvSpPr>
          <p:spPr>
            <a:xfrm flipV="1">
              <a:off x="3657600" y="5097240"/>
              <a:ext cx="1828800" cy="319320"/>
            </a:xfrm>
            <a:custGeom>
              <a:avLst/>
              <a:gdLst>
                <a:gd name="textAreaLeft" fmla="*/ 402120 w 1828800"/>
                <a:gd name="textAreaRight" fmla="*/ 1426680 w 1828800"/>
                <a:gd name="textAreaTop" fmla="*/ 70200 h 319320"/>
                <a:gd name="textAreaBottom" fmla="*/ 249120 h 3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07600" y="4952880"/>
              <a:ext cx="928440" cy="203400"/>
            </a:xfrm>
            <a:prstGeom prst="can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7600" y="4952880"/>
              <a:ext cx="928440" cy="103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5301360"/>
              <a:ext cx="1828800" cy="2613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560" y="5272200"/>
              <a:ext cx="1683720" cy="23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800600" y="3352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724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5867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59436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447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6:19:35Z</dcterms:created>
  <dc:creator>Stefan Jetchick</dc:creator>
  <dc:description/>
  <dc:language>en-US</dc:language>
  <cp:lastModifiedBy> </cp:lastModifiedBy>
  <dcterms:modified xsi:type="dcterms:W3CDTF">2013-03-13T23:01:41Z</dcterms:modified>
  <cp:revision>12</cp:revision>
  <dc:subject/>
  <dc:title>PowerPoint Presentation</dc:title>
</cp:coreProperties>
</file>