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1AF-55F4-42C4-B918-00D99608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41D-DE3A-402B-BCB7-7C8F9694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1A7-B913-477C-9B28-40621550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A06-C80C-4B11-9ABF-E13D6AEE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AC1-5471-43A5-B2D5-69689CC6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3875-43FB-45AD-9319-E7E03DCE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00D-0AE8-4FEC-AE15-6A38D772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CCA-34A2-4EF9-9274-A6B2FE71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ECC-4519-4571-AEFA-CDB8D68F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FDE-C72D-45D6-9859-6EA30308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7AE-0C16-4234-A5A7-2C7446CD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4C2-D454-46D3-9245-BE8FA332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D94A-94F1-4887-8130-84FBBA1F1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480" y="2209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838080"/>
            <a:ext cx="76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05240" y="7113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nglican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85800" cy="711000"/>
          </a:xfrm>
          <a:prstGeom prst="rect">
            <a:avLst/>
          </a:prstGeom>
          <a:ln w="0">
            <a:noFill/>
          </a:ln>
        </p:spPr>
      </p:pic>
      <p:pic>
        <p:nvPicPr>
          <p:cNvPr id="45" name="medio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SSPX" descr=""/>
          <p:cNvPicPr/>
          <p:nvPr/>
        </p:nvPicPr>
        <p:blipFill>
          <a:blip r:embed="rId3"/>
          <a:stretch/>
        </p:blipFill>
        <p:spPr>
          <a:xfrm>
            <a:off x="6019920" y="1981080"/>
            <a:ext cx="618840" cy="6127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393440" y="839880"/>
            <a:ext cx="1321560" cy="1789200"/>
            <a:chOff x="4393440" y="839880"/>
            <a:chExt cx="1321560" cy="1789200"/>
          </a:xfrm>
        </p:grpSpPr>
        <p:sp>
          <p:nvSpPr>
            <p:cNvPr id="48" name=""/>
            <p:cNvSpPr/>
            <p:nvPr/>
          </p:nvSpPr>
          <p:spPr>
            <a:xfrm>
              <a:off x="5029200" y="19432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9611000">
              <a:off x="4762080" y="748800"/>
              <a:ext cx="763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022560" y="827280"/>
            <a:ext cx="1321200" cy="1788480"/>
            <a:chOff x="3022560" y="827280"/>
            <a:chExt cx="1321200" cy="1788480"/>
          </a:xfrm>
        </p:grpSpPr>
        <p:sp>
          <p:nvSpPr>
            <p:cNvPr id="51" name=""/>
            <p:cNvSpPr/>
            <p:nvPr/>
          </p:nvSpPr>
          <p:spPr>
            <a:xfrm flipH="1">
              <a:off x="3022200" y="1930320"/>
              <a:ext cx="685800" cy="68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989000">
              <a:off x="3897360" y="735840"/>
              <a:ext cx="763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" name=""/>
          <p:cNvCxnSpPr/>
          <p:nvPr/>
        </p:nvCxnSpPr>
        <p:spPr>
          <a:xfrm flipH="1" rot="16200000">
            <a:off x="2866680" y="2161080"/>
            <a:ext cx="780120" cy="1639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54" name=""/>
          <p:cNvCxnSpPr>
            <a:stCxn id="45" idx="3"/>
            <a:endCxn id="46" idx="2"/>
          </p:cNvCxnSpPr>
          <p:nvPr/>
        </p:nvCxnSpPr>
        <p:spPr>
          <a:xfrm flipV="1">
            <a:off x="4657680" y="2593800"/>
            <a:ext cx="1671840" cy="802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80440" y="3625920"/>
            <a:ext cx="292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uments officiels de Vatican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Le juste milie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4440" y="114300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étation t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à droite (FSSP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25760" y="990720"/>
            <a:ext cx="182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étation t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à gau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rypto-protest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38480" y="2209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838080"/>
            <a:ext cx="76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5240" y="7113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nglican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85800" cy="711000"/>
          </a:xfrm>
          <a:prstGeom prst="rect">
            <a:avLst/>
          </a:prstGeom>
          <a:ln w="0">
            <a:noFill/>
          </a:ln>
        </p:spPr>
      </p:pic>
      <p:pic>
        <p:nvPicPr>
          <p:cNvPr id="62" name="medio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3" name="SSPX" descr=""/>
          <p:cNvPicPr/>
          <p:nvPr/>
        </p:nvPicPr>
        <p:blipFill>
          <a:blip r:embed="rId3"/>
          <a:stretch/>
        </p:blipFill>
        <p:spPr>
          <a:xfrm>
            <a:off x="6019920" y="1981080"/>
            <a:ext cx="618840" cy="61272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4393440" y="839880"/>
            <a:ext cx="1321560" cy="1789200"/>
            <a:chOff x="4393440" y="839880"/>
            <a:chExt cx="1321560" cy="1789200"/>
          </a:xfrm>
        </p:grpSpPr>
        <p:sp>
          <p:nvSpPr>
            <p:cNvPr id="65" name=""/>
            <p:cNvSpPr/>
            <p:nvPr/>
          </p:nvSpPr>
          <p:spPr>
            <a:xfrm>
              <a:off x="5029200" y="19432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9611000">
              <a:off x="4762080" y="748800"/>
              <a:ext cx="763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22560" y="827280"/>
            <a:ext cx="1321200" cy="1788480"/>
            <a:chOff x="3022560" y="827280"/>
            <a:chExt cx="1321200" cy="1788480"/>
          </a:xfrm>
        </p:grpSpPr>
        <p:sp>
          <p:nvSpPr>
            <p:cNvPr id="68" name=""/>
            <p:cNvSpPr/>
            <p:nvPr/>
          </p:nvSpPr>
          <p:spPr>
            <a:xfrm flipH="1">
              <a:off x="3022200" y="1930320"/>
              <a:ext cx="685800" cy="68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989000">
              <a:off x="3897360" y="735840"/>
              <a:ext cx="763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" name=""/>
          <p:cNvCxnSpPr/>
          <p:nvPr/>
        </p:nvCxnSpPr>
        <p:spPr>
          <a:xfrm flipH="1" rot="16200000">
            <a:off x="2866680" y="2161080"/>
            <a:ext cx="780120" cy="1639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2" idx="3"/>
            <a:endCxn id="63" idx="2"/>
          </p:cNvCxnSpPr>
          <p:nvPr/>
        </p:nvCxnSpPr>
        <p:spPr>
          <a:xfrm flipV="1">
            <a:off x="4657680" y="2593080"/>
            <a:ext cx="1672560" cy="8024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120120" y="3625920"/>
            <a:ext cx="26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ficial Vatican II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e Golden M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45440" y="1143000"/>
            <a:ext cx="187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etation too f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the right (SSP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5240" y="990720"/>
            <a:ext cx="18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etation too f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the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rypto-Protest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22:04:04Z</dcterms:created>
  <dc:creator>Stefan Jetchick</dc:creator>
  <dc:description/>
  <dc:language>en-US</dc:language>
  <cp:lastModifiedBy>Stefan Jetchick</cp:lastModifiedBy>
  <dcterms:modified xsi:type="dcterms:W3CDTF">2006-03-24T03:03:48Z</dcterms:modified>
  <cp:revision>5</cp:revision>
  <dc:subject/>
  <dc:title>PowerPoint Presentation</dc:title>
</cp:coreProperties>
</file>