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369-4D16-4F16-A9F1-C341F2A6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962-3D02-4FC3-8C7D-B02B67A5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14D-BC5A-4358-8631-5669A8FC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7A0-8C10-4049-8C25-21A8A9C8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985-96A9-40D8-8263-22B2904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98E-FCBD-4CBD-A7A2-14F3C71A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FA2-2333-4DB2-B838-584CCFAC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917-8FAE-4B77-A43F-62894FC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A92-1BEA-46F0-BB47-19AFD781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F65-E517-4D11-8B80-E0B3C0C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435-369F-43A5-8777-B161833A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3BA-9D71-411A-8CE6-4E85373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BA4-A77F-4CA6-BE1E-ADFF21C4F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44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ale mono </a:t>
            </a:r>
            <a:r>
              <a:rPr b="0" lang="fr-CA" sz="1400" spc="-1" strike="noStrike">
                <a:solidFill>
                  <a:srgbClr val="ff0000"/>
                </a:solidFill>
                <a:latin typeface="Times New Roman"/>
              </a:rPr>
              <a:t>["Interpretation Console Jack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1" idx="2"/>
            <a:endCxn id="43" idx="0"/>
          </p:cNvCxnSpPr>
          <p:nvPr/>
        </p:nvCxnSpPr>
        <p:spPr>
          <a:xfrm flipH="1">
            <a:off x="1409760" y="1251720"/>
            <a:ext cx="1409760" cy="42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" name=""/>
          <p:cNvGrpSpPr/>
          <p:nvPr/>
        </p:nvGrpSpPr>
        <p:grpSpPr>
          <a:xfrm>
            <a:off x="1066680" y="2197080"/>
            <a:ext cx="456840" cy="76320"/>
            <a:chOff x="1066680" y="2197080"/>
            <a:chExt cx="456840" cy="76320"/>
          </a:xfrm>
        </p:grpSpPr>
        <p:sp>
          <p:nvSpPr>
            <p:cNvPr id="45" name=""/>
            <p:cNvSpPr/>
            <p:nvPr/>
          </p:nvSpPr>
          <p:spPr>
            <a:xfrm>
              <a:off x="1238040" y="2197080"/>
              <a:ext cx="28548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66680" y="2222280"/>
              <a:ext cx="171360" cy="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23800" y="27129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Male stereo ["Williams Sound console jack"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0"/>
          </p:cNvCxnSpPr>
          <p:nvPr/>
        </p:nvCxnSpPr>
        <p:spPr>
          <a:xfrm flipH="1" flipV="1">
            <a:off x="1447200" y="2361960"/>
            <a:ext cx="72000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34120" y="5440320"/>
            <a:ext cx="32781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ale stereo (90 degree angle is nic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0000"/>
                </a:solidFill>
                <a:latin typeface="Times New Roman"/>
              </a:rPr>
              <a:t>["Compressor Jack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0"/>
            <a:endCxn id="51" idx="2"/>
          </p:cNvCxnSpPr>
          <p:nvPr/>
        </p:nvCxnSpPr>
        <p:spPr>
          <a:xfrm flipV="1">
            <a:off x="6973200" y="4906800"/>
            <a:ext cx="902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 flipV="1">
            <a:off x="7772400" y="17823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782720"/>
            <a:ext cx="617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9810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Just take the tip from the stereo Williams Sound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 flipH="1" flipV="1">
            <a:off x="2056680" y="205668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flipV="1">
            <a:off x="7696080" y="193500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41880" y="2057400"/>
            <a:ext cx="15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 to the ring of the compressor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7" idx="2"/>
          </p:cNvCxnSpPr>
          <p:nvPr/>
        </p:nvCxnSpPr>
        <p:spPr>
          <a:xfrm>
            <a:off x="6831000" y="2516400"/>
            <a:ext cx="78984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238400" y="3241800"/>
            <a:ext cx="28548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12720" y="223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82880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3500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62520" y="19346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8464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572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Female mono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0"/>
          </p:cNvCxnSpPr>
          <p:nvPr/>
        </p:nvCxnSpPr>
        <p:spPr>
          <a:xfrm flipH="1" flipV="1">
            <a:off x="1539360" y="4342680"/>
            <a:ext cx="28980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80880" y="3505320"/>
            <a:ext cx="3353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Female stereo (tip and ring on same cable) </a:t>
            </a:r>
            <a:r>
              <a:rPr b="0" lang="fr-CA" sz="1400" spc="-1" strike="noStrike">
                <a:solidFill>
                  <a:srgbClr val="ff0000"/>
                </a:solidFill>
                <a:latin typeface="Times New Roman"/>
              </a:rPr>
              <a:t>["Headphone Jack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12720" y="4146480"/>
            <a:ext cx="24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65320" y="4038480"/>
            <a:ext cx="380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31624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1"/>
            <a:endCxn id="72" idx="0"/>
          </p:cNvCxnSpPr>
          <p:nvPr/>
        </p:nvCxnSpPr>
        <p:spPr>
          <a:xfrm flipH="1" flipV="1">
            <a:off x="4267080" y="2086920"/>
            <a:ext cx="426240" cy="27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267080" y="170640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2973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4" idx="0"/>
          </p:cNvCxnSpPr>
          <p:nvPr/>
        </p:nvCxnSpPr>
        <p:spPr>
          <a:xfrm flipV="1">
            <a:off x="6858000" y="4297320"/>
            <a:ext cx="686160" cy="27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 rot="16200000">
            <a:off x="2286000" y="3458880"/>
            <a:ext cx="457200" cy="3353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03120" y="2286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chematic for Audio Compresso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440320"/>
            <a:ext cx="33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Try to keep distances short between Point A and all connectors, to avoid having an octopus-like blob of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3526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etween Points A and B, just one cable, about 4 feet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/>
          <p:nvPr/>
        </p:nvCxnSpPr>
        <p:spPr>
          <a:xfrm flipV="1">
            <a:off x="1371240" y="3351960"/>
            <a:ext cx="54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486400" y="99072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 to the tip of the compressor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2"/>
          </p:cNvCxnSpPr>
          <p:nvPr/>
        </p:nvCxnSpPr>
        <p:spPr>
          <a:xfrm flipH="1">
            <a:off x="5866560" y="1449720"/>
            <a:ext cx="8013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4" name=""/>
          <p:cNvGrpSpPr/>
          <p:nvPr/>
        </p:nvGrpSpPr>
        <p:grpSpPr>
          <a:xfrm>
            <a:off x="7685280" y="4678200"/>
            <a:ext cx="609480" cy="228600"/>
            <a:chOff x="7685280" y="4678200"/>
            <a:chExt cx="609480" cy="228600"/>
          </a:xfrm>
        </p:grpSpPr>
        <p:sp>
          <p:nvSpPr>
            <p:cNvPr id="51" name=""/>
            <p:cNvSpPr/>
            <p:nvPr/>
          </p:nvSpPr>
          <p:spPr>
            <a:xfrm flipH="1">
              <a:off x="7685280" y="467820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065800" y="475416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46200" y="4083120"/>
            <a:ext cx="2263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276720"/>
            <a:ext cx="0" cy="81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35040" y="18399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90720" y="1676520"/>
            <a:ext cx="609480" cy="228600"/>
            <a:chOff x="990720" y="1676520"/>
            <a:chExt cx="609480" cy="228600"/>
          </a:xfrm>
        </p:grpSpPr>
        <p:sp>
          <p:nvSpPr>
            <p:cNvPr id="43" name=""/>
            <p:cNvSpPr/>
            <p:nvPr/>
          </p:nvSpPr>
          <p:spPr>
            <a:xfrm>
              <a:off x="1219320" y="167652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7524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" name=""/>
          <p:cNvCxnSpPr>
            <a:stCxn id="80" idx="0"/>
            <a:endCxn id="70" idx="5"/>
          </p:cNvCxnSpPr>
          <p:nvPr/>
        </p:nvCxnSpPr>
        <p:spPr>
          <a:xfrm flipH="1" flipV="1">
            <a:off x="4908240" y="2576160"/>
            <a:ext cx="8830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75" idx="2"/>
          </p:cNvCxnSpPr>
          <p:nvPr/>
        </p:nvCxnSpPr>
        <p:spPr>
          <a:xfrm>
            <a:off x="5790960" y="3811680"/>
            <a:ext cx="762480" cy="76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944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 m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1409400" y="1219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" name=""/>
          <p:cNvGrpSpPr/>
          <p:nvPr/>
        </p:nvGrpSpPr>
        <p:grpSpPr>
          <a:xfrm>
            <a:off x="1066680" y="2197080"/>
            <a:ext cx="456840" cy="76320"/>
            <a:chOff x="1066680" y="2197080"/>
            <a:chExt cx="456840" cy="76320"/>
          </a:xfrm>
        </p:grpSpPr>
        <p:sp>
          <p:nvSpPr>
            <p:cNvPr id="97" name=""/>
            <p:cNvSpPr/>
            <p:nvPr/>
          </p:nvSpPr>
          <p:spPr>
            <a:xfrm>
              <a:off x="1238040" y="2197080"/>
              <a:ext cx="28548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6680" y="2222280"/>
              <a:ext cx="171360" cy="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04960" y="2631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M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0"/>
            <a:endCxn id="97" idx="2"/>
          </p:cNvCxnSpPr>
          <p:nvPr/>
        </p:nvCxnSpPr>
        <p:spPr>
          <a:xfrm flipV="1">
            <a:off x="1375920" y="2273400"/>
            <a:ext cx="54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153200" y="5440320"/>
            <a:ext cx="145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coudé si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0"/>
            <a:endCxn id="103" idx="2"/>
          </p:cNvCxnSpPr>
          <p:nvPr/>
        </p:nvCxnSpPr>
        <p:spPr>
          <a:xfrm flipH="1" flipV="1">
            <a:off x="7875360" y="4905000"/>
            <a:ext cx="86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 flipV="1">
            <a:off x="7772400" y="17823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782720"/>
            <a:ext cx="617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9446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rendre seulement le "tip" du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001600" y="1357200"/>
            <a:ext cx="838800" cy="65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V="1">
            <a:off x="7696080" y="193500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6200" y="3459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er au "ring" du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2"/>
          </p:cNvCxnSpPr>
          <p:nvPr/>
        </p:nvCxnSpPr>
        <p:spPr>
          <a:xfrm>
            <a:off x="6873480" y="3916080"/>
            <a:ext cx="80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238400" y="3241800"/>
            <a:ext cx="28548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12720" y="223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82880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1935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19346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28464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5240" y="4589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F m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1366560" y="4230000"/>
            <a:ext cx="54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0880" y="35053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F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"tip" et "ring" sur même f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12720" y="4146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5320" y="4003560"/>
            <a:ext cx="380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31624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24" idx="0"/>
          </p:cNvCxnSpPr>
          <p:nvPr/>
        </p:nvCxnSpPr>
        <p:spPr>
          <a:xfrm flipH="1" flipV="1">
            <a:off x="2971080" y="2115720"/>
            <a:ext cx="22932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971800" y="170640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2973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3611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4"/>
            <a:endCxn id="126" idx="0"/>
          </p:cNvCxnSpPr>
          <p:nvPr/>
        </p:nvCxnSpPr>
        <p:spPr>
          <a:xfrm flipH="1">
            <a:off x="7951680" y="3916440"/>
            <a:ext cx="2782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 rot="16200000">
            <a:off x="1600200" y="4068720"/>
            <a:ext cx="457200" cy="2133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8080" y="22860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chéma de filage pour cable de compresseur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4403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"Bouquet de connecteurs" le moins "tentaculaire" possible (distances courtes entre connecteurs et point 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51664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ntre points A et B, un seul cable, d'une longueur d'environ 4 pi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62784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Stefan Jetchick, 418-922-7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/>
          <p:nvPr/>
        </p:nvCxnSpPr>
        <p:spPr>
          <a:xfrm flipV="1">
            <a:off x="1371240" y="3351960"/>
            <a:ext cx="54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772400" y="2209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er au "tip" du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2"/>
          </p:cNvCxnSpPr>
          <p:nvPr/>
        </p:nvCxnSpPr>
        <p:spPr>
          <a:xfrm flipH="1">
            <a:off x="7783200" y="2666520"/>
            <a:ext cx="637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" name=""/>
          <p:cNvGrpSpPr/>
          <p:nvPr/>
        </p:nvGrpSpPr>
        <p:grpSpPr>
          <a:xfrm>
            <a:off x="7685280" y="4678200"/>
            <a:ext cx="609480" cy="228600"/>
            <a:chOff x="7685280" y="4678200"/>
            <a:chExt cx="609480" cy="228600"/>
          </a:xfrm>
        </p:grpSpPr>
        <p:sp>
          <p:nvSpPr>
            <p:cNvPr id="103" name=""/>
            <p:cNvSpPr/>
            <p:nvPr/>
          </p:nvSpPr>
          <p:spPr>
            <a:xfrm flipH="1">
              <a:off x="7685280" y="467820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065800" y="475416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46200" y="4083120"/>
            <a:ext cx="90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276720"/>
            <a:ext cx="0" cy="81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5040" y="18399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1676520"/>
            <a:ext cx="609480" cy="228600"/>
            <a:chOff x="990720" y="1676520"/>
            <a:chExt cx="609480" cy="228600"/>
          </a:xfrm>
        </p:grpSpPr>
        <p:sp>
          <p:nvSpPr>
            <p:cNvPr id="95" name=""/>
            <p:cNvSpPr/>
            <p:nvPr/>
          </p:nvSpPr>
          <p:spPr>
            <a:xfrm>
              <a:off x="1219320" y="167652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17524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3:20:05Z</dcterms:created>
  <dc:creator> </dc:creator>
  <dc:description/>
  <dc:language>en-US</dc:language>
  <cp:lastModifiedBy>sjj</cp:lastModifiedBy>
  <dcterms:modified xsi:type="dcterms:W3CDTF">2017-04-19T20:14:54Z</dcterms:modified>
  <cp:revision>10</cp:revision>
  <dc:subject/>
  <dc:title>PowerPoint Presentation</dc:title>
</cp:coreProperties>
</file>