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5D1-9DBE-43B0-A855-27863369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E90-CC19-4328-B47F-0CA7BD8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E99-CB58-4EA1-A32A-CACF807B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017-7CD9-45BF-996B-07162958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B6B-BA4B-4965-9994-B4EFB23C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AC3-81D0-475D-AE79-3B94D781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EC3-29FF-4849-97E5-DFA9389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217-2E51-4F6F-83C1-75FBEFA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136-55C5-462E-A1E7-8F9C1DB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706-F19B-4959-B705-499EDC4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42F-957C-48ED-8379-131DC44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1D9-2162-40A2-BD96-F5865AD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F4BD-E4EA-4CA4-A930-705A1C603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09680"/>
            <a:ext cx="6933960" cy="1778040"/>
          </a:xfrm>
          <a:custGeom>
            <a:avLst/>
            <a:gdLst/>
            <a:ahLst/>
            <a:rect l="l" t="t" r="r" b="b"/>
            <a:pathLst>
              <a:path w="5528" h="1120">
                <a:moveTo>
                  <a:pt x="0" y="1056"/>
                </a:moveTo>
                <a:cubicBezTo>
                  <a:pt x="1484" y="1088"/>
                  <a:pt x="2968" y="1120"/>
                  <a:pt x="3600" y="1056"/>
                </a:cubicBezTo>
                <a:cubicBezTo>
                  <a:pt x="4232" y="992"/>
                  <a:pt x="4056" y="744"/>
                  <a:pt x="3792" y="672"/>
                </a:cubicBezTo>
                <a:cubicBezTo>
                  <a:pt x="3528" y="600"/>
                  <a:pt x="2320" y="720"/>
                  <a:pt x="2016" y="624"/>
                </a:cubicBezTo>
                <a:cubicBezTo>
                  <a:pt x="1712" y="528"/>
                  <a:pt x="1464" y="192"/>
                  <a:pt x="1968" y="96"/>
                </a:cubicBezTo>
                <a:cubicBezTo>
                  <a:pt x="2472" y="0"/>
                  <a:pt x="4552" y="56"/>
                  <a:pt x="5040" y="48"/>
                </a:cubicBezTo>
                <a:cubicBezTo>
                  <a:pt x="5528" y="40"/>
                  <a:pt x="5212" y="44"/>
                  <a:pt x="4896" y="48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1517400" y="2508120"/>
            <a:ext cx="6184800" cy="1778040"/>
          </a:xfrm>
          <a:custGeom>
            <a:avLst/>
            <a:gdLst/>
            <a:ahLst/>
            <a:rect l="l" t="t" r="r" b="b"/>
            <a:pathLst>
              <a:path w="5528" h="1120">
                <a:moveTo>
                  <a:pt x="0" y="1056"/>
                </a:moveTo>
                <a:cubicBezTo>
                  <a:pt x="1484" y="1088"/>
                  <a:pt x="2968" y="1120"/>
                  <a:pt x="3600" y="1056"/>
                </a:cubicBezTo>
                <a:cubicBezTo>
                  <a:pt x="4232" y="992"/>
                  <a:pt x="4056" y="744"/>
                  <a:pt x="3792" y="672"/>
                </a:cubicBezTo>
                <a:cubicBezTo>
                  <a:pt x="3528" y="600"/>
                  <a:pt x="2320" y="720"/>
                  <a:pt x="2016" y="624"/>
                </a:cubicBezTo>
                <a:cubicBezTo>
                  <a:pt x="1712" y="528"/>
                  <a:pt x="1464" y="192"/>
                  <a:pt x="1968" y="96"/>
                </a:cubicBezTo>
                <a:cubicBezTo>
                  <a:pt x="2472" y="0"/>
                  <a:pt x="4552" y="56"/>
                  <a:pt x="5040" y="48"/>
                </a:cubicBezTo>
                <a:cubicBezTo>
                  <a:pt x="5528" y="40"/>
                  <a:pt x="5212" y="44"/>
                  <a:pt x="4896" y="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9080" y="39369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7480" y="388620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6480" y="32511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3115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11680" y="228600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57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23:40:14Z</dcterms:created>
  <dc:creator>sjj</dc:creator>
  <dc:description/>
  <dc:language>en-US</dc:language>
  <cp:lastModifiedBy>sjj</cp:lastModifiedBy>
  <dcterms:modified xsi:type="dcterms:W3CDTF">2019-08-08T23:47:38Z</dcterms:modified>
  <cp:revision>2</cp:revision>
  <dc:subject/>
  <dc:title>PowerPoint Presentation</dc:title>
</cp:coreProperties>
</file>