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358-897F-4DDD-8623-E590951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1D5-A97A-4758-88E4-6892B737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490-43A9-47D4-9608-8B065693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C55-E754-45AD-A157-E7252A7F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017-C1ED-4326-8FFB-06D6E38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F67-4F60-4B0C-B556-880F2AC1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06B-4BA5-4118-97DD-3F14214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556-1844-4893-9DFC-F56194ED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6AF-3EEE-4667-8F06-B02DD73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923-6445-4ECF-A7B4-35BC265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606-9FE8-4A24-A66E-AC20F22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7EB-6774-41E3-A61F-147BBDE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23FA-9120-4CC2-A545-5B55E1E16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438280"/>
            <a:ext cx="4953240" cy="3124440"/>
          </a:xfrm>
          <a:custGeom>
            <a:avLst/>
            <a:gdLst/>
            <a:ahLst/>
            <a:rect l="l" t="t" r="r" b="b"/>
            <a:pathLst>
              <a:path w="3120" h="1968">
                <a:moveTo>
                  <a:pt x="3120" y="1968"/>
                </a:moveTo>
                <a:lnTo>
                  <a:pt x="3120" y="144"/>
                </a:lnTo>
                <a:lnTo>
                  <a:pt x="0" y="0"/>
                </a:lnTo>
                <a:lnTo>
                  <a:pt x="0" y="1344"/>
                </a:lnTo>
                <a:lnTo>
                  <a:pt x="3120" y="1968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2514600"/>
            <a:ext cx="2590560" cy="3048120"/>
          </a:xfrm>
          <a:custGeom>
            <a:avLst/>
            <a:gdLst/>
            <a:ahLst/>
            <a:rect l="l" t="t" r="r" b="b"/>
            <a:pathLst>
              <a:path w="1632" h="1920">
                <a:moveTo>
                  <a:pt x="1632" y="1200"/>
                </a:moveTo>
                <a:lnTo>
                  <a:pt x="0" y="1920"/>
                </a:lnTo>
                <a:lnTo>
                  <a:pt x="0" y="96"/>
                </a:lnTo>
                <a:lnTo>
                  <a:pt x="1632" y="0"/>
                </a:lnTo>
                <a:lnTo>
                  <a:pt x="1632" y="1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33412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334120" y="4419360"/>
            <a:ext cx="2590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2514240"/>
            <a:ext cx="2590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80520" y="4572000"/>
            <a:ext cx="4953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80520" y="2437920"/>
            <a:ext cx="4953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880" y="24379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924680" y="2514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0880" y="2361960"/>
            <a:ext cx="26672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048120" y="2361960"/>
            <a:ext cx="2590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334120" y="1523520"/>
            <a:ext cx="1447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743880" y="1523880"/>
            <a:ext cx="22478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523880"/>
            <a:ext cx="10670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990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320" y="990360"/>
            <a:ext cx="30456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666520" y="990720"/>
            <a:ext cx="381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523880"/>
            <a:ext cx="3657600" cy="1143000"/>
          </a:xfrm>
          <a:custGeom>
            <a:avLst/>
            <a:gdLst/>
            <a:ahLst/>
            <a:rect l="l" t="t" r="r" b="b"/>
            <a:pathLst>
              <a:path w="2304" h="672">
                <a:moveTo>
                  <a:pt x="1632" y="576"/>
                </a:moveTo>
                <a:lnTo>
                  <a:pt x="0" y="672"/>
                </a:lnTo>
                <a:lnTo>
                  <a:pt x="864" y="0"/>
                </a:lnTo>
                <a:lnTo>
                  <a:pt x="2304" y="0"/>
                </a:lnTo>
                <a:lnTo>
                  <a:pt x="1632" y="57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990720"/>
            <a:ext cx="2971800" cy="1447560"/>
          </a:xfrm>
          <a:custGeom>
            <a:avLst/>
            <a:gdLst/>
            <a:ahLst/>
            <a:rect l="l" t="t" r="r" b="b"/>
            <a:pathLst>
              <a:path w="1872" h="912">
                <a:moveTo>
                  <a:pt x="1872" y="864"/>
                </a:moveTo>
                <a:lnTo>
                  <a:pt x="192" y="912"/>
                </a:lnTo>
                <a:lnTo>
                  <a:pt x="0" y="0"/>
                </a:lnTo>
                <a:lnTo>
                  <a:pt x="1632" y="0"/>
                </a:lnTo>
                <a:lnTo>
                  <a:pt x="1872" y="86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ata" descr=""/>
          <p:cNvPicPr/>
          <p:nvPr/>
        </p:nvPicPr>
        <p:blipFill>
          <a:blip r:embed="rId1"/>
          <a:stretch/>
        </p:blipFill>
        <p:spPr>
          <a:xfrm>
            <a:off x="6429240" y="2666880"/>
            <a:ext cx="581040" cy="97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21474600">
            <a:off x="6351120" y="2590920"/>
            <a:ext cx="838440" cy="152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666880"/>
            <a:ext cx="4419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8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ÉCHISM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'ÉGLIS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HOLIQU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86400" y="3579840"/>
            <a:ext cx="236232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ww.vatican.v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 rot="21210600">
            <a:off x="6324120" y="3581280"/>
            <a:ext cx="838440" cy="152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438280"/>
            <a:ext cx="4953240" cy="3124440"/>
          </a:xfrm>
          <a:custGeom>
            <a:avLst/>
            <a:gdLst/>
            <a:ahLst/>
            <a:rect l="l" t="t" r="r" b="b"/>
            <a:pathLst>
              <a:path w="3120" h="1968">
                <a:moveTo>
                  <a:pt x="3120" y="1968"/>
                </a:moveTo>
                <a:lnTo>
                  <a:pt x="3120" y="144"/>
                </a:lnTo>
                <a:lnTo>
                  <a:pt x="0" y="0"/>
                </a:lnTo>
                <a:lnTo>
                  <a:pt x="0" y="1344"/>
                </a:lnTo>
                <a:lnTo>
                  <a:pt x="3120" y="1968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514600"/>
            <a:ext cx="2590560" cy="3048120"/>
          </a:xfrm>
          <a:custGeom>
            <a:avLst/>
            <a:gdLst/>
            <a:ahLst/>
            <a:rect l="l" t="t" r="r" b="b"/>
            <a:pathLst>
              <a:path w="1632" h="1920">
                <a:moveTo>
                  <a:pt x="1632" y="1200"/>
                </a:moveTo>
                <a:lnTo>
                  <a:pt x="0" y="1920"/>
                </a:lnTo>
                <a:lnTo>
                  <a:pt x="0" y="96"/>
                </a:lnTo>
                <a:lnTo>
                  <a:pt x="1632" y="0"/>
                </a:lnTo>
                <a:lnTo>
                  <a:pt x="1632" y="1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4419360"/>
            <a:ext cx="2590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334120" y="2514240"/>
            <a:ext cx="2590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80520" y="4572000"/>
            <a:ext cx="4953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80520" y="2437920"/>
            <a:ext cx="4953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0880" y="24379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924680" y="2514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0880" y="2361960"/>
            <a:ext cx="26672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048120" y="2361960"/>
            <a:ext cx="2590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34120" y="1523520"/>
            <a:ext cx="1447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43880" y="1523880"/>
            <a:ext cx="22478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924680" y="1523880"/>
            <a:ext cx="10670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990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320" y="990360"/>
            <a:ext cx="30456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666520" y="990720"/>
            <a:ext cx="381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523880"/>
            <a:ext cx="3657600" cy="1143000"/>
          </a:xfrm>
          <a:custGeom>
            <a:avLst/>
            <a:gdLst/>
            <a:ahLst/>
            <a:rect l="l" t="t" r="r" b="b"/>
            <a:pathLst>
              <a:path w="2304" h="672">
                <a:moveTo>
                  <a:pt x="1632" y="576"/>
                </a:moveTo>
                <a:lnTo>
                  <a:pt x="0" y="672"/>
                </a:lnTo>
                <a:lnTo>
                  <a:pt x="864" y="0"/>
                </a:lnTo>
                <a:lnTo>
                  <a:pt x="2304" y="0"/>
                </a:lnTo>
                <a:lnTo>
                  <a:pt x="1632" y="57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990720"/>
            <a:ext cx="2971800" cy="1447560"/>
          </a:xfrm>
          <a:custGeom>
            <a:avLst/>
            <a:gdLst/>
            <a:ahLst/>
            <a:rect l="l" t="t" r="r" b="b"/>
            <a:pathLst>
              <a:path w="1872" h="912">
                <a:moveTo>
                  <a:pt x="1872" y="864"/>
                </a:moveTo>
                <a:lnTo>
                  <a:pt x="192" y="912"/>
                </a:lnTo>
                <a:lnTo>
                  <a:pt x="0" y="0"/>
                </a:lnTo>
                <a:lnTo>
                  <a:pt x="1632" y="0"/>
                </a:lnTo>
                <a:lnTo>
                  <a:pt x="1872" y="86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tata" descr=""/>
          <p:cNvPicPr/>
          <p:nvPr/>
        </p:nvPicPr>
        <p:blipFill>
          <a:blip r:embed="rId1"/>
          <a:stretch/>
        </p:blipFill>
        <p:spPr>
          <a:xfrm>
            <a:off x="6429240" y="2666880"/>
            <a:ext cx="581040" cy="97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rot="21474600">
            <a:off x="6351120" y="2590920"/>
            <a:ext cx="838440" cy="152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666880"/>
            <a:ext cx="4419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8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CHISM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CATHOLIC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URCH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86400" y="3579840"/>
            <a:ext cx="236232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ww.vatican.v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 rot="21210600">
            <a:off x="6324120" y="3581280"/>
            <a:ext cx="838440" cy="152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4:42:50Z</dcterms:created>
  <dc:creator>Stefan Jetchick</dc:creator>
  <dc:description/>
  <dc:language>en-US</dc:language>
  <cp:lastModifiedBy>Stefan Jetchick</cp:lastModifiedBy>
  <dcterms:modified xsi:type="dcterms:W3CDTF">2005-11-02T17:19:47Z</dcterms:modified>
  <cp:revision>18</cp:revision>
  <dc:subject/>
  <dc:title>PowerPoint Presentation</dc:title>
</cp:coreProperties>
</file>