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9C2C-4D8B-4C4E-B009-99DA82187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9460-3F5A-4D3E-A160-E01206D1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7B95-BFE9-4E86-BBA9-D2CD375E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01FC-FB28-4402-972F-0DF479A3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38B4-B222-42D7-9571-13F5AB30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A7F5-D884-418F-B4DA-00A99474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A1D2-9F1B-4177-A9DE-BEFD8D6D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D8C8-6CAB-4D24-8406-76DE1138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A933-8A20-49B0-8AED-20A48E39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761E-27D2-444A-ACF5-81BE704D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BB9A-D6B0-4649-B44C-505B79FD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0436-AE11-4A32-823F-C77BA8FC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6BCA-5186-41FF-8A79-7BF234380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1280" y="3505320"/>
            <a:ext cx="1447920" cy="14475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81280" y="3505320"/>
            <a:ext cx="1447920" cy="685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990600">
            <a:off x="3657600" y="4800240"/>
            <a:ext cx="76320" cy="12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 rot="20609400">
            <a:off x="4877280" y="4800240"/>
            <a:ext cx="75960" cy="12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540320" y="3504960"/>
            <a:ext cx="0" cy="2286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46480" y="3504960"/>
            <a:ext cx="0" cy="2286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872160" y="2857680"/>
            <a:ext cx="623520" cy="876240"/>
            <a:chOff x="3872160" y="2857680"/>
            <a:chExt cx="623520" cy="876240"/>
          </a:xfrm>
        </p:grpSpPr>
        <p:sp>
          <p:nvSpPr>
            <p:cNvPr id="48" name=""/>
            <p:cNvSpPr/>
            <p:nvPr/>
          </p:nvSpPr>
          <p:spPr>
            <a:xfrm>
              <a:off x="4191120" y="3200400"/>
              <a:ext cx="304560" cy="5335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555000">
              <a:off x="4022280" y="2877840"/>
              <a:ext cx="304920" cy="5331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452840" y="3317760"/>
            <a:ext cx="152640" cy="533520"/>
          </a:xfrm>
          <a:custGeom>
            <a:avLst/>
            <a:gdLst/>
            <a:ahLst/>
            <a:rect l="l" t="t" r="r" b="b"/>
            <a:pathLst>
              <a:path w="48" h="240">
                <a:moveTo>
                  <a:pt x="0" y="0"/>
                </a:moveTo>
                <a:lnTo>
                  <a:pt x="0" y="240"/>
                </a:lnTo>
                <a:lnTo>
                  <a:pt x="48" y="240"/>
                </a:lnTo>
                <a:lnTo>
                  <a:pt x="48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071240" y="3330720"/>
            <a:ext cx="152280" cy="533160"/>
          </a:xfrm>
          <a:custGeom>
            <a:avLst/>
            <a:gdLst/>
            <a:ahLst/>
            <a:rect l="l" t="t" r="r" b="b"/>
            <a:pathLst>
              <a:path w="48" h="240">
                <a:moveTo>
                  <a:pt x="0" y="0"/>
                </a:moveTo>
                <a:lnTo>
                  <a:pt x="0" y="240"/>
                </a:lnTo>
                <a:lnTo>
                  <a:pt x="48" y="240"/>
                </a:lnTo>
                <a:lnTo>
                  <a:pt x="48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4419360" y="297180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909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4191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28954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572000" y="3200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3429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36576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405080" y="849240"/>
            <a:ext cx="4876560" cy="3200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657600" y="3733200"/>
            <a:ext cx="533520" cy="228600"/>
          </a:xfrm>
          <a:custGeom>
            <a:avLst/>
            <a:gdLst/>
            <a:ahLst/>
            <a:rect l="l" t="t" r="r" b="b"/>
            <a:pathLst>
              <a:path w="336" h="144">
                <a:moveTo>
                  <a:pt x="0" y="144"/>
                </a:moveTo>
                <a:lnTo>
                  <a:pt x="336" y="144"/>
                </a:lnTo>
                <a:lnTo>
                  <a:pt x="336" y="0"/>
                </a:lnTo>
                <a:lnTo>
                  <a:pt x="19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3886200"/>
            <a:ext cx="609480" cy="152280"/>
          </a:xfrm>
          <a:custGeom>
            <a:avLst/>
            <a:gdLst/>
            <a:ahLst/>
            <a:rect l="l" t="t" r="r" b="b"/>
            <a:pathLst>
              <a:path w="384" h="96">
                <a:moveTo>
                  <a:pt x="384" y="96"/>
                </a:moveTo>
                <a:lnTo>
                  <a:pt x="0" y="96"/>
                </a:ln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3429000"/>
            <a:ext cx="1968480" cy="507960"/>
          </a:xfrm>
          <a:custGeom>
            <a:avLst/>
            <a:gdLst/>
            <a:ahLst/>
            <a:rect l="l" t="t" r="r" b="b"/>
            <a:pathLst>
              <a:path w="1240" h="320">
                <a:moveTo>
                  <a:pt x="0" y="0"/>
                </a:moveTo>
                <a:cubicBezTo>
                  <a:pt x="192" y="128"/>
                  <a:pt x="384" y="256"/>
                  <a:pt x="576" y="288"/>
                </a:cubicBezTo>
                <a:cubicBezTo>
                  <a:pt x="768" y="320"/>
                  <a:pt x="1064" y="208"/>
                  <a:pt x="1152" y="192"/>
                </a:cubicBezTo>
                <a:cubicBezTo>
                  <a:pt x="1240" y="176"/>
                  <a:pt x="1172" y="184"/>
                  <a:pt x="1104" y="19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21019800">
            <a:off x="2963880" y="3885840"/>
            <a:ext cx="685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1066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8380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2362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2133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90720" y="2209680"/>
            <a:ext cx="3886200" cy="239760"/>
            <a:chOff x="990720" y="2209680"/>
            <a:chExt cx="3886200" cy="239760"/>
          </a:xfrm>
        </p:grpSpPr>
        <p:sp>
          <p:nvSpPr>
            <p:cNvPr id="69" name=""/>
            <p:cNvSpPr/>
            <p:nvPr/>
          </p:nvSpPr>
          <p:spPr>
            <a:xfrm rot="5400000">
              <a:off x="4380840" y="2062080"/>
              <a:ext cx="152640" cy="533160"/>
            </a:xfrm>
            <a:custGeom>
              <a:avLst/>
              <a:gdLst>
                <a:gd name="textAreaLeft" fmla="*/ 0 w 152640"/>
                <a:gd name="textAreaRight" fmla="*/ 107280 w 152640"/>
                <a:gd name="textAreaTop" fmla="*/ 21960 h 533160"/>
                <a:gd name="textAreaBottom" fmla="*/ 51120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5400000">
              <a:off x="3619440" y="2062080"/>
              <a:ext cx="152640" cy="533520"/>
            </a:xfrm>
            <a:custGeom>
              <a:avLst/>
              <a:gdLst>
                <a:gd name="textAreaLeft" fmla="*/ 0 w 152640"/>
                <a:gd name="textAreaRight" fmla="*/ 107280 w 15264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5400000">
              <a:off x="2094840" y="2062080"/>
              <a:ext cx="152640" cy="533160"/>
            </a:xfrm>
            <a:custGeom>
              <a:avLst/>
              <a:gdLst>
                <a:gd name="textAreaLeft" fmla="*/ 0 w 152640"/>
                <a:gd name="textAreaRight" fmla="*/ 107280 w 152640"/>
                <a:gd name="textAreaTop" fmla="*/ 21960 h 533160"/>
                <a:gd name="textAreaBottom" fmla="*/ 51120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5400000">
              <a:off x="1333440" y="2062080"/>
              <a:ext cx="152640" cy="533520"/>
            </a:xfrm>
            <a:custGeom>
              <a:avLst/>
              <a:gdLst>
                <a:gd name="textAreaLeft" fmla="*/ 0 w 152640"/>
                <a:gd name="textAreaRight" fmla="*/ 107280 w 15264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2220840"/>
              <a:ext cx="2286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48320" y="2209680"/>
              <a:ext cx="2286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2857320" y="2063520"/>
              <a:ext cx="152280" cy="533520"/>
            </a:xfrm>
            <a:custGeom>
              <a:avLst/>
              <a:gdLst>
                <a:gd name="textAreaLeft" fmla="*/ 0 w 152280"/>
                <a:gd name="textAreaRight" fmla="*/ 106920 w 15228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990720" y="304920"/>
            <a:ext cx="3047760" cy="1447560"/>
            <a:chOff x="990720" y="304920"/>
            <a:chExt cx="3047760" cy="1447560"/>
          </a:xfrm>
        </p:grpSpPr>
        <p:sp>
          <p:nvSpPr>
            <p:cNvPr id="77" name=""/>
            <p:cNvSpPr/>
            <p:nvPr/>
          </p:nvSpPr>
          <p:spPr>
            <a:xfrm>
              <a:off x="990720" y="304920"/>
              <a:ext cx="3047760" cy="14475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1187280" y="501480"/>
              <a:ext cx="108000" cy="1022400"/>
              <a:chOff x="1187280" y="501480"/>
              <a:chExt cx="108000" cy="1022400"/>
            </a:xfrm>
          </p:grpSpPr>
          <p:sp>
            <p:nvSpPr>
              <p:cNvPr id="79" name=""/>
              <p:cNvSpPr/>
              <p:nvPr/>
            </p:nvSpPr>
            <p:spPr>
              <a:xfrm>
                <a:off x="1187280" y="50148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187280" y="80640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87280" y="111132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187280" y="141588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1492200" y="501480"/>
              <a:ext cx="108000" cy="1022400"/>
              <a:chOff x="1492200" y="501480"/>
              <a:chExt cx="108000" cy="1022400"/>
            </a:xfrm>
          </p:grpSpPr>
          <p:sp>
            <p:nvSpPr>
              <p:cNvPr id="84" name=""/>
              <p:cNvSpPr/>
              <p:nvPr/>
            </p:nvSpPr>
            <p:spPr>
              <a:xfrm>
                <a:off x="1492200" y="50148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492200" y="80640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492200" y="111132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492200" y="141588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1797120" y="501480"/>
              <a:ext cx="108000" cy="1022400"/>
              <a:chOff x="1797120" y="501480"/>
              <a:chExt cx="108000" cy="1022400"/>
            </a:xfrm>
          </p:grpSpPr>
          <p:sp>
            <p:nvSpPr>
              <p:cNvPr id="89" name=""/>
              <p:cNvSpPr/>
              <p:nvPr/>
            </p:nvSpPr>
            <p:spPr>
              <a:xfrm>
                <a:off x="1797120" y="50148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797120" y="80640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797120" y="111132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797120" y="141588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2101680" y="501480"/>
              <a:ext cx="108000" cy="1022400"/>
              <a:chOff x="2101680" y="501480"/>
              <a:chExt cx="108000" cy="1022400"/>
            </a:xfrm>
          </p:grpSpPr>
          <p:sp>
            <p:nvSpPr>
              <p:cNvPr id="94" name=""/>
              <p:cNvSpPr/>
              <p:nvPr/>
            </p:nvSpPr>
            <p:spPr>
              <a:xfrm>
                <a:off x="2101680" y="50148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01680" y="80640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101680" y="111132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101680" y="141588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2406600" y="501480"/>
              <a:ext cx="108000" cy="1022400"/>
              <a:chOff x="2406600" y="501480"/>
              <a:chExt cx="108000" cy="1022400"/>
            </a:xfrm>
          </p:grpSpPr>
          <p:sp>
            <p:nvSpPr>
              <p:cNvPr id="99" name=""/>
              <p:cNvSpPr/>
              <p:nvPr/>
            </p:nvSpPr>
            <p:spPr>
              <a:xfrm>
                <a:off x="2406600" y="50148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406600" y="80640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406600" y="111132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406600" y="141588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2711520" y="501480"/>
              <a:ext cx="108000" cy="1022400"/>
              <a:chOff x="2711520" y="501480"/>
              <a:chExt cx="108000" cy="1022400"/>
            </a:xfrm>
          </p:grpSpPr>
          <p:sp>
            <p:nvSpPr>
              <p:cNvPr id="104" name=""/>
              <p:cNvSpPr/>
              <p:nvPr/>
            </p:nvSpPr>
            <p:spPr>
              <a:xfrm>
                <a:off x="2711520" y="50148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711520" y="80640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711520" y="111132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711520" y="141588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3016080" y="501480"/>
              <a:ext cx="108000" cy="1022400"/>
              <a:chOff x="3016080" y="501480"/>
              <a:chExt cx="108000" cy="1022400"/>
            </a:xfrm>
          </p:grpSpPr>
          <p:sp>
            <p:nvSpPr>
              <p:cNvPr id="109" name=""/>
              <p:cNvSpPr/>
              <p:nvPr/>
            </p:nvSpPr>
            <p:spPr>
              <a:xfrm>
                <a:off x="3016080" y="50148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016080" y="80640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16080" y="111132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16080" y="141588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321000" y="501480"/>
              <a:ext cx="108000" cy="1022400"/>
              <a:chOff x="3321000" y="501480"/>
              <a:chExt cx="108000" cy="1022400"/>
            </a:xfrm>
          </p:grpSpPr>
          <p:sp>
            <p:nvSpPr>
              <p:cNvPr id="114" name=""/>
              <p:cNvSpPr/>
              <p:nvPr/>
            </p:nvSpPr>
            <p:spPr>
              <a:xfrm>
                <a:off x="3321000" y="50148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21000" y="80640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321000" y="111132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321000" y="141588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3625920" y="501480"/>
              <a:ext cx="108000" cy="1022400"/>
              <a:chOff x="3625920" y="501480"/>
              <a:chExt cx="108000" cy="1022400"/>
            </a:xfrm>
          </p:grpSpPr>
          <p:sp>
            <p:nvSpPr>
              <p:cNvPr id="119" name=""/>
              <p:cNvSpPr/>
              <p:nvPr/>
            </p:nvSpPr>
            <p:spPr>
              <a:xfrm>
                <a:off x="3625920" y="50148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625920" y="80640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625920" y="111132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25920" y="141588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1480320" y="699120"/>
            <a:ext cx="5206680" cy="5152680"/>
            <a:chOff x="1480320" y="699120"/>
            <a:chExt cx="5206680" cy="5152680"/>
          </a:xfrm>
        </p:grpSpPr>
        <p:grpSp>
          <p:nvGrpSpPr>
            <p:cNvPr id="124" name=""/>
            <p:cNvGrpSpPr/>
            <p:nvPr/>
          </p:nvGrpSpPr>
          <p:grpSpPr>
            <a:xfrm>
              <a:off x="2749320" y="699120"/>
              <a:ext cx="3937680" cy="3980520"/>
              <a:chOff x="2749320" y="699120"/>
              <a:chExt cx="3937680" cy="398052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2798280" y="699120"/>
                <a:ext cx="2933280" cy="2885400"/>
                <a:chOff x="2798280" y="699120"/>
                <a:chExt cx="2933280" cy="2885400"/>
              </a:xfrm>
            </p:grpSpPr>
            <p:sp>
              <p:nvSpPr>
                <p:cNvPr id="126" name=""/>
                <p:cNvSpPr/>
                <p:nvPr/>
              </p:nvSpPr>
              <p:spPr>
                <a:xfrm rot="2742000">
                  <a:off x="5278320" y="810360"/>
                  <a:ext cx="152640" cy="533160"/>
                </a:xfrm>
                <a:custGeom>
                  <a:avLst/>
                  <a:gdLst>
                    <a:gd name="textAreaLeft" fmla="*/ 0 w 152640"/>
                    <a:gd name="textAreaRight" fmla="*/ 107280 w 152640"/>
                    <a:gd name="textAreaTop" fmla="*/ 21960 h 533160"/>
                    <a:gd name="textAreaBottom" fmla="*/ 511200 h 53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900"/>
                        <a:pt x="21600" y="1800"/>
                      </a:cubicBezTo>
                      <a:lnTo>
                        <a:pt x="21600" y="19800"/>
                      </a:lnTo>
                      <a:cubicBezTo>
                        <a:pt x="21600" y="2070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2742000">
                  <a:off x="4732920" y="1342440"/>
                  <a:ext cx="152640" cy="533520"/>
                </a:xfrm>
                <a:custGeom>
                  <a:avLst/>
                  <a:gdLst>
                    <a:gd name="textAreaLeft" fmla="*/ 0 w 152640"/>
                    <a:gd name="textAreaRight" fmla="*/ 107280 w 152640"/>
                    <a:gd name="textAreaTop" fmla="*/ 21960 h 533520"/>
                    <a:gd name="textAreaBottom" fmla="*/ 511560 h 533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900"/>
                        <a:pt x="21600" y="1800"/>
                      </a:cubicBezTo>
                      <a:lnTo>
                        <a:pt x="21600" y="19800"/>
                      </a:lnTo>
                      <a:cubicBezTo>
                        <a:pt x="21600" y="2070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2742000">
                  <a:off x="3642480" y="2406960"/>
                  <a:ext cx="152640" cy="533160"/>
                </a:xfrm>
                <a:custGeom>
                  <a:avLst/>
                  <a:gdLst>
                    <a:gd name="textAreaLeft" fmla="*/ 0 w 152640"/>
                    <a:gd name="textAreaRight" fmla="*/ 107280 w 152640"/>
                    <a:gd name="textAreaTop" fmla="*/ 21960 h 533160"/>
                    <a:gd name="textAreaBottom" fmla="*/ 511200 h 53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900"/>
                        <a:pt x="21600" y="1800"/>
                      </a:cubicBezTo>
                      <a:lnTo>
                        <a:pt x="21600" y="19800"/>
                      </a:lnTo>
                      <a:cubicBezTo>
                        <a:pt x="21600" y="2070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2742000">
                  <a:off x="3097440" y="2938680"/>
                  <a:ext cx="152640" cy="533520"/>
                </a:xfrm>
                <a:custGeom>
                  <a:avLst/>
                  <a:gdLst>
                    <a:gd name="textAreaLeft" fmla="*/ 0 w 152640"/>
                    <a:gd name="textAreaRight" fmla="*/ 107280 w 152640"/>
                    <a:gd name="textAreaTop" fmla="*/ 21960 h 533520"/>
                    <a:gd name="textAreaBottom" fmla="*/ 511560 h 533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900"/>
                        <a:pt x="21600" y="1800"/>
                      </a:cubicBezTo>
                      <a:lnTo>
                        <a:pt x="21600" y="19800"/>
                      </a:lnTo>
                      <a:cubicBezTo>
                        <a:pt x="21600" y="2070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8942000">
                  <a:off x="2845440" y="330840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rot="18942000">
                  <a:off x="5455440" y="74592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2742000">
                  <a:off x="4188960" y="1875600"/>
                  <a:ext cx="152280" cy="533520"/>
                </a:xfrm>
                <a:custGeom>
                  <a:avLst/>
                  <a:gdLst>
                    <a:gd name="textAreaLeft" fmla="*/ 0 w 152280"/>
                    <a:gd name="textAreaRight" fmla="*/ 106920 w 152280"/>
                    <a:gd name="textAreaTop" fmla="*/ 21960 h 533520"/>
                    <a:gd name="textAreaBottom" fmla="*/ 511560 h 533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900"/>
                        <a:pt x="21600" y="1800"/>
                      </a:cubicBezTo>
                      <a:lnTo>
                        <a:pt x="21600" y="19800"/>
                      </a:lnTo>
                      <a:cubicBezTo>
                        <a:pt x="21600" y="2070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2749320" y="1117440"/>
                <a:ext cx="2933280" cy="2885760"/>
                <a:chOff x="2749320" y="1117440"/>
                <a:chExt cx="2933280" cy="2885760"/>
              </a:xfrm>
            </p:grpSpPr>
            <p:sp>
              <p:nvSpPr>
                <p:cNvPr id="134" name=""/>
                <p:cNvSpPr/>
                <p:nvPr/>
              </p:nvSpPr>
              <p:spPr>
                <a:xfrm rot="2742000">
                  <a:off x="5229360" y="1229040"/>
                  <a:ext cx="152640" cy="533160"/>
                </a:xfrm>
                <a:custGeom>
                  <a:avLst/>
                  <a:gdLst>
                    <a:gd name="textAreaLeft" fmla="*/ 0 w 152640"/>
                    <a:gd name="textAreaRight" fmla="*/ 107280 w 152640"/>
                    <a:gd name="textAreaTop" fmla="*/ 21960 h 533160"/>
                    <a:gd name="textAreaBottom" fmla="*/ 511200 h 53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900"/>
                        <a:pt x="21600" y="1800"/>
                      </a:cubicBezTo>
                      <a:lnTo>
                        <a:pt x="21600" y="19800"/>
                      </a:lnTo>
                      <a:cubicBezTo>
                        <a:pt x="21600" y="2070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rot="2742000">
                  <a:off x="4683960" y="1760760"/>
                  <a:ext cx="152640" cy="533520"/>
                </a:xfrm>
                <a:custGeom>
                  <a:avLst/>
                  <a:gdLst>
                    <a:gd name="textAreaLeft" fmla="*/ 0 w 152640"/>
                    <a:gd name="textAreaRight" fmla="*/ 107280 w 152640"/>
                    <a:gd name="textAreaTop" fmla="*/ 21960 h 533520"/>
                    <a:gd name="textAreaBottom" fmla="*/ 511560 h 533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900"/>
                        <a:pt x="21600" y="1800"/>
                      </a:cubicBezTo>
                      <a:lnTo>
                        <a:pt x="21600" y="19800"/>
                      </a:lnTo>
                      <a:cubicBezTo>
                        <a:pt x="21600" y="2070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rot="2742000">
                  <a:off x="3593160" y="2825640"/>
                  <a:ext cx="152640" cy="533160"/>
                </a:xfrm>
                <a:custGeom>
                  <a:avLst/>
                  <a:gdLst>
                    <a:gd name="textAreaLeft" fmla="*/ 0 w 152640"/>
                    <a:gd name="textAreaRight" fmla="*/ 107280 w 152640"/>
                    <a:gd name="textAreaTop" fmla="*/ 21960 h 533160"/>
                    <a:gd name="textAreaBottom" fmla="*/ 511200 h 53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900"/>
                        <a:pt x="21600" y="1800"/>
                      </a:cubicBezTo>
                      <a:lnTo>
                        <a:pt x="21600" y="19800"/>
                      </a:lnTo>
                      <a:cubicBezTo>
                        <a:pt x="21600" y="2070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rot="2742000">
                  <a:off x="3048120" y="3357720"/>
                  <a:ext cx="152640" cy="533520"/>
                </a:xfrm>
                <a:custGeom>
                  <a:avLst/>
                  <a:gdLst>
                    <a:gd name="textAreaLeft" fmla="*/ 0 w 152640"/>
                    <a:gd name="textAreaRight" fmla="*/ 107280 w 152640"/>
                    <a:gd name="textAreaTop" fmla="*/ 21960 h 533520"/>
                    <a:gd name="textAreaBottom" fmla="*/ 511560 h 533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900"/>
                        <a:pt x="21600" y="1800"/>
                      </a:cubicBezTo>
                      <a:lnTo>
                        <a:pt x="21600" y="19800"/>
                      </a:lnTo>
                      <a:cubicBezTo>
                        <a:pt x="21600" y="2070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rot="18942000">
                  <a:off x="2796480" y="37270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rot="18942000">
                  <a:off x="5406480" y="116424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rot="2742000">
                  <a:off x="4140000" y="2294280"/>
                  <a:ext cx="152280" cy="533520"/>
                </a:xfrm>
                <a:custGeom>
                  <a:avLst/>
                  <a:gdLst>
                    <a:gd name="textAreaLeft" fmla="*/ 0 w 152280"/>
                    <a:gd name="textAreaRight" fmla="*/ 106920 w 152280"/>
                    <a:gd name="textAreaTop" fmla="*/ 21960 h 533520"/>
                    <a:gd name="textAreaBottom" fmla="*/ 511560 h 533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900"/>
                        <a:pt x="21600" y="1800"/>
                      </a:cubicBezTo>
                      <a:lnTo>
                        <a:pt x="21600" y="19800"/>
                      </a:lnTo>
                      <a:cubicBezTo>
                        <a:pt x="21600" y="2070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3353400" y="1684800"/>
                <a:ext cx="3333600" cy="2994840"/>
                <a:chOff x="3353400" y="1684800"/>
                <a:chExt cx="3333600" cy="2994840"/>
              </a:xfrm>
            </p:grpSpPr>
            <p:grpSp>
              <p:nvGrpSpPr>
                <p:cNvPr id="142" name=""/>
                <p:cNvGrpSpPr/>
                <p:nvPr/>
              </p:nvGrpSpPr>
              <p:grpSpPr>
                <a:xfrm>
                  <a:off x="3353400" y="1777320"/>
                  <a:ext cx="2916720" cy="2902320"/>
                  <a:chOff x="3353400" y="1777320"/>
                  <a:chExt cx="2916720" cy="290232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13519800">
                    <a:off x="3652200" y="4033440"/>
                    <a:ext cx="152640" cy="533160"/>
                  </a:xfrm>
                  <a:custGeom>
                    <a:avLst/>
                    <a:gdLst>
                      <a:gd name="textAreaLeft" fmla="*/ 0 w 152640"/>
                      <a:gd name="textAreaRight" fmla="*/ 107280 w 152640"/>
                      <a:gd name="textAreaTop" fmla="*/ 21960 h 533160"/>
                      <a:gd name="textAreaBottom" fmla="*/ 511200 h 533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10800" y="0"/>
                          <a:pt x="21600" y="900"/>
                          <a:pt x="21600" y="1800"/>
                        </a:cubicBezTo>
                        <a:lnTo>
                          <a:pt x="21600" y="19800"/>
                        </a:lnTo>
                        <a:cubicBezTo>
                          <a:pt x="21600" y="20700"/>
                          <a:pt x="10800" y="21600"/>
                          <a:pt x="0" y="21600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13519800">
                    <a:off x="4193640" y="3498120"/>
                    <a:ext cx="152640" cy="533520"/>
                  </a:xfrm>
                  <a:custGeom>
                    <a:avLst/>
                    <a:gdLst>
                      <a:gd name="textAreaLeft" fmla="*/ 0 w 152640"/>
                      <a:gd name="textAreaRight" fmla="*/ 107280 w 152640"/>
                      <a:gd name="textAreaTop" fmla="*/ 21960 h 533520"/>
                      <a:gd name="textAreaBottom" fmla="*/ 511560 h 533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10800" y="0"/>
                          <a:pt x="21600" y="900"/>
                          <a:pt x="21600" y="1800"/>
                        </a:cubicBezTo>
                        <a:lnTo>
                          <a:pt x="21600" y="19800"/>
                        </a:lnTo>
                        <a:cubicBezTo>
                          <a:pt x="21600" y="20700"/>
                          <a:pt x="10800" y="21600"/>
                          <a:pt x="0" y="21600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rot="13519800">
                    <a:off x="5277960" y="2426400"/>
                    <a:ext cx="152640" cy="533160"/>
                  </a:xfrm>
                  <a:custGeom>
                    <a:avLst/>
                    <a:gdLst>
                      <a:gd name="textAreaLeft" fmla="*/ 0 w 152640"/>
                      <a:gd name="textAreaRight" fmla="*/ 107280 w 152640"/>
                      <a:gd name="textAreaTop" fmla="*/ 21960 h 533160"/>
                      <a:gd name="textAreaBottom" fmla="*/ 511200 h 533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10800" y="0"/>
                          <a:pt x="21600" y="900"/>
                          <a:pt x="21600" y="1800"/>
                        </a:cubicBezTo>
                        <a:lnTo>
                          <a:pt x="21600" y="19800"/>
                        </a:lnTo>
                        <a:cubicBezTo>
                          <a:pt x="21600" y="20700"/>
                          <a:pt x="10800" y="21600"/>
                          <a:pt x="0" y="21600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rot="13519800">
                    <a:off x="5819400" y="1890720"/>
                    <a:ext cx="152640" cy="533520"/>
                  </a:xfrm>
                  <a:custGeom>
                    <a:avLst/>
                    <a:gdLst>
                      <a:gd name="textAreaLeft" fmla="*/ 0 w 152640"/>
                      <a:gd name="textAreaRight" fmla="*/ 107280 w 152640"/>
                      <a:gd name="textAreaTop" fmla="*/ 21960 h 533520"/>
                      <a:gd name="textAreaBottom" fmla="*/ 511560 h 533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10800" y="0"/>
                          <a:pt x="21600" y="900"/>
                          <a:pt x="21600" y="1800"/>
                        </a:cubicBezTo>
                        <a:lnTo>
                          <a:pt x="21600" y="19800"/>
                        </a:lnTo>
                        <a:cubicBezTo>
                          <a:pt x="21600" y="20700"/>
                          <a:pt x="10800" y="21600"/>
                          <a:pt x="0" y="21600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8119800">
                    <a:off x="5994000" y="1824480"/>
                    <a:ext cx="2286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8119800">
                    <a:off x="3400560" y="4403520"/>
                    <a:ext cx="2286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rot="13519800">
                    <a:off x="4735080" y="2960640"/>
                    <a:ext cx="152280" cy="533520"/>
                  </a:xfrm>
                  <a:custGeom>
                    <a:avLst/>
                    <a:gdLst>
                      <a:gd name="textAreaLeft" fmla="*/ 0 w 152280"/>
                      <a:gd name="textAreaRight" fmla="*/ 106920 w 152280"/>
                      <a:gd name="textAreaTop" fmla="*/ 21960 h 533520"/>
                      <a:gd name="textAreaBottom" fmla="*/ 511560 h 533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10800" y="0"/>
                          <a:pt x="21600" y="900"/>
                          <a:pt x="21600" y="1800"/>
                        </a:cubicBezTo>
                        <a:lnTo>
                          <a:pt x="21600" y="19800"/>
                        </a:lnTo>
                        <a:cubicBezTo>
                          <a:pt x="21600" y="20700"/>
                          <a:pt x="10800" y="21600"/>
                          <a:pt x="0" y="21600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0" name=""/>
                <p:cNvGrpSpPr/>
                <p:nvPr/>
              </p:nvGrpSpPr>
              <p:grpSpPr>
                <a:xfrm>
                  <a:off x="3770280" y="1684800"/>
                  <a:ext cx="2916720" cy="2902680"/>
                  <a:chOff x="3770280" y="1684800"/>
                  <a:chExt cx="2916720" cy="290268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 rot="13519800">
                    <a:off x="4069440" y="3941640"/>
                    <a:ext cx="152640" cy="533160"/>
                  </a:xfrm>
                  <a:custGeom>
                    <a:avLst/>
                    <a:gdLst>
                      <a:gd name="textAreaLeft" fmla="*/ 0 w 152640"/>
                      <a:gd name="textAreaRight" fmla="*/ 107280 w 152640"/>
                      <a:gd name="textAreaTop" fmla="*/ 21960 h 533160"/>
                      <a:gd name="textAreaBottom" fmla="*/ 511200 h 533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10800" y="0"/>
                          <a:pt x="21600" y="900"/>
                          <a:pt x="21600" y="1800"/>
                        </a:cubicBezTo>
                        <a:lnTo>
                          <a:pt x="21600" y="19800"/>
                        </a:lnTo>
                        <a:cubicBezTo>
                          <a:pt x="21600" y="20700"/>
                          <a:pt x="10800" y="21600"/>
                          <a:pt x="0" y="21600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rot="13519800">
                    <a:off x="4610520" y="3405960"/>
                    <a:ext cx="152640" cy="533520"/>
                  </a:xfrm>
                  <a:custGeom>
                    <a:avLst/>
                    <a:gdLst>
                      <a:gd name="textAreaLeft" fmla="*/ 0 w 152640"/>
                      <a:gd name="textAreaRight" fmla="*/ 107280 w 152640"/>
                      <a:gd name="textAreaTop" fmla="*/ 21960 h 533520"/>
                      <a:gd name="textAreaBottom" fmla="*/ 511560 h 533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10800" y="0"/>
                          <a:pt x="21600" y="900"/>
                          <a:pt x="21600" y="1800"/>
                        </a:cubicBezTo>
                        <a:lnTo>
                          <a:pt x="21600" y="19800"/>
                        </a:lnTo>
                        <a:cubicBezTo>
                          <a:pt x="21600" y="20700"/>
                          <a:pt x="10800" y="21600"/>
                          <a:pt x="0" y="21600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13519800">
                    <a:off x="5694840" y="2334240"/>
                    <a:ext cx="152640" cy="533160"/>
                  </a:xfrm>
                  <a:custGeom>
                    <a:avLst/>
                    <a:gdLst>
                      <a:gd name="textAreaLeft" fmla="*/ 0 w 152640"/>
                      <a:gd name="textAreaRight" fmla="*/ 107280 w 152640"/>
                      <a:gd name="textAreaTop" fmla="*/ 21960 h 533160"/>
                      <a:gd name="textAreaBottom" fmla="*/ 511200 h 533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10800" y="0"/>
                          <a:pt x="21600" y="900"/>
                          <a:pt x="21600" y="1800"/>
                        </a:cubicBezTo>
                        <a:lnTo>
                          <a:pt x="21600" y="19800"/>
                        </a:lnTo>
                        <a:cubicBezTo>
                          <a:pt x="21600" y="20700"/>
                          <a:pt x="10800" y="21600"/>
                          <a:pt x="0" y="21600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rot="13519800">
                    <a:off x="6236280" y="1798560"/>
                    <a:ext cx="152640" cy="533520"/>
                  </a:xfrm>
                  <a:custGeom>
                    <a:avLst/>
                    <a:gdLst>
                      <a:gd name="textAreaLeft" fmla="*/ 0 w 152640"/>
                      <a:gd name="textAreaRight" fmla="*/ 107280 w 152640"/>
                      <a:gd name="textAreaTop" fmla="*/ 21960 h 533520"/>
                      <a:gd name="textAreaBottom" fmla="*/ 511560 h 533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10800" y="0"/>
                          <a:pt x="21600" y="900"/>
                          <a:pt x="21600" y="1800"/>
                        </a:cubicBezTo>
                        <a:lnTo>
                          <a:pt x="21600" y="19800"/>
                        </a:lnTo>
                        <a:cubicBezTo>
                          <a:pt x="21600" y="20700"/>
                          <a:pt x="10800" y="21600"/>
                          <a:pt x="0" y="21600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rot="8119800">
                    <a:off x="6410880" y="1731960"/>
                    <a:ext cx="2286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rot="8119800">
                    <a:off x="3817440" y="4311360"/>
                    <a:ext cx="2286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3519800">
                    <a:off x="5151960" y="2868480"/>
                    <a:ext cx="152280" cy="533520"/>
                  </a:xfrm>
                  <a:custGeom>
                    <a:avLst/>
                    <a:gdLst>
                      <a:gd name="textAreaLeft" fmla="*/ 0 w 152280"/>
                      <a:gd name="textAreaRight" fmla="*/ 106920 w 152280"/>
                      <a:gd name="textAreaTop" fmla="*/ 21960 h 533520"/>
                      <a:gd name="textAreaBottom" fmla="*/ 511560 h 533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10800" y="0"/>
                          <a:pt x="21600" y="900"/>
                          <a:pt x="21600" y="1800"/>
                        </a:cubicBezTo>
                        <a:lnTo>
                          <a:pt x="21600" y="19800"/>
                        </a:lnTo>
                        <a:cubicBezTo>
                          <a:pt x="21600" y="20700"/>
                          <a:pt x="10800" y="21600"/>
                          <a:pt x="0" y="21600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8" name=""/>
              <p:cNvSpPr/>
              <p:nvPr/>
            </p:nvSpPr>
            <p:spPr>
              <a:xfrm>
                <a:off x="5530680" y="987840"/>
                <a:ext cx="848880" cy="91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 flipH="1">
              <a:off x="2358360" y="3812400"/>
              <a:ext cx="648360" cy="9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415680" y="4361040"/>
              <a:ext cx="119880" cy="64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1480320" y="3908160"/>
              <a:ext cx="878040" cy="84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537640" y="5005440"/>
              <a:ext cx="878040" cy="84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724280" y="838080"/>
            <a:ext cx="0" cy="83844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60840" y="1295280"/>
            <a:ext cx="0" cy="83844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1295280"/>
            <a:ext cx="0" cy="83844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67080" y="8380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638320" y="2743200"/>
            <a:ext cx="685800" cy="0"/>
          </a:xfrm>
          <a:prstGeom prst="line">
            <a:avLst/>
          </a:prstGeom>
          <a:ln cap="rnd" w="28440">
            <a:solidFill>
              <a:srgbClr val="00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167080" y="2851200"/>
            <a:ext cx="685800" cy="0"/>
          </a:xfrm>
          <a:prstGeom prst="line">
            <a:avLst/>
          </a:prstGeom>
          <a:ln cap="rnd" w="28440">
            <a:solidFill>
              <a:srgbClr val="00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57440" y="3124080"/>
            <a:ext cx="685800" cy="0"/>
          </a:xfrm>
          <a:prstGeom prst="line">
            <a:avLst/>
          </a:prstGeom>
          <a:ln cap="rnd" w="28440">
            <a:solidFill>
              <a:srgbClr val="00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19920" y="28195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98960" y="947880"/>
            <a:ext cx="149400" cy="1265040"/>
          </a:xfrm>
          <a:custGeom>
            <a:avLst/>
            <a:gdLst/>
            <a:ahLst/>
            <a:rect l="l" t="t" r="r" b="b"/>
            <a:pathLst>
              <a:path w="94" h="797">
                <a:moveTo>
                  <a:pt x="41" y="797"/>
                </a:moveTo>
                <a:cubicBezTo>
                  <a:pt x="51" y="795"/>
                  <a:pt x="62" y="796"/>
                  <a:pt x="70" y="790"/>
                </a:cubicBezTo>
                <a:cubicBezTo>
                  <a:pt x="91" y="773"/>
                  <a:pt x="74" y="737"/>
                  <a:pt x="70" y="711"/>
                </a:cubicBezTo>
                <a:cubicBezTo>
                  <a:pt x="64" y="673"/>
                  <a:pt x="55" y="634"/>
                  <a:pt x="41" y="598"/>
                </a:cubicBezTo>
                <a:cubicBezTo>
                  <a:pt x="34" y="555"/>
                  <a:pt x="27" y="512"/>
                  <a:pt x="13" y="470"/>
                </a:cubicBezTo>
                <a:cubicBezTo>
                  <a:pt x="21" y="366"/>
                  <a:pt x="0" y="378"/>
                  <a:pt x="77" y="363"/>
                </a:cubicBezTo>
                <a:cubicBezTo>
                  <a:pt x="94" y="337"/>
                  <a:pt x="92" y="313"/>
                  <a:pt x="77" y="285"/>
                </a:cubicBezTo>
                <a:cubicBezTo>
                  <a:pt x="69" y="270"/>
                  <a:pt x="59" y="256"/>
                  <a:pt x="49" y="242"/>
                </a:cubicBezTo>
                <a:cubicBezTo>
                  <a:pt x="44" y="235"/>
                  <a:pt x="34" y="221"/>
                  <a:pt x="34" y="221"/>
                </a:cubicBezTo>
                <a:cubicBezTo>
                  <a:pt x="24" y="167"/>
                  <a:pt x="13" y="97"/>
                  <a:pt x="56" y="57"/>
                </a:cubicBezTo>
                <a:cubicBezTo>
                  <a:pt x="63" y="36"/>
                  <a:pt x="75" y="20"/>
                  <a:pt x="84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35280" y="2021040"/>
            <a:ext cx="411120" cy="1274760"/>
          </a:xfrm>
          <a:custGeom>
            <a:avLst/>
            <a:gdLst/>
            <a:ahLst/>
            <a:rect l="l" t="t" r="r" b="b"/>
            <a:pathLst>
              <a:path w="259" h="803">
                <a:moveTo>
                  <a:pt x="199" y="803"/>
                </a:moveTo>
                <a:cubicBezTo>
                  <a:pt x="253" y="767"/>
                  <a:pt x="226" y="716"/>
                  <a:pt x="220" y="647"/>
                </a:cubicBezTo>
                <a:cubicBezTo>
                  <a:pt x="216" y="596"/>
                  <a:pt x="205" y="566"/>
                  <a:pt x="170" y="533"/>
                </a:cubicBezTo>
                <a:cubicBezTo>
                  <a:pt x="165" y="519"/>
                  <a:pt x="161" y="505"/>
                  <a:pt x="156" y="491"/>
                </a:cubicBezTo>
                <a:cubicBezTo>
                  <a:pt x="154" y="484"/>
                  <a:pt x="151" y="476"/>
                  <a:pt x="149" y="469"/>
                </a:cubicBezTo>
                <a:cubicBezTo>
                  <a:pt x="147" y="462"/>
                  <a:pt x="142" y="448"/>
                  <a:pt x="142" y="448"/>
                </a:cubicBezTo>
                <a:cubicBezTo>
                  <a:pt x="153" y="403"/>
                  <a:pt x="174" y="397"/>
                  <a:pt x="213" y="384"/>
                </a:cubicBezTo>
                <a:cubicBezTo>
                  <a:pt x="259" y="315"/>
                  <a:pt x="234" y="226"/>
                  <a:pt x="170" y="185"/>
                </a:cubicBezTo>
                <a:cubicBezTo>
                  <a:pt x="134" y="129"/>
                  <a:pt x="180" y="194"/>
                  <a:pt x="135" y="149"/>
                </a:cubicBezTo>
                <a:cubicBezTo>
                  <a:pt x="88" y="102"/>
                  <a:pt x="47" y="47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17524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320040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3276720"/>
            <a:ext cx="75960" cy="75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25800" y="340668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14640" y="352728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14640" y="3648240"/>
            <a:ext cx="76320" cy="75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49480" y="3722760"/>
            <a:ext cx="76320" cy="75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3733920"/>
            <a:ext cx="75960" cy="75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33720" y="32004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3505320"/>
            <a:ext cx="76320" cy="75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358128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34290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8871200">
            <a:off x="6095880" y="227880"/>
            <a:ext cx="609480" cy="1524240"/>
          </a:xfrm>
          <a:custGeom>
            <a:avLst/>
            <a:gdLst>
              <a:gd name="textAreaLeft" fmla="*/ 0 w 609480"/>
              <a:gd name="textAreaRight" fmla="*/ 219960 w 60948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29400" y="4572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05320" y="3429000"/>
            <a:ext cx="609480" cy="68580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19520" y="41148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200400" y="40381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4-03-17T13:49:44Z</dcterms:modified>
  <cp:revision>6</cp:revision>
  <dc:subject/>
  <dc:title>PowerPoint Presentation</dc:title>
</cp:coreProperties>
</file>