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9EC-0B32-40FC-919E-498B60DB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523-A6DC-4F75-A821-E15F932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BC1-9FC1-4C78-B3B2-CE05E09B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1E9-58E5-4E8F-853F-80C223C7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1C8-5F76-49F6-8D29-8BA82249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E9F-1682-4573-895E-E3C31FC5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F97-E2E1-418F-AF24-9CFEBE0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FC7-0FE5-4258-8D89-F6876A3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AC6-56FB-4229-97A7-D2FFEB5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D5C-387A-46E1-8ADF-43BFEEB1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2E5-3F0B-4887-BABD-E4D9E22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390-2B56-4B87-8523-6C966E6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E9AB-BC5C-49EC-87CC-526C6A26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676520"/>
            <a:ext cx="4876920" cy="2057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2004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676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20574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4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47” fi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599840" y="1523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066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93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927000"/>
            <a:ext cx="4572000" cy="2057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447920"/>
            <a:ext cx="457200" cy="1066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1447920"/>
            <a:ext cx="457200" cy="1066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57400" y="533520"/>
            <a:ext cx="0" cy="308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533520"/>
            <a:ext cx="0" cy="308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533160" cy="3048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ê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962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allonge (prise du drap plat) à coudre aux p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21333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57440" y="274320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57440" y="114300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1193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574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nviron 6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23880" y="49528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495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nviron 8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0:44:35Z</dcterms:created>
  <dc:creator>sjj</dc:creator>
  <dc:description/>
  <dc:language>en-US</dc:language>
  <cp:lastModifiedBy>sjj</cp:lastModifiedBy>
  <dcterms:modified xsi:type="dcterms:W3CDTF">2014-04-24T14:46:36Z</dcterms:modified>
  <cp:revision>5</cp:revision>
  <dc:subject/>
  <dc:title>PowerPoint Presentation</dc:title>
</cp:coreProperties>
</file>