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FFF-4267-4408-9091-4D3CB93C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6FD-EABA-4815-ADC5-5106688C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CCF-FCA1-4D22-AAB3-EC5C67E9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F32-7536-4262-907C-87B1AE28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152-1E65-46C4-BD11-475E2F14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F94-7872-4D3D-B274-71851873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C1B-D4FD-4E9A-B066-FA1ECA5F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959-5E9E-42E5-9300-5B407CA7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37D-1BEB-4DF5-97BE-325597B0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F63-64AB-44AF-BDF3-86DA21D7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393-D479-4289-B876-CE0B055D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6A2-454B-4DD4-A95F-0EEE1C36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42F6-6A2B-4471-A0AF-1DE4CE054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5181480"/>
            <a:ext cx="1600200" cy="129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5410080"/>
            <a:ext cx="1295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Ho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EU3000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endCxn id="44" idx="1"/>
          </p:cNvCxnSpPr>
          <p:nvPr/>
        </p:nvCxnSpPr>
        <p:spPr>
          <a:xfrm>
            <a:off x="939600" y="4770000"/>
            <a:ext cx="911880" cy="20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" name=""/>
          <p:cNvSpPr/>
          <p:nvPr/>
        </p:nvSpPr>
        <p:spPr>
          <a:xfrm>
            <a:off x="2514600" y="4876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5" idx="2"/>
            <a:endCxn id="47" idx="3"/>
          </p:cNvCxnSpPr>
          <p:nvPr/>
        </p:nvCxnSpPr>
        <p:spPr>
          <a:xfrm flipH="1" flipV="1">
            <a:off x="2057400" y="4724280"/>
            <a:ext cx="4575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"/>
          <p:cNvSpPr/>
          <p:nvPr/>
        </p:nvSpPr>
        <p:spPr>
          <a:xfrm>
            <a:off x="1511280" y="32637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8040" y="3505320"/>
            <a:ext cx="660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43280" y="2393280"/>
            <a:ext cx="1728360" cy="2742480"/>
            <a:chOff x="1943280" y="2393280"/>
            <a:chExt cx="1728360" cy="2742480"/>
          </a:xfrm>
        </p:grpSpPr>
        <p:sp>
          <p:nvSpPr>
            <p:cNvPr id="51" name=""/>
            <p:cNvSpPr/>
            <p:nvPr/>
          </p:nvSpPr>
          <p:spPr>
            <a:xfrm rot="16200000">
              <a:off x="2192760" y="3656880"/>
              <a:ext cx="1229040" cy="17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0800000">
              <a:off x="2025360" y="2393280"/>
              <a:ext cx="1403280" cy="15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378240" y="1752480"/>
            <a:ext cx="74520" cy="1359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2514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6"/>
            <a:endCxn id="53" idx="1"/>
          </p:cNvCxnSpPr>
          <p:nvPr/>
        </p:nvCxnSpPr>
        <p:spPr>
          <a:xfrm flipV="1">
            <a:off x="2666880" y="2431800"/>
            <a:ext cx="711720" cy="2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6" name=""/>
          <p:cNvGrpSpPr/>
          <p:nvPr/>
        </p:nvGrpSpPr>
        <p:grpSpPr>
          <a:xfrm>
            <a:off x="3365640" y="1409760"/>
            <a:ext cx="228240" cy="304560"/>
            <a:chOff x="3365640" y="1409760"/>
            <a:chExt cx="228240" cy="304560"/>
          </a:xfrm>
        </p:grpSpPr>
        <p:sp>
          <p:nvSpPr>
            <p:cNvPr id="57" name=""/>
            <p:cNvSpPr/>
            <p:nvPr/>
          </p:nvSpPr>
          <p:spPr>
            <a:xfrm>
              <a:off x="3422520" y="1409760"/>
              <a:ext cx="17136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200000">
              <a:off x="3270240" y="1504800"/>
              <a:ext cx="304560" cy="114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90920" y="11430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9" idx="6"/>
            <a:endCxn id="58" idx="0"/>
          </p:cNvCxnSpPr>
          <p:nvPr/>
        </p:nvCxnSpPr>
        <p:spPr>
          <a:xfrm>
            <a:off x="2895480" y="1295640"/>
            <a:ext cx="470520" cy="26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"/>
          <p:cNvSpPr/>
          <p:nvPr/>
        </p:nvSpPr>
        <p:spPr>
          <a:xfrm rot="16200000">
            <a:off x="4471920" y="622440"/>
            <a:ext cx="7632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14720" y="419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4"/>
            <a:endCxn id="61" idx="3"/>
          </p:cNvCxnSpPr>
          <p:nvPr/>
        </p:nvCxnSpPr>
        <p:spPr>
          <a:xfrm>
            <a:off x="4167360" y="723960"/>
            <a:ext cx="343080" cy="73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"/>
          <p:cNvSpPr/>
          <p:nvPr/>
        </p:nvSpPr>
        <p:spPr>
          <a:xfrm>
            <a:off x="3938760" y="11048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endCxn id="64" idx="0"/>
          </p:cNvCxnSpPr>
          <p:nvPr/>
        </p:nvCxnSpPr>
        <p:spPr>
          <a:xfrm flipH="1" flipV="1">
            <a:off x="3938760" y="1866240"/>
            <a:ext cx="163800" cy="87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"/>
          <p:cNvCxnSpPr>
            <a:endCxn id="67" idx="0"/>
          </p:cNvCxnSpPr>
          <p:nvPr/>
        </p:nvCxnSpPr>
        <p:spPr>
          <a:xfrm flipH="1" flipV="1">
            <a:off x="5310360" y="1866240"/>
            <a:ext cx="21564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"/>
          <p:cNvSpPr/>
          <p:nvPr/>
        </p:nvSpPr>
        <p:spPr>
          <a:xfrm>
            <a:off x="5310360" y="11048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3960" y="1765440"/>
            <a:ext cx="129528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3960" y="1117440"/>
            <a:ext cx="129528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endCxn id="69" idx="2"/>
          </p:cNvCxnSpPr>
          <p:nvPr/>
        </p:nvCxnSpPr>
        <p:spPr>
          <a:xfrm flipH="1" flipV="1">
            <a:off x="4611600" y="1841400"/>
            <a:ext cx="585720" cy="177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"/>
          <p:cNvSpPr/>
          <p:nvPr/>
        </p:nvSpPr>
        <p:spPr>
          <a:xfrm>
            <a:off x="5257800" y="13590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5335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6019920" y="1142640"/>
            <a:ext cx="7596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5468040" y="1351440"/>
            <a:ext cx="164880" cy="281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609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2133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7" idx="0"/>
            <a:endCxn id="74" idx="1"/>
          </p:cNvCxnSpPr>
          <p:nvPr/>
        </p:nvCxnSpPr>
        <p:spPr>
          <a:xfrm flipH="1" flipV="1">
            <a:off x="6057720" y="1523520"/>
            <a:ext cx="388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"/>
          <p:cNvCxnSpPr>
            <a:stCxn id="76" idx="4"/>
            <a:endCxn id="75" idx="3"/>
          </p:cNvCxnSpPr>
          <p:nvPr/>
        </p:nvCxnSpPr>
        <p:spPr>
          <a:xfrm flipH="1">
            <a:off x="5550480" y="914400"/>
            <a:ext cx="164880" cy="49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"/>
          <p:cNvSpPr/>
          <p:nvPr/>
        </p:nvSpPr>
        <p:spPr>
          <a:xfrm>
            <a:off x="4724280" y="8380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3327480" y="3048120"/>
            <a:ext cx="164880" cy="28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9718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2" idx="6"/>
            <a:endCxn id="81" idx="3"/>
          </p:cNvCxnSpPr>
          <p:nvPr/>
        </p:nvCxnSpPr>
        <p:spPr>
          <a:xfrm>
            <a:off x="2438280" y="3124440"/>
            <a:ext cx="889560" cy="6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4" name=""/>
          <p:cNvGrpSpPr/>
          <p:nvPr/>
        </p:nvGrpSpPr>
        <p:grpSpPr>
          <a:xfrm>
            <a:off x="6438960" y="1371240"/>
            <a:ext cx="304560" cy="228600"/>
            <a:chOff x="6438960" y="1371240"/>
            <a:chExt cx="304560" cy="228600"/>
          </a:xfrm>
        </p:grpSpPr>
        <p:sp>
          <p:nvSpPr>
            <p:cNvPr id="85" name=""/>
            <p:cNvSpPr/>
            <p:nvPr/>
          </p:nvSpPr>
          <p:spPr>
            <a:xfrm rot="16200000">
              <a:off x="6400800" y="1409400"/>
              <a:ext cx="22860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91240" y="14731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" name=""/>
          <p:cNvCxnSpPr>
            <a:stCxn id="88" idx="0"/>
            <a:endCxn id="85" idx="1"/>
          </p:cNvCxnSpPr>
          <p:nvPr/>
        </p:nvCxnSpPr>
        <p:spPr>
          <a:xfrm flipH="1" flipV="1">
            <a:off x="6514920" y="1599840"/>
            <a:ext cx="1148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"/>
          <p:cNvCxnSpPr/>
          <p:nvPr/>
        </p:nvCxnSpPr>
        <p:spPr>
          <a:xfrm>
            <a:off x="2862000" y="707760"/>
            <a:ext cx="795960" cy="724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0" name=""/>
          <p:cNvGrpSpPr/>
          <p:nvPr/>
        </p:nvGrpSpPr>
        <p:grpSpPr>
          <a:xfrm>
            <a:off x="1828800" y="4495680"/>
            <a:ext cx="228600" cy="304920"/>
            <a:chOff x="1828800" y="4495680"/>
            <a:chExt cx="228600" cy="304920"/>
          </a:xfrm>
        </p:grpSpPr>
        <p:sp>
          <p:nvSpPr>
            <p:cNvPr id="91" name=""/>
            <p:cNvSpPr/>
            <p:nvPr/>
          </p:nvSpPr>
          <p:spPr>
            <a:xfrm>
              <a:off x="1905120" y="4495680"/>
              <a:ext cx="7596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28800" y="4648320"/>
              <a:ext cx="22860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851120" y="4910040"/>
            <a:ext cx="179280" cy="266760"/>
            <a:chOff x="1851120" y="4910040"/>
            <a:chExt cx="179280" cy="266760"/>
          </a:xfrm>
        </p:grpSpPr>
        <p:sp>
          <p:nvSpPr>
            <p:cNvPr id="93" name=""/>
            <p:cNvSpPr/>
            <p:nvPr/>
          </p:nvSpPr>
          <p:spPr>
            <a:xfrm>
              <a:off x="1905120" y="4948200"/>
              <a:ext cx="7596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51120" y="4910040"/>
              <a:ext cx="179280" cy="12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87240" y="5335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Fig.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6668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3581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2743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533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572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1917000">
            <a:off x="0" y="1828800"/>
            <a:ext cx="4854600" cy="2768760"/>
          </a:xfrm>
          <a:prstGeom prst="roundRect">
            <a:avLst>
              <a:gd name="adj" fmla="val 4128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3292560" y="1056960"/>
            <a:ext cx="36360" cy="477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103" idx="4"/>
            <a:endCxn id="104" idx="3"/>
          </p:cNvCxnSpPr>
          <p:nvPr/>
        </p:nvCxnSpPr>
        <p:spPr>
          <a:xfrm>
            <a:off x="6248160" y="2133360"/>
            <a:ext cx="477000" cy="38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"/>
          <p:cNvCxnSpPr>
            <a:stCxn id="106" idx="7"/>
            <a:endCxn id="107" idx="2"/>
          </p:cNvCxnSpPr>
          <p:nvPr/>
        </p:nvCxnSpPr>
        <p:spPr>
          <a:xfrm flipV="1">
            <a:off x="8260920" y="3550680"/>
            <a:ext cx="273960" cy="37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"/>
          <p:cNvSpPr/>
          <p:nvPr/>
        </p:nvSpPr>
        <p:spPr>
          <a:xfrm rot="16200000">
            <a:off x="6716520" y="1749240"/>
            <a:ext cx="36720" cy="359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6705720" y="736200"/>
            <a:ext cx="36360" cy="359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 rot="10800000">
            <a:off x="4800600" y="2482920"/>
            <a:ext cx="108000" cy="10800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4808520" y="3473280"/>
            <a:ext cx="108000" cy="10800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11" idx="5"/>
            <a:endCxn id="108" idx="5"/>
          </p:cNvCxnSpPr>
          <p:nvPr/>
        </p:nvCxnSpPr>
        <p:spPr>
          <a:xfrm>
            <a:off x="4679640" y="2012760"/>
            <a:ext cx="1753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"/>
          <p:cNvCxnSpPr>
            <a:stCxn id="113" idx="7"/>
            <a:endCxn id="101" idx="1"/>
          </p:cNvCxnSpPr>
          <p:nvPr/>
        </p:nvCxnSpPr>
        <p:spPr>
          <a:xfrm flipV="1">
            <a:off x="2012760" y="3466440"/>
            <a:ext cx="1299240" cy="145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"/>
          <p:cNvSpPr/>
          <p:nvPr/>
        </p:nvSpPr>
        <p:spPr>
          <a:xfrm>
            <a:off x="1066680" y="16002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1600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057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3271680" y="239040"/>
            <a:ext cx="36360" cy="4780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28954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20" idx="3"/>
            <a:endCxn id="118" idx="7"/>
          </p:cNvCxnSpPr>
          <p:nvPr/>
        </p:nvCxnSpPr>
        <p:spPr>
          <a:xfrm flipH="1">
            <a:off x="945360" y="1402920"/>
            <a:ext cx="1994760" cy="153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"/>
          <p:cNvSpPr/>
          <p:nvPr/>
        </p:nvSpPr>
        <p:spPr>
          <a:xfrm>
            <a:off x="4495680" y="2971800"/>
            <a:ext cx="228600" cy="22860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3" idx="2"/>
            <a:endCxn id="121" idx="6"/>
          </p:cNvCxnSpPr>
          <p:nvPr/>
        </p:nvCxnSpPr>
        <p:spPr>
          <a:xfrm flipH="1">
            <a:off x="4723920" y="3048120"/>
            <a:ext cx="9151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"/>
          <p:cNvSpPr/>
          <p:nvPr/>
        </p:nvSpPr>
        <p:spPr>
          <a:xfrm>
            <a:off x="228600" y="2633760"/>
            <a:ext cx="1523880" cy="80964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1143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7240" y="533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Fig.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876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752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1828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3886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28954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971800" y="1219320"/>
            <a:ext cx="3276720" cy="3200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12193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11120" y="266688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2096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609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609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4840" y="79200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09960" y="1066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7" idx="2"/>
            <a:endCxn id="130" idx="7"/>
          </p:cNvCxnSpPr>
          <p:nvPr/>
        </p:nvCxnSpPr>
        <p:spPr>
          <a:xfrm flipH="1">
            <a:off x="5014440" y="1828440"/>
            <a:ext cx="192024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38" name=""/>
          <p:cNvGrpSpPr/>
          <p:nvPr/>
        </p:nvGrpSpPr>
        <p:grpSpPr>
          <a:xfrm>
            <a:off x="3505320" y="4267080"/>
            <a:ext cx="2133360" cy="76320"/>
            <a:chOff x="3505320" y="4267080"/>
            <a:chExt cx="2133360" cy="76320"/>
          </a:xfrm>
        </p:grpSpPr>
        <p:sp>
          <p:nvSpPr>
            <p:cNvPr id="139" name=""/>
            <p:cNvSpPr/>
            <p:nvPr/>
          </p:nvSpPr>
          <p:spPr>
            <a:xfrm>
              <a:off x="3505320" y="427212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95800" y="42670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81600" y="427212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67400" y="42670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505320" y="1295280"/>
            <a:ext cx="2133360" cy="76320"/>
            <a:chOff x="3505320" y="1295280"/>
            <a:chExt cx="2133360" cy="76320"/>
          </a:xfrm>
        </p:grpSpPr>
        <p:sp>
          <p:nvSpPr>
            <p:cNvPr id="144" name=""/>
            <p:cNvSpPr/>
            <p:nvPr/>
          </p:nvSpPr>
          <p:spPr>
            <a:xfrm>
              <a:off x="3505320" y="130032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95800" y="12952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81600" y="130032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7400" y="12952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124080" y="1752480"/>
            <a:ext cx="76320" cy="2133360"/>
            <a:chOff x="3124080" y="1752480"/>
            <a:chExt cx="76320" cy="2133360"/>
          </a:xfrm>
        </p:grpSpPr>
        <p:sp>
          <p:nvSpPr>
            <p:cNvPr id="149" name=""/>
            <p:cNvSpPr/>
            <p:nvPr/>
          </p:nvSpPr>
          <p:spPr>
            <a:xfrm rot="16200000">
              <a:off x="3129120" y="381456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3124080" y="312372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200000">
              <a:off x="3129120" y="243828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3124080" y="175212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019920" y="1752480"/>
            <a:ext cx="75600" cy="2133360"/>
            <a:chOff x="6019920" y="1752480"/>
            <a:chExt cx="75600" cy="2133360"/>
          </a:xfrm>
        </p:grpSpPr>
        <p:sp>
          <p:nvSpPr>
            <p:cNvPr id="154" name=""/>
            <p:cNvSpPr/>
            <p:nvPr/>
          </p:nvSpPr>
          <p:spPr>
            <a:xfrm rot="16200000">
              <a:off x="6024240" y="3814560"/>
              <a:ext cx="71280" cy="7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6019920" y="312408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6024240" y="2438280"/>
              <a:ext cx="71280" cy="7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6019920" y="175248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273720" y="441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4305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4064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55308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3" idx="7"/>
            <a:endCxn id="139" idx="3"/>
          </p:cNvCxnSpPr>
          <p:nvPr/>
        </p:nvCxnSpPr>
        <p:spPr>
          <a:xfrm flipV="1">
            <a:off x="3308400" y="4331880"/>
            <a:ext cx="20880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4" name=""/>
          <p:cNvSpPr/>
          <p:nvPr/>
        </p:nvSpPr>
        <p:spPr>
          <a:xfrm>
            <a:off x="687240" y="533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Fig.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48769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38098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1676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057400" y="1447920"/>
            <a:ext cx="1600200" cy="3200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1447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1447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3040" y="289548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4648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838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838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2360" y="102060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3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1295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endCxn id="170" idx="7"/>
          </p:cNvCxnSpPr>
          <p:nvPr/>
        </p:nvCxnSpPr>
        <p:spPr>
          <a:xfrm flipH="1">
            <a:off x="3261960" y="2072880"/>
            <a:ext cx="123408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77" name=""/>
          <p:cNvGrpSpPr/>
          <p:nvPr/>
        </p:nvGrpSpPr>
        <p:grpSpPr>
          <a:xfrm>
            <a:off x="2514600" y="4495680"/>
            <a:ext cx="761760" cy="76320"/>
            <a:chOff x="2514600" y="4495680"/>
            <a:chExt cx="761760" cy="76320"/>
          </a:xfrm>
        </p:grpSpPr>
        <p:sp>
          <p:nvSpPr>
            <p:cNvPr id="178" name=""/>
            <p:cNvSpPr/>
            <p:nvPr/>
          </p:nvSpPr>
          <p:spPr>
            <a:xfrm>
              <a:off x="2514600" y="450036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5080" y="449568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678120" y="4648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2920" y="45338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57480" y="429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57480" y="4647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7"/>
            <a:endCxn id="178" idx="3"/>
          </p:cNvCxnSpPr>
          <p:nvPr/>
        </p:nvCxnSpPr>
        <p:spPr>
          <a:xfrm flipV="1">
            <a:off x="1936800" y="4560840"/>
            <a:ext cx="589680" cy="66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86" name=""/>
          <p:cNvGrpSpPr/>
          <p:nvPr/>
        </p:nvGrpSpPr>
        <p:grpSpPr>
          <a:xfrm>
            <a:off x="2514600" y="1523880"/>
            <a:ext cx="761760" cy="76320"/>
            <a:chOff x="2514600" y="1523880"/>
            <a:chExt cx="761760" cy="76320"/>
          </a:xfrm>
        </p:grpSpPr>
        <p:sp>
          <p:nvSpPr>
            <p:cNvPr id="187" name=""/>
            <p:cNvSpPr/>
            <p:nvPr/>
          </p:nvSpPr>
          <p:spPr>
            <a:xfrm>
              <a:off x="2514600" y="152856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5080" y="152388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676520" y="5181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40384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1905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7240" y="533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Fig.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6:25:22Z</dcterms:created>
  <dc:creator>Stefan Jetchick</dc:creator>
  <dc:description/>
  <dc:language>en-US</dc:language>
  <cp:lastModifiedBy>Stefan Jetchick</cp:lastModifiedBy>
  <cp:lastPrinted>2008-02-26T20:41:36Z</cp:lastPrinted>
  <dcterms:modified xsi:type="dcterms:W3CDTF">2008-06-08T21:48:58Z</dcterms:modified>
  <cp:revision>35</cp:revision>
  <dc:subject/>
  <dc:title>PowerPoint Presentation</dc:title>
</cp:coreProperties>
</file>