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7F1C-B69F-4E59-9F3C-B83B2F3C3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597F-6D86-40AC-81D0-C15B2F299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1C13-6FC6-4392-9AC9-5FEC3451F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9A34-0AE8-4899-A8A4-23D4C50C6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5EDB-797D-4282-B782-40CC757ED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2ED1-4FBF-4166-B374-0983B2A52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485E-B5D6-4DED-820C-984932DF3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5CD7-3AC9-4A35-960D-103332826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2BD6-F810-4CBB-99FF-04AC97DF1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0749-EDDC-4D8D-A1EB-9E54B7605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9F2C-5146-4BF0-9903-DB9D24735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CF58-C43C-4401-A8B9-C8F29BC05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0461D-0A71-4DD9-B299-5CA17792D7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3880" y="480060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441972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Boulevard Laurier (direction Pont Pierre-Lapor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3880" y="266688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00200" y="284940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Boulevard Laurier (direction Vieux Québe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2920" y="4844880"/>
            <a:ext cx="36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Centre d'achat Place Laur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54120" y="2133720"/>
            <a:ext cx="20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Hôpital CH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23880" y="3352680"/>
            <a:ext cx="5639040" cy="685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2657520" y="3524400"/>
            <a:ext cx="627840" cy="380520"/>
            <a:chOff x="2657520" y="3524400"/>
            <a:chExt cx="627840" cy="380520"/>
          </a:xfrm>
        </p:grpSpPr>
        <p:grpSp>
          <p:nvGrpSpPr>
            <p:cNvPr id="49" name=""/>
            <p:cNvGrpSpPr/>
            <p:nvPr/>
          </p:nvGrpSpPr>
          <p:grpSpPr>
            <a:xfrm>
              <a:off x="2657520" y="3524400"/>
              <a:ext cx="609480" cy="380520"/>
              <a:chOff x="2657520" y="3524400"/>
              <a:chExt cx="609480" cy="380520"/>
            </a:xfrm>
          </p:grpSpPr>
          <p:sp>
            <p:nvSpPr>
              <p:cNvPr id="50" name=""/>
              <p:cNvSpPr/>
              <p:nvPr/>
            </p:nvSpPr>
            <p:spPr>
              <a:xfrm>
                <a:off x="2657520" y="3600360"/>
                <a:ext cx="609480" cy="151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809800" y="3524400"/>
                <a:ext cx="304920" cy="75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038400" y="37526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2733480" y="3752640"/>
                <a:ext cx="15264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2723760" y="3529080"/>
              <a:ext cx="56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200" spc="-1" strike="noStrike">
                  <a:solidFill>
                    <a:srgbClr val="ffffff"/>
                  </a:solidFill>
                  <a:latin typeface="Times New Roman"/>
                </a:rPr>
                <a:t>poli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3429000" y="3352680"/>
            <a:ext cx="380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32760" y="4191120"/>
            <a:ext cx="1317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Passage piétonn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du terre-pl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5379840" y="3657600"/>
            <a:ext cx="533160" cy="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4114800" y="3429000"/>
            <a:ext cx="837720" cy="533520"/>
            <a:chOff x="4114800" y="3429000"/>
            <a:chExt cx="837720" cy="533520"/>
          </a:xfrm>
        </p:grpSpPr>
        <p:sp>
          <p:nvSpPr>
            <p:cNvPr id="59" name=""/>
            <p:cNvSpPr/>
            <p:nvPr/>
          </p:nvSpPr>
          <p:spPr>
            <a:xfrm>
              <a:off x="4114800" y="3886200"/>
              <a:ext cx="759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267080" y="3809880"/>
              <a:ext cx="7560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571640" y="3886200"/>
              <a:ext cx="759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876560" y="3505320"/>
              <a:ext cx="7596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800240" y="3429000"/>
              <a:ext cx="759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343040" y="3429000"/>
              <a:ext cx="759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114800" y="3429000"/>
              <a:ext cx="759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724280" y="3886200"/>
              <a:ext cx="7560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876560" y="3809880"/>
              <a:ext cx="759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3809880" y="355284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Manifestants pro-v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5313240" y="3505320"/>
            <a:ext cx="627840" cy="380520"/>
            <a:chOff x="5313240" y="3505320"/>
            <a:chExt cx="627840" cy="380520"/>
          </a:xfrm>
        </p:grpSpPr>
        <p:grpSp>
          <p:nvGrpSpPr>
            <p:cNvPr id="70" name=""/>
            <p:cNvGrpSpPr/>
            <p:nvPr/>
          </p:nvGrpSpPr>
          <p:grpSpPr>
            <a:xfrm>
              <a:off x="5313240" y="3505320"/>
              <a:ext cx="609480" cy="380520"/>
              <a:chOff x="5313240" y="3505320"/>
              <a:chExt cx="609480" cy="380520"/>
            </a:xfrm>
          </p:grpSpPr>
          <p:sp>
            <p:nvSpPr>
              <p:cNvPr id="71" name=""/>
              <p:cNvSpPr/>
              <p:nvPr/>
            </p:nvSpPr>
            <p:spPr>
              <a:xfrm>
                <a:off x="5313240" y="3581280"/>
                <a:ext cx="609480" cy="151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465520" y="3505320"/>
                <a:ext cx="304920" cy="75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694120" y="373356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5389200" y="3733560"/>
                <a:ext cx="15264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" name=""/>
            <p:cNvSpPr/>
            <p:nvPr/>
          </p:nvSpPr>
          <p:spPr>
            <a:xfrm>
              <a:off x="5379480" y="3510000"/>
              <a:ext cx="56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200" spc="-1" strike="noStrike">
                  <a:solidFill>
                    <a:srgbClr val="ffffff"/>
                  </a:solidFill>
                  <a:latin typeface="Times New Roman"/>
                </a:rPr>
                <a:t>poli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6" name=""/>
          <p:cNvCxnSpPr>
            <a:stCxn id="56" idx="3"/>
            <a:endCxn id="55" idx="2"/>
          </p:cNvCxnSpPr>
          <p:nvPr/>
        </p:nvCxnSpPr>
        <p:spPr>
          <a:xfrm flipV="1">
            <a:off x="3150360" y="4038480"/>
            <a:ext cx="469440" cy="38232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114800" y="4876920"/>
            <a:ext cx="380880" cy="838080"/>
          </a:xfrm>
          <a:prstGeom prst="downArrow">
            <a:avLst>
              <a:gd name="adj1" fmla="val 50000"/>
              <a:gd name="adj2" fmla="val 55009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23880" y="528948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523880" y="399420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676520" y="4756320"/>
            <a:ext cx="609480" cy="380520"/>
            <a:chOff x="1676520" y="4756320"/>
            <a:chExt cx="609480" cy="380520"/>
          </a:xfrm>
        </p:grpSpPr>
        <p:sp>
          <p:nvSpPr>
            <p:cNvPr id="81" name=""/>
            <p:cNvSpPr/>
            <p:nvPr/>
          </p:nvSpPr>
          <p:spPr>
            <a:xfrm>
              <a:off x="1676520" y="4832280"/>
              <a:ext cx="609480" cy="151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828800" y="4756320"/>
              <a:ext cx="304920" cy="75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057400" y="498456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752480" y="498456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2590920" y="4146480"/>
            <a:ext cx="609480" cy="381240"/>
            <a:chOff x="2590920" y="4146480"/>
            <a:chExt cx="609480" cy="381240"/>
          </a:xfrm>
        </p:grpSpPr>
        <p:sp>
          <p:nvSpPr>
            <p:cNvPr id="86" name=""/>
            <p:cNvSpPr/>
            <p:nvPr/>
          </p:nvSpPr>
          <p:spPr>
            <a:xfrm>
              <a:off x="2590920" y="4222800"/>
              <a:ext cx="6094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743200" y="4146480"/>
              <a:ext cx="304920" cy="76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971800" y="43750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666880" y="4375080"/>
              <a:ext cx="15264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6324480" y="4756320"/>
            <a:ext cx="609480" cy="380520"/>
            <a:chOff x="6324480" y="4756320"/>
            <a:chExt cx="609480" cy="380520"/>
          </a:xfrm>
        </p:grpSpPr>
        <p:sp>
          <p:nvSpPr>
            <p:cNvPr id="91" name=""/>
            <p:cNvSpPr/>
            <p:nvPr/>
          </p:nvSpPr>
          <p:spPr>
            <a:xfrm>
              <a:off x="6324480" y="4832280"/>
              <a:ext cx="609480" cy="151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476760" y="4756320"/>
              <a:ext cx="304920" cy="75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705360" y="498456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400440" y="498456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2286000" y="4602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Boulevard Laurier (vers le Pont Pierre-Lapor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23880" y="327672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23880" y="198108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5257440" y="2743200"/>
            <a:ext cx="609480" cy="380520"/>
            <a:chOff x="5257440" y="2743200"/>
            <a:chExt cx="609480" cy="380520"/>
          </a:xfrm>
        </p:grpSpPr>
        <p:sp>
          <p:nvSpPr>
            <p:cNvPr id="99" name=""/>
            <p:cNvSpPr/>
            <p:nvPr/>
          </p:nvSpPr>
          <p:spPr>
            <a:xfrm flipH="1">
              <a:off x="5257080" y="2819160"/>
              <a:ext cx="609480" cy="151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5409360" y="2743200"/>
              <a:ext cx="304920" cy="75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5333400" y="29714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5638320" y="297144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6171840" y="2133720"/>
            <a:ext cx="609480" cy="380520"/>
            <a:chOff x="6171840" y="2133720"/>
            <a:chExt cx="609480" cy="380520"/>
          </a:xfrm>
        </p:grpSpPr>
        <p:sp>
          <p:nvSpPr>
            <p:cNvPr id="104" name=""/>
            <p:cNvSpPr/>
            <p:nvPr/>
          </p:nvSpPr>
          <p:spPr>
            <a:xfrm flipH="1">
              <a:off x="6171480" y="2209680"/>
              <a:ext cx="609480" cy="151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6323760" y="2133720"/>
              <a:ext cx="304920" cy="75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6247800" y="236196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6552720" y="236196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676160" y="2133720"/>
            <a:ext cx="609480" cy="380520"/>
            <a:chOff x="1676160" y="2133720"/>
            <a:chExt cx="609480" cy="380520"/>
          </a:xfrm>
        </p:grpSpPr>
        <p:sp>
          <p:nvSpPr>
            <p:cNvPr id="109" name=""/>
            <p:cNvSpPr/>
            <p:nvPr/>
          </p:nvSpPr>
          <p:spPr>
            <a:xfrm flipH="1">
              <a:off x="1675800" y="2209680"/>
              <a:ext cx="609480" cy="151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1828080" y="2133720"/>
              <a:ext cx="304920" cy="75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1752120" y="236196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2057040" y="236196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2819520" y="2468520"/>
            <a:ext cx="487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Boulevard Laurier (vers le Vieux Québe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1279440"/>
            <a:ext cx="2743200" cy="5335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209680" y="2620800"/>
            <a:ext cx="6098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72284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715000" y="1279440"/>
            <a:ext cx="24382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Les pro-choix bien élevés res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ici (devant l'hôpital CHU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0"/>
            <a:endCxn id="114" idx="0"/>
          </p:cNvCxnSpPr>
          <p:nvPr/>
        </p:nvCxnSpPr>
        <p:spPr>
          <a:xfrm rot="5400000">
            <a:off x="5561280" y="-92160"/>
            <a:ext cx="2520" cy="2743920"/>
          </a:xfrm>
          <a:prstGeom prst="curvedConnector5">
            <a:avLst>
              <a:gd name="adj1" fmla="val -14400000"/>
              <a:gd name="adj2" fmla="val 49993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3809880" y="3352680"/>
            <a:ext cx="0" cy="609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800600" y="3352680"/>
            <a:ext cx="0" cy="609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257800" y="3429000"/>
            <a:ext cx="220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Tous les pro-vie restent sur le terre-plein, entre les deux ruba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62520" y="3505320"/>
            <a:ext cx="685800" cy="30456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1" idx="2"/>
            <a:endCxn id="122" idx="4"/>
          </p:cNvCxnSpPr>
          <p:nvPr/>
        </p:nvCxnSpPr>
        <p:spPr>
          <a:xfrm flipV="1" rot="16200000">
            <a:off x="5295240" y="2819160"/>
            <a:ext cx="76680" cy="2057760"/>
          </a:xfrm>
          <a:prstGeom prst="curvedConnector5">
            <a:avLst>
              <a:gd name="adj1" fmla="val -301415"/>
              <a:gd name="adj2" fmla="val 49991"/>
              <a:gd name="adj3" fmla="val -3014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3134520" y="5715000"/>
            <a:ext cx="3153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Voie d'évacuation d'urg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(dispersion dans le centre d'achats Place Lauri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838760" y="3479760"/>
            <a:ext cx="380880" cy="380880"/>
            <a:chOff x="4838760" y="3479760"/>
            <a:chExt cx="380880" cy="380880"/>
          </a:xfrm>
        </p:grpSpPr>
        <p:sp>
          <p:nvSpPr>
            <p:cNvPr id="126" name=""/>
            <p:cNvSpPr/>
            <p:nvPr/>
          </p:nvSpPr>
          <p:spPr>
            <a:xfrm>
              <a:off x="4838760" y="347976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78000" y="351756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952880" y="5410080"/>
            <a:ext cx="380880" cy="381240"/>
            <a:chOff x="4952880" y="5410080"/>
            <a:chExt cx="380880" cy="381240"/>
          </a:xfrm>
        </p:grpSpPr>
        <p:sp>
          <p:nvSpPr>
            <p:cNvPr id="129" name=""/>
            <p:cNvSpPr/>
            <p:nvPr/>
          </p:nvSpPr>
          <p:spPr>
            <a:xfrm>
              <a:off x="4952880" y="5410080"/>
              <a:ext cx="380880" cy="381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992480" y="544824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3378240" y="3479760"/>
            <a:ext cx="380880" cy="380880"/>
            <a:chOff x="3378240" y="3479760"/>
            <a:chExt cx="380880" cy="380880"/>
          </a:xfrm>
        </p:grpSpPr>
        <p:sp>
          <p:nvSpPr>
            <p:cNvPr id="132" name=""/>
            <p:cNvSpPr/>
            <p:nvPr/>
          </p:nvSpPr>
          <p:spPr>
            <a:xfrm>
              <a:off x="3378240" y="347976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417480" y="351756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5334120" y="5410080"/>
            <a:ext cx="380880" cy="381240"/>
            <a:chOff x="5334120" y="5410080"/>
            <a:chExt cx="380880" cy="381240"/>
          </a:xfrm>
        </p:grpSpPr>
        <p:sp>
          <p:nvSpPr>
            <p:cNvPr id="135" name=""/>
            <p:cNvSpPr/>
            <p:nvPr/>
          </p:nvSpPr>
          <p:spPr>
            <a:xfrm>
              <a:off x="5334120" y="5410080"/>
              <a:ext cx="380880" cy="381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73720" y="544824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114800" y="4876920"/>
            <a:ext cx="380880" cy="838080"/>
          </a:xfrm>
          <a:prstGeom prst="downArrow">
            <a:avLst>
              <a:gd name="adj1" fmla="val 50000"/>
              <a:gd name="adj2" fmla="val 55009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23880" y="528948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3880" y="399420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6520" y="4756320"/>
            <a:ext cx="609480" cy="380520"/>
            <a:chOff x="1676520" y="4756320"/>
            <a:chExt cx="609480" cy="380520"/>
          </a:xfrm>
        </p:grpSpPr>
        <p:sp>
          <p:nvSpPr>
            <p:cNvPr id="141" name=""/>
            <p:cNvSpPr/>
            <p:nvPr/>
          </p:nvSpPr>
          <p:spPr>
            <a:xfrm>
              <a:off x="1676520" y="4832280"/>
              <a:ext cx="609480" cy="151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828800" y="4756320"/>
              <a:ext cx="304920" cy="75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57400" y="498456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52480" y="498456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2590920" y="4146480"/>
            <a:ext cx="609480" cy="381240"/>
            <a:chOff x="2590920" y="4146480"/>
            <a:chExt cx="609480" cy="381240"/>
          </a:xfrm>
        </p:grpSpPr>
        <p:sp>
          <p:nvSpPr>
            <p:cNvPr id="146" name=""/>
            <p:cNvSpPr/>
            <p:nvPr/>
          </p:nvSpPr>
          <p:spPr>
            <a:xfrm>
              <a:off x="2590920" y="4222800"/>
              <a:ext cx="6094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43200" y="4146480"/>
              <a:ext cx="304920" cy="76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971800" y="43750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66880" y="4375080"/>
              <a:ext cx="15264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6324480" y="4756320"/>
            <a:ext cx="609480" cy="380520"/>
            <a:chOff x="6324480" y="4756320"/>
            <a:chExt cx="609480" cy="380520"/>
          </a:xfrm>
        </p:grpSpPr>
        <p:sp>
          <p:nvSpPr>
            <p:cNvPr id="151" name=""/>
            <p:cNvSpPr/>
            <p:nvPr/>
          </p:nvSpPr>
          <p:spPr>
            <a:xfrm>
              <a:off x="6324480" y="4832280"/>
              <a:ext cx="609480" cy="151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476760" y="4756320"/>
              <a:ext cx="304920" cy="75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705360" y="498456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00440" y="498456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2286000" y="4602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Laurier Boulevard (toward Pierre-Laporte Bridg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523880" y="327672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3880" y="198108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5257440" y="2743200"/>
            <a:ext cx="609480" cy="380520"/>
            <a:chOff x="5257440" y="2743200"/>
            <a:chExt cx="609480" cy="380520"/>
          </a:xfrm>
        </p:grpSpPr>
        <p:sp>
          <p:nvSpPr>
            <p:cNvPr id="159" name=""/>
            <p:cNvSpPr/>
            <p:nvPr/>
          </p:nvSpPr>
          <p:spPr>
            <a:xfrm flipH="1">
              <a:off x="5257080" y="2819160"/>
              <a:ext cx="609480" cy="151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5409360" y="2743200"/>
              <a:ext cx="304920" cy="75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5333400" y="29714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5638320" y="297144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6171840" y="2133720"/>
            <a:ext cx="609480" cy="380520"/>
            <a:chOff x="6171840" y="2133720"/>
            <a:chExt cx="609480" cy="380520"/>
          </a:xfrm>
        </p:grpSpPr>
        <p:sp>
          <p:nvSpPr>
            <p:cNvPr id="164" name=""/>
            <p:cNvSpPr/>
            <p:nvPr/>
          </p:nvSpPr>
          <p:spPr>
            <a:xfrm flipH="1">
              <a:off x="6171480" y="2209680"/>
              <a:ext cx="609480" cy="151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323760" y="2133720"/>
              <a:ext cx="304920" cy="75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247800" y="236196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6552720" y="236196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676160" y="2133720"/>
            <a:ext cx="609480" cy="380520"/>
            <a:chOff x="1676160" y="2133720"/>
            <a:chExt cx="609480" cy="380520"/>
          </a:xfrm>
        </p:grpSpPr>
        <p:sp>
          <p:nvSpPr>
            <p:cNvPr id="169" name=""/>
            <p:cNvSpPr/>
            <p:nvPr/>
          </p:nvSpPr>
          <p:spPr>
            <a:xfrm flipH="1">
              <a:off x="1675800" y="2209680"/>
              <a:ext cx="609480" cy="151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1828080" y="2133720"/>
              <a:ext cx="304920" cy="75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1752120" y="236196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057040" y="236196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819520" y="2468520"/>
            <a:ext cx="487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Laurier Boulevard (toward Old Quebe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819520" y="1279440"/>
            <a:ext cx="2743200" cy="5335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2209680" y="2620800"/>
            <a:ext cx="6098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562720" y="472284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715000" y="1279440"/>
            <a:ext cx="24382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Well-behaved pro-choicers stay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(in front of CHUL hospit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" name=""/>
          <p:cNvCxnSpPr>
            <a:stCxn id="177" idx="0"/>
            <a:endCxn id="174" idx="0"/>
          </p:cNvCxnSpPr>
          <p:nvPr/>
        </p:nvCxnSpPr>
        <p:spPr>
          <a:xfrm rot="5400000">
            <a:off x="5561280" y="-92160"/>
            <a:ext cx="2520" cy="2743920"/>
          </a:xfrm>
          <a:prstGeom prst="curvedConnector5">
            <a:avLst>
              <a:gd name="adj1" fmla="val -14400000"/>
              <a:gd name="adj2" fmla="val 49993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9" name=""/>
          <p:cNvSpPr/>
          <p:nvPr/>
        </p:nvSpPr>
        <p:spPr>
          <a:xfrm>
            <a:off x="3809880" y="3352680"/>
            <a:ext cx="0" cy="609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00600" y="3352680"/>
            <a:ext cx="0" cy="609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257800" y="3429000"/>
            <a:ext cx="220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All pro-lifers remain on curb, in between the two ribb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962520" y="3505320"/>
            <a:ext cx="685800" cy="30456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1" idx="2"/>
            <a:endCxn id="182" idx="4"/>
          </p:cNvCxnSpPr>
          <p:nvPr/>
        </p:nvCxnSpPr>
        <p:spPr>
          <a:xfrm flipV="1" rot="16200000">
            <a:off x="5295240" y="2819160"/>
            <a:ext cx="76680" cy="2057760"/>
          </a:xfrm>
          <a:prstGeom prst="curvedConnector5">
            <a:avLst>
              <a:gd name="adj1" fmla="val -301415"/>
              <a:gd name="adj2" fmla="val 49991"/>
              <a:gd name="adj3" fmla="val -3014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4" name=""/>
          <p:cNvSpPr/>
          <p:nvPr/>
        </p:nvSpPr>
        <p:spPr>
          <a:xfrm>
            <a:off x="3131640" y="5715000"/>
            <a:ext cx="2856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Emergency fall back p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(dispersal into Place Laurier shopping mal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4838760" y="3479760"/>
            <a:ext cx="380880" cy="380880"/>
            <a:chOff x="4838760" y="3479760"/>
            <a:chExt cx="380880" cy="380880"/>
          </a:xfrm>
        </p:grpSpPr>
        <p:sp>
          <p:nvSpPr>
            <p:cNvPr id="186" name=""/>
            <p:cNvSpPr/>
            <p:nvPr/>
          </p:nvSpPr>
          <p:spPr>
            <a:xfrm>
              <a:off x="4838760" y="347976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878000" y="351756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4952880" y="5410080"/>
            <a:ext cx="380880" cy="381240"/>
            <a:chOff x="4952880" y="5410080"/>
            <a:chExt cx="380880" cy="381240"/>
          </a:xfrm>
        </p:grpSpPr>
        <p:sp>
          <p:nvSpPr>
            <p:cNvPr id="189" name=""/>
            <p:cNvSpPr/>
            <p:nvPr/>
          </p:nvSpPr>
          <p:spPr>
            <a:xfrm>
              <a:off x="4952880" y="5410080"/>
              <a:ext cx="380880" cy="381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92480" y="544824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3378240" y="3479760"/>
            <a:ext cx="380880" cy="380880"/>
            <a:chOff x="3378240" y="3479760"/>
            <a:chExt cx="380880" cy="380880"/>
          </a:xfrm>
        </p:grpSpPr>
        <p:sp>
          <p:nvSpPr>
            <p:cNvPr id="192" name=""/>
            <p:cNvSpPr/>
            <p:nvPr/>
          </p:nvSpPr>
          <p:spPr>
            <a:xfrm>
              <a:off x="3378240" y="347976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17480" y="351756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5334120" y="5410080"/>
            <a:ext cx="380880" cy="381240"/>
            <a:chOff x="5334120" y="5410080"/>
            <a:chExt cx="380880" cy="381240"/>
          </a:xfrm>
        </p:grpSpPr>
        <p:sp>
          <p:nvSpPr>
            <p:cNvPr id="195" name=""/>
            <p:cNvSpPr/>
            <p:nvPr/>
          </p:nvSpPr>
          <p:spPr>
            <a:xfrm>
              <a:off x="5334120" y="5410080"/>
              <a:ext cx="380880" cy="381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373720" y="544824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8T16:29:31Z</dcterms:created>
  <dc:creator>Stefan Jetchick</dc:creator>
  <dc:description/>
  <dc:language>en-US</dc:language>
  <cp:lastModifiedBy>Stefan Jetchick</cp:lastModifiedBy>
  <dcterms:modified xsi:type="dcterms:W3CDTF">2012-09-03T16:49:09Z</dcterms:modified>
  <cp:revision>5</cp:revision>
  <dc:subject/>
  <dc:title>PowerPoint Presentation</dc:title>
</cp:coreProperties>
</file>