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FA3-BD7A-4FD8-8F31-FA26336F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9F0-9646-4AE3-88E1-3103816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5B6-64DD-4F98-A0C9-1CD467CD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586-802E-48DA-A875-68BCF6F3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7C4-C34A-4293-B3FE-3BDCC65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BC3-22FA-4C46-A2A8-665DAC6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10C-3CBF-4953-992C-4539AFB3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ACF-F9AE-4B4C-9587-4D3BBE3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3DC-539E-4A99-857B-3AFB880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FCA-B27B-4186-A9A4-3749632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0B6-9FB3-4BDA-9039-3336D96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DE3-C809-4BC9-9E28-CE97B1B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3789-D09B-4632-B626-7CE208837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952880"/>
            <a:ext cx="7010280" cy="152424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solidFill>
            <a:srgbClr val="000000"/>
          </a:solidFill>
          <a:ln w="3808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629080"/>
            <a:ext cx="6324840" cy="148572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63504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64464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5940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148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87360" y="1143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35440" y="1676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695760" y="220968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114800" y="685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013280" y="68580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8040" y="1143000"/>
            <a:ext cx="800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013280" y="1143000"/>
            <a:ext cx="799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3392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8584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0492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124080"/>
            <a:ext cx="701064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99440" y="259092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Du pain et des j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0400" y="3860640"/>
            <a:ext cx="647676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11430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01028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0680" y="3048120"/>
            <a:ext cx="1870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a politique, c'est 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2840" y="3886200"/>
            <a:ext cx="15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st-modern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760" y="4521240"/>
            <a:ext cx="1600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Anti-christian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153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Manque d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791320"/>
            <a:ext cx="1018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e pétro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85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4952880"/>
            <a:ext cx="7010280" cy="152424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solidFill>
            <a:srgbClr val="000000"/>
          </a:solidFill>
          <a:ln w="3808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629080"/>
            <a:ext cx="6324840" cy="148572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63504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4464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5940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148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87360" y="1143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35440" y="1676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695760" y="220968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114800" y="685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013280" y="68580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48040" y="1143000"/>
            <a:ext cx="800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013280" y="1143000"/>
            <a:ext cx="799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88584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0492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124080"/>
            <a:ext cx="701064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99800" y="2590920"/>
            <a:ext cx="1549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Bread an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30400" y="3860640"/>
            <a:ext cx="647676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11430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572000"/>
            <a:ext cx="701028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1400" y="3048120"/>
            <a:ext cx="132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litics is di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3200" y="3886200"/>
            <a:ext cx="1450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st-Moder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0680" y="4521240"/>
            <a:ext cx="205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Anti-Christian Attit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952880"/>
            <a:ext cx="1201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ack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7400" y="5791320"/>
            <a:ext cx="816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aydi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685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5:08Z</dcterms:created>
  <dc:creator> </dc:creator>
  <dc:description/>
  <dc:language>en-US</dc:language>
  <cp:lastModifiedBy> </cp:lastModifiedBy>
  <dcterms:modified xsi:type="dcterms:W3CDTF">2006-11-21T19:48:25Z</dcterms:modified>
  <cp:revision>5</cp:revision>
  <dc:subject/>
  <dc:title>PowerPoint Presentation</dc:title>
</cp:coreProperties>
</file>