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55C-4BF4-4A40-9D6D-8491BBA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E47-DC80-45EA-8A92-518FC48F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024-15B7-461D-99E5-7664AD67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8F3-250B-41F5-934A-19DE0D38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26B-AD87-4481-B3EA-A3995009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26D-9C58-4904-AF86-AF04D266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A2-7E6F-4248-A951-0A3F42E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CCB-DD00-4306-A943-0E03EAE0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551-CAB8-4732-BC88-D049AAE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757-29F6-4B30-96D8-8506E06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2AD-31E9-4130-9241-27C57B44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91D-8665-4AEE-A093-E56D6362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EC7-159B-4B1F-92CB-2FCEDE96F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45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48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51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5" idx="3"/>
            <a:endCxn id="46" idx="2"/>
          </p:cNvCxnSpPr>
          <p:nvPr/>
        </p:nvCxnSpPr>
        <p:spPr>
          <a:xfrm flipV="1">
            <a:off x="4657680" y="2593800"/>
            <a:ext cx="1671840" cy="802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80440" y="3625920"/>
            <a:ext cx="29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s officiels de Vatican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e juste mili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114300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droite (F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25760" y="99072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ga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62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65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68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2" idx="3"/>
            <a:endCxn id="63" idx="2"/>
          </p:cNvCxnSpPr>
          <p:nvPr/>
        </p:nvCxnSpPr>
        <p:spPr>
          <a:xfrm flipV="1">
            <a:off x="4657680" y="2593080"/>
            <a:ext cx="1672560" cy="8024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120120" y="36259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ial Vatican II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Golden M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440" y="1143000"/>
            <a:ext cx="187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right (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5240" y="9907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2:04:04Z</dcterms:created>
  <dc:creator>Stefan Jetchick</dc:creator>
  <dc:description/>
  <dc:language>en-US</dc:language>
  <cp:lastModifiedBy>Stefan Jetchick</cp:lastModifiedBy>
  <dcterms:modified xsi:type="dcterms:W3CDTF">2006-03-24T03:03:48Z</dcterms:modified>
  <cp:revision>5</cp:revision>
  <dc:subject/>
  <dc:title>PowerPoint Presentation</dc:title>
</cp:coreProperties>
</file>