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457-7A52-4049-82FD-30EFC7FA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A34-BB31-4A44-ACA3-4286C5C4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FFE-2233-403B-BEB7-A8D44664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64F-2DC4-4F5C-933D-85960050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84E-95AC-4C0D-A777-C1E877B1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B09-B550-4651-AB86-8F3C8315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7BA-F38D-4AEC-8814-F4B1497B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94A-3F98-4974-9141-5C8ED4BC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35E-2926-4DAF-96A0-0F82DF32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FFC-8F38-4B6B-8A47-CE6BBBF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CA2-783E-412C-AB4B-81FFFBDE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EB0-9D52-44F3-AD32-4D822B32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1E38-3C35-4142-819C-DECB5709D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NTELLIGENCE  DE  LA  FO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1337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terprétations diver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2"/>
          </p:cNvCxnSpPr>
          <p:nvPr/>
        </p:nvCxnSpPr>
        <p:spPr>
          <a:xfrm flipH="1">
            <a:off x="3504600" y="2440800"/>
            <a:ext cx="686880" cy="98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2" idx="2"/>
          </p:cNvCxnSpPr>
          <p:nvPr/>
        </p:nvCxnSpPr>
        <p:spPr>
          <a:xfrm>
            <a:off x="4191120" y="2440800"/>
            <a:ext cx="533520" cy="114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2" idx="2"/>
          </p:cNvCxnSpPr>
          <p:nvPr/>
        </p:nvCxnSpPr>
        <p:spPr>
          <a:xfrm flipH="1">
            <a:off x="4114800" y="2440800"/>
            <a:ext cx="76680" cy="136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29718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opinions condamnées comme hérétiques par le Magist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5" idx="2"/>
            <a:endCxn id="67" idx="0"/>
          </p:cNvCxnSpPr>
          <p:nvPr/>
        </p:nvCxnSpPr>
        <p:spPr>
          <a:xfrm flipH="1">
            <a:off x="4075920" y="3489120"/>
            <a:ext cx="343800" cy="167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5" idx="2"/>
            <a:endCxn id="69" idx="6"/>
          </p:cNvCxnSpPr>
          <p:nvPr/>
        </p:nvCxnSpPr>
        <p:spPr>
          <a:xfrm flipH="1">
            <a:off x="3518640" y="3489480"/>
            <a:ext cx="901080" cy="43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276720" y="3809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NTELLIGENCE  DE  LA  FO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572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352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181480" y="22856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atica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32004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Quelle interprétation est correc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1"/>
            <a:endCxn id="82" idx="6"/>
          </p:cNvCxnSpPr>
          <p:nvPr/>
        </p:nvCxnSpPr>
        <p:spPr>
          <a:xfrm flipH="1" flipV="1">
            <a:off x="5409720" y="3390120"/>
            <a:ext cx="99144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6" idx="1"/>
            <a:endCxn id="80" idx="6"/>
          </p:cNvCxnSpPr>
          <p:nvPr/>
        </p:nvCxnSpPr>
        <p:spPr>
          <a:xfrm flipH="1">
            <a:off x="5409720" y="3565440"/>
            <a:ext cx="991440" cy="10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6" idx="1"/>
            <a:endCxn id="78" idx="6"/>
          </p:cNvCxnSpPr>
          <p:nvPr/>
        </p:nvCxnSpPr>
        <p:spPr>
          <a:xfrm flipH="1">
            <a:off x="5409720" y="3565440"/>
            <a:ext cx="991440" cy="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276720" y="3809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NTELLIGENCE  DE  LA  FO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90920" y="3276720"/>
            <a:ext cx="3352680" cy="1218960"/>
          </a:xfrm>
          <a:custGeom>
            <a:avLst/>
            <a:gdLst/>
            <a:ahLst/>
            <a:rect l="l" t="t" r="r" b="b"/>
            <a:pathLst>
              <a:path w="2112" h="768">
                <a:moveTo>
                  <a:pt x="0" y="768"/>
                </a:moveTo>
                <a:cubicBezTo>
                  <a:pt x="352" y="736"/>
                  <a:pt x="704" y="704"/>
                  <a:pt x="1056" y="576"/>
                </a:cubicBezTo>
                <a:cubicBezTo>
                  <a:pt x="1408" y="448"/>
                  <a:pt x="1936" y="96"/>
                  <a:pt x="2112" y="0"/>
                </a:cubicBezTo>
              </a:path>
            </a:pathLst>
          </a:cu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352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809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81480" y="22856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atica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2590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erméneutique de la continuité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3276720"/>
            <a:ext cx="4572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5812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terprétation correct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01" idx="5"/>
          </p:cNvCxnSpPr>
          <p:nvPr/>
        </p:nvCxnSpPr>
        <p:spPr>
          <a:xfrm flipH="1" flipV="1">
            <a:off x="5398560" y="3646080"/>
            <a:ext cx="85032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NTELLIGENCE  DE  LA  FO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UNDERSTANDING  OF 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21337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arious interpre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2"/>
          </p:cNvCxnSpPr>
          <p:nvPr/>
        </p:nvCxnSpPr>
        <p:spPr>
          <a:xfrm flipH="1">
            <a:off x="3504600" y="2438280"/>
            <a:ext cx="68652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2"/>
          </p:cNvCxnSpPr>
          <p:nvPr/>
        </p:nvCxnSpPr>
        <p:spPr>
          <a:xfrm>
            <a:off x="4190760" y="2437920"/>
            <a:ext cx="5338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</p:cNvCxnSpPr>
          <p:nvPr/>
        </p:nvCxnSpPr>
        <p:spPr>
          <a:xfrm flipH="1">
            <a:off x="4114800" y="2438280"/>
            <a:ext cx="766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UNDERSTANDING  OF 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97180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opinions condemned as heretical by the Magister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45" idx="0"/>
          </p:cNvCxnSpPr>
          <p:nvPr/>
        </p:nvCxnSpPr>
        <p:spPr>
          <a:xfrm flipH="1">
            <a:off x="4076280" y="3489120"/>
            <a:ext cx="153360" cy="167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2"/>
            <a:endCxn id="147" idx="6"/>
          </p:cNvCxnSpPr>
          <p:nvPr/>
        </p:nvCxnSpPr>
        <p:spPr>
          <a:xfrm flipH="1">
            <a:off x="3519360" y="3489480"/>
            <a:ext cx="710280" cy="43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276720" y="3809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UNDERSTANDING  OF 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572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3352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81480" y="22856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atica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32004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Which interpretation is correc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1"/>
            <a:endCxn id="160" idx="6"/>
          </p:cNvCxnSpPr>
          <p:nvPr/>
        </p:nvCxnSpPr>
        <p:spPr>
          <a:xfrm flipH="1" flipV="1">
            <a:off x="5409720" y="3390120"/>
            <a:ext cx="99144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4" idx="1"/>
            <a:endCxn id="158" idx="6"/>
          </p:cNvCxnSpPr>
          <p:nvPr/>
        </p:nvCxnSpPr>
        <p:spPr>
          <a:xfrm flipH="1">
            <a:off x="5409720" y="3565440"/>
            <a:ext cx="991440" cy="10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4" idx="1"/>
            <a:endCxn id="156" idx="6"/>
          </p:cNvCxnSpPr>
          <p:nvPr/>
        </p:nvCxnSpPr>
        <p:spPr>
          <a:xfrm flipH="1">
            <a:off x="5409720" y="3565440"/>
            <a:ext cx="991440" cy="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3276720" y="3809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90920" y="3276720"/>
            <a:ext cx="3352680" cy="1218960"/>
          </a:xfrm>
          <a:custGeom>
            <a:avLst/>
            <a:gdLst/>
            <a:ahLst/>
            <a:rect l="l" t="t" r="r" b="b"/>
            <a:pathLst>
              <a:path w="2112" h="768">
                <a:moveTo>
                  <a:pt x="0" y="768"/>
                </a:moveTo>
                <a:cubicBezTo>
                  <a:pt x="352" y="736"/>
                  <a:pt x="704" y="704"/>
                  <a:pt x="1056" y="576"/>
                </a:cubicBezTo>
                <a:cubicBezTo>
                  <a:pt x="1408" y="448"/>
                  <a:pt x="1936" y="96"/>
                  <a:pt x="2112" y="0"/>
                </a:cubicBezTo>
              </a:path>
            </a:pathLst>
          </a:cu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UNDERSTANDING  OF 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4572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3352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3809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81480" y="22856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atica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2590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ermeneutic of Continu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276720"/>
            <a:ext cx="4572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35812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Correct interpretation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1" idx="1"/>
            <a:endCxn id="179" idx="5"/>
          </p:cNvCxnSpPr>
          <p:nvPr/>
        </p:nvCxnSpPr>
        <p:spPr>
          <a:xfrm flipH="1" flipV="1">
            <a:off x="5398560" y="3646080"/>
            <a:ext cx="85032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5:10:27Z</dcterms:created>
  <dc:creator>Stefan Jetchick</dc:creator>
  <dc:description/>
  <dc:language>en-US</dc:language>
  <cp:lastModifiedBy>Stefan Jetchick</cp:lastModifiedBy>
  <dcterms:modified xsi:type="dcterms:W3CDTF">2011-11-27T23:06:00Z</dcterms:modified>
  <cp:revision>4</cp:revision>
  <dc:subject/>
  <dc:title>PowerPoint Presentation</dc:title>
</cp:coreProperties>
</file>