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BAF-9069-4AA0-9E77-2B4C258B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5F2-A040-4671-9CF3-4EB6D1E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399-90D2-4477-8599-681AB824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E54-BB49-49CC-949C-B1B8D73B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5DC-BDD6-4721-9C80-20FC1758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D60-6B94-426C-B8D4-A1F2BE3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6A5-CD74-429F-94AB-8B027FB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3EE-3059-46B2-870C-E720342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CDF-2019-4650-A8F6-656AC14F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173-8E63-4FB9-B1AF-9776316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AF8-2A4C-492F-ADCA-2946692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B70-329F-4397-A115-4668795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52C-976E-4A30-BC4D-732330941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" descr=""/>
          <p:cNvPicPr/>
          <p:nvPr/>
        </p:nvPicPr>
        <p:blipFill>
          <a:blip r:embed="rId1"/>
          <a:stretch/>
        </p:blipFill>
        <p:spPr>
          <a:xfrm>
            <a:off x="2895480" y="1243080"/>
            <a:ext cx="3353040" cy="437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198108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362320"/>
            <a:ext cx="2286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2193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257440" y="1600200"/>
            <a:ext cx="3049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51562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267080" y="4647960"/>
            <a:ext cx="106704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3" descr=""/>
          <p:cNvPicPr/>
          <p:nvPr/>
        </p:nvPicPr>
        <p:blipFill>
          <a:blip r:embed="rId1"/>
          <a:stretch/>
        </p:blipFill>
        <p:spPr>
          <a:xfrm>
            <a:off x="2895480" y="1243080"/>
            <a:ext cx="3353040" cy="437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198108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EN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362320"/>
            <a:ext cx="2286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2193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57440" y="1600200"/>
            <a:ext cx="3049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51562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CTU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267080" y="4647960"/>
            <a:ext cx="106704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53:31Z</dcterms:created>
  <dc:creator>Stefan Jetchick</dc:creator>
  <dc:description/>
  <dc:language>en-US</dc:language>
  <cp:lastModifiedBy>Stefan Jetchick</cp:lastModifiedBy>
  <dcterms:modified xsi:type="dcterms:W3CDTF">2010-01-18T16:58:26Z</dcterms:modified>
  <cp:revision>2</cp:revision>
  <dc:subject/>
  <dc:title>PowerPoint Presentation</dc:title>
</cp:coreProperties>
</file>