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8D5F-3E33-4597-ABA7-A06A761AE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6DEF-7522-4140-9862-6F75BEB7F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DEBE-5784-44AC-86E6-610920226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3FB0-10E9-4624-985B-772F24F73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8A92-68D4-4664-9DC0-B3BFEA341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A1C6-826D-421F-8340-AC4E0749C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F222-8E19-42AC-909D-AA153FA6A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18F4-161F-4A9E-98F7-FBE92AA4C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FC45-26CA-42A1-B99F-0C40B6E89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8E6F-F06A-4237-A06B-93E88B407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4E93-BA1E-4A25-A298-ABA207880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2FCD-8C2E-4A04-A86D-59A9D8CA5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7FE72-E058-4C43-BE08-E2605648EC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533520"/>
            <a:ext cx="3962160" cy="5271840"/>
            <a:chOff x="609480" y="533520"/>
            <a:chExt cx="3962160" cy="5271840"/>
          </a:xfrm>
        </p:grpSpPr>
        <p:pic>
          <p:nvPicPr>
            <p:cNvPr id="42" name="penance" descr=""/>
            <p:cNvPicPr/>
            <p:nvPr/>
          </p:nvPicPr>
          <p:blipFill>
            <a:blip r:embed="rId1"/>
            <a:stretch/>
          </p:blipFill>
          <p:spPr>
            <a:xfrm>
              <a:off x="668160" y="609480"/>
              <a:ext cx="3887640" cy="502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609480" y="533520"/>
              <a:ext cx="3962160" cy="5271840"/>
            </a:xfrm>
            <a:custGeom>
              <a:avLst/>
              <a:gdLst>
                <a:gd name="textAreaLeft" fmla="*/ 193320 w 3962160"/>
                <a:gd name="textAreaRight" fmla="*/ 3768840 w 3962160"/>
                <a:gd name="textAreaTop" fmla="*/ 193320 h 5271840"/>
                <a:gd name="textAreaBottom" fmla="*/ 5078520 h 5271840"/>
              </a:gdLst>
              <a:ahLst/>
              <a:rect l="textAreaLeft" t="textAreaTop" r="textAreaRight" b="textAreaBottom"/>
              <a:pathLst>
                <a:path w="21600" h="28739">
                  <a:moveTo>
                    <a:pt x="3600" y="0"/>
                  </a:moveTo>
                  <a:arcTo wR="3600" hR="3600" stAng="16200000" swAng="-5400000"/>
                  <a:lnTo>
                    <a:pt x="0" y="25139"/>
                  </a:lnTo>
                  <a:arcTo wR="3600" hR="3600" stAng="10800000" swAng="-5400000"/>
                  <a:lnTo>
                    <a:pt x="18000" y="2873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5079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4724280" y="762120"/>
            <a:ext cx="3505320" cy="4800600"/>
          </a:xfrm>
          <a:custGeom>
            <a:avLst/>
            <a:gdLst>
              <a:gd name="textAreaLeft" fmla="*/ 147600 w 3505320"/>
              <a:gd name="textAreaRight" fmla="*/ 3357720 w 3505320"/>
              <a:gd name="textAreaTop" fmla="*/ 147600 h 4800600"/>
              <a:gd name="textAreaBottom" fmla="*/ 4653000 h 4800600"/>
            </a:gdLst>
            <a:ahLst/>
            <a:rect l="textAreaLeft" t="textAreaTop" r="textAreaRight" b="textAreaBottom"/>
            <a:pathLst>
              <a:path w="21600" h="29581">
                <a:moveTo>
                  <a:pt x="3111" y="0"/>
                </a:moveTo>
                <a:arcTo wR="3111" hR="3111" stAng="16200000" swAng="-5400000"/>
                <a:lnTo>
                  <a:pt x="0" y="26470"/>
                </a:lnTo>
                <a:arcTo wR="3111" hR="3111" stAng="10800000" swAng="-5400000"/>
                <a:lnTo>
                  <a:pt x="18489" y="29581"/>
                </a:lnTo>
                <a:arcTo wR="3111" hR="3111" stAng="5400000" swAng="-5400000"/>
                <a:lnTo>
                  <a:pt x="21600" y="3111"/>
                </a:lnTo>
                <a:arcTo wR="3111" hR="3111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00600" y="1752480"/>
            <a:ext cx="32767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Times New Roman"/>
              </a:rPr>
              <a:t>Ayant dit cela, </a:t>
            </a:r>
            <a:r>
              <a:rPr b="0" lang="fr-CA" sz="1300" spc="-1" strike="noStrike">
                <a:solidFill>
                  <a:srgbClr val="000000"/>
                </a:solidFill>
                <a:latin typeface="Times New Roman"/>
              </a:rPr>
              <a:t>[Jésus]</a:t>
            </a:r>
            <a:r>
              <a:rPr b="0" lang="en-CA" sz="1300" spc="-1" strike="noStrike">
                <a:solidFill>
                  <a:srgbClr val="000000"/>
                </a:solidFill>
                <a:latin typeface="Times New Roman"/>
              </a:rPr>
              <a:t> souffla sur </a:t>
            </a:r>
            <a:r>
              <a:rPr b="0" lang="fr-CA" sz="1300" spc="-1" strike="noStrike">
                <a:solidFill>
                  <a:srgbClr val="000000"/>
                </a:solidFill>
                <a:latin typeface="Times New Roman"/>
              </a:rPr>
              <a:t>[les Apôtres]</a:t>
            </a:r>
            <a:r>
              <a:rPr b="0" lang="en-CA" sz="1300" spc="-1" strike="noStrike">
                <a:solidFill>
                  <a:srgbClr val="000000"/>
                </a:solidFill>
                <a:latin typeface="Times New Roman"/>
              </a:rPr>
              <a:t> et leur dit: «Recevez l'Esprit Saint. Ceux à qui vous remettrez les péchés, ils leur seront remis; ceux à qui vous les retiendrez, ils leur seront retenus.»</a:t>
            </a:r>
            <a:r>
              <a:rPr b="0" lang="fr-CA" sz="1300" spc="-1" strike="noStrike">
                <a:solidFill>
                  <a:srgbClr val="000000"/>
                </a:solidFill>
                <a:latin typeface="Times New Roman"/>
              </a:rPr>
              <a:t> [Jn 20:22]</a:t>
            </a:r>
            <a:r>
              <a:rPr b="0" lang="en-CA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948200" y="2971800"/>
            <a:ext cx="29764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869000" y="3124080"/>
            <a:ext cx="3132000" cy="18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Times New Roman"/>
              </a:rPr>
              <a:t>Que Dieu notre Père vous montre sa miséricorde ; par la mort et la résurrection de son Fils, il a réconcilié le monde avec lui et il a envoyé l’Esprit Saint pour la rémission des péchés : par le ministère de l’Église, qu’il vous donne le pardon et la paix. Et moi, au nom du Père et du Fils et du Saint-Esprit, je vous pardonne tous vos péchés  </a:t>
            </a:r>
            <a:r>
              <a:rPr b="0" lang="fr-CA" sz="1300" spc="-1" strike="noStrike">
                <a:solidFill>
                  <a:srgbClr val="000000"/>
                </a:solidFill>
                <a:latin typeface="Times New Roman"/>
              </a:rPr>
              <a:t>[CÉC, #1449]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876920" y="9144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772400" y="9144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772400" y="51055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76920" y="510552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1219320"/>
            <a:ext cx="3200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Times New Roman"/>
              </a:rPr>
              <a:t>Le Fils de l’homme a le pouvoir de remettre les péchés sur la terre</a:t>
            </a:r>
            <a:r>
              <a:rPr b="0" lang="fr-CA" sz="13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CA" sz="1300" spc="-1" strike="noStrike">
                <a:solidFill>
                  <a:srgbClr val="000000"/>
                </a:solidFill>
                <a:latin typeface="Times New Roman"/>
              </a:rPr>
              <a:t>Mc 2</a:t>
            </a:r>
            <a:r>
              <a:rPr b="0" lang="fr-CA" sz="13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CA" sz="13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fr-CA" sz="13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609480" y="533520"/>
            <a:ext cx="3962160" cy="5271840"/>
            <a:chOff x="609480" y="533520"/>
            <a:chExt cx="3962160" cy="5271840"/>
          </a:xfrm>
        </p:grpSpPr>
        <p:pic>
          <p:nvPicPr>
            <p:cNvPr id="54" name="penance" descr=""/>
            <p:cNvPicPr/>
            <p:nvPr/>
          </p:nvPicPr>
          <p:blipFill>
            <a:blip r:embed="rId1"/>
            <a:stretch/>
          </p:blipFill>
          <p:spPr>
            <a:xfrm>
              <a:off x="668160" y="609480"/>
              <a:ext cx="3887640" cy="502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609480" y="533520"/>
              <a:ext cx="3962160" cy="5271840"/>
            </a:xfrm>
            <a:custGeom>
              <a:avLst/>
              <a:gdLst>
                <a:gd name="textAreaLeft" fmla="*/ 193320 w 3962160"/>
                <a:gd name="textAreaRight" fmla="*/ 3768840 w 3962160"/>
                <a:gd name="textAreaTop" fmla="*/ 193320 h 5271840"/>
                <a:gd name="textAreaBottom" fmla="*/ 5078520 h 5271840"/>
              </a:gdLst>
              <a:ahLst/>
              <a:rect l="textAreaLeft" t="textAreaTop" r="textAreaRight" b="textAreaBottom"/>
              <a:pathLst>
                <a:path w="21600" h="28739">
                  <a:moveTo>
                    <a:pt x="3600" y="0"/>
                  </a:moveTo>
                  <a:arcTo wR="3600" hR="3600" stAng="16200000" swAng="-5400000"/>
                  <a:lnTo>
                    <a:pt x="0" y="25139"/>
                  </a:lnTo>
                  <a:arcTo wR="3600" hR="3600" stAng="10800000" swAng="-5400000"/>
                  <a:lnTo>
                    <a:pt x="18000" y="2873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5079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4724280" y="762120"/>
            <a:ext cx="3505320" cy="4800600"/>
          </a:xfrm>
          <a:custGeom>
            <a:avLst/>
            <a:gdLst>
              <a:gd name="textAreaLeft" fmla="*/ 147600 w 3505320"/>
              <a:gd name="textAreaRight" fmla="*/ 3357720 w 3505320"/>
              <a:gd name="textAreaTop" fmla="*/ 147600 h 4800600"/>
              <a:gd name="textAreaBottom" fmla="*/ 4653000 h 4800600"/>
            </a:gdLst>
            <a:ahLst/>
            <a:rect l="textAreaLeft" t="textAreaTop" r="textAreaRight" b="textAreaBottom"/>
            <a:pathLst>
              <a:path w="21600" h="29581">
                <a:moveTo>
                  <a:pt x="3111" y="0"/>
                </a:moveTo>
                <a:arcTo wR="3111" hR="3111" stAng="16200000" swAng="-5400000"/>
                <a:lnTo>
                  <a:pt x="0" y="26470"/>
                </a:lnTo>
                <a:arcTo wR="3111" hR="3111" stAng="10800000" swAng="-5400000"/>
                <a:lnTo>
                  <a:pt x="18489" y="29581"/>
                </a:lnTo>
                <a:arcTo wR="3111" hR="3111" stAng="5400000" swAng="-5400000"/>
                <a:lnTo>
                  <a:pt x="21600" y="3111"/>
                </a:lnTo>
                <a:arcTo wR="3111" hR="3111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800600" y="1752480"/>
            <a:ext cx="32767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Times New Roman"/>
              </a:rPr>
              <a:t>And when he had said this, he breathed on </a:t>
            </a:r>
            <a:r>
              <a:rPr b="0" lang="fr-CA" sz="13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CA" sz="1300" spc="-1" strike="noStrike">
                <a:solidFill>
                  <a:srgbClr val="000000"/>
                </a:solidFill>
                <a:latin typeface="Times New Roman"/>
              </a:rPr>
              <a:t>hem and said to them, "Receive the holy Spirit. Whose sins you forgive are forgiven them, and whose sins you retain are retained."</a:t>
            </a:r>
            <a:r>
              <a:rPr b="0" lang="fr-CA" sz="1300" spc="-1" strike="noStrike">
                <a:solidFill>
                  <a:srgbClr val="000000"/>
                </a:solidFill>
                <a:latin typeface="Times New Roman"/>
              </a:rPr>
              <a:t> [Jn 20:22]</a:t>
            </a:r>
            <a:r>
              <a:rPr b="0" lang="en-CA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948200" y="2971800"/>
            <a:ext cx="29764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69000" y="3124080"/>
            <a:ext cx="3132000" cy="18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Times New Roman"/>
              </a:rPr>
              <a:t>God, the Father of mercies,</a:t>
            </a:r>
            <a:r>
              <a:rPr b="0" lang="fr-CA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1300" spc="-1" strike="noStrike">
                <a:solidFill>
                  <a:srgbClr val="000000"/>
                </a:solidFill>
                <a:latin typeface="Times New Roman"/>
              </a:rPr>
              <a:t>through the death and the resurrection of his Son</a:t>
            </a:r>
            <a:r>
              <a:rPr b="0" lang="fr-CA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1300" spc="-1" strike="noStrike">
                <a:solidFill>
                  <a:srgbClr val="000000"/>
                </a:solidFill>
                <a:latin typeface="Times New Roman"/>
              </a:rPr>
              <a:t>has reconciled the world to himself</a:t>
            </a:r>
            <a:r>
              <a:rPr b="0" lang="fr-CA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1300" spc="-1" strike="noStrike">
                <a:solidFill>
                  <a:srgbClr val="000000"/>
                </a:solidFill>
                <a:latin typeface="Times New Roman"/>
              </a:rPr>
              <a:t>and sent the Holy Spirit among us</a:t>
            </a:r>
            <a:r>
              <a:rPr b="0" lang="fr-CA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1300" spc="-1" strike="noStrike">
                <a:solidFill>
                  <a:srgbClr val="000000"/>
                </a:solidFill>
                <a:latin typeface="Times New Roman"/>
              </a:rPr>
              <a:t>for the forgiveness of sins;</a:t>
            </a:r>
            <a:r>
              <a:rPr b="0" lang="fr-CA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1300" spc="-1" strike="noStrike">
                <a:solidFill>
                  <a:srgbClr val="000000"/>
                </a:solidFill>
                <a:latin typeface="Times New Roman"/>
              </a:rPr>
              <a:t>through the ministry of the Church</a:t>
            </a:r>
            <a:r>
              <a:rPr b="0" lang="fr-CA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1300" spc="-1" strike="noStrike">
                <a:solidFill>
                  <a:srgbClr val="000000"/>
                </a:solidFill>
                <a:latin typeface="Times New Roman"/>
              </a:rPr>
              <a:t>may God give you pardon and peace,</a:t>
            </a:r>
            <a:r>
              <a:rPr b="0" lang="fr-CA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1300" spc="-1" strike="noStrike">
                <a:solidFill>
                  <a:srgbClr val="000000"/>
                </a:solidFill>
                <a:latin typeface="Times New Roman"/>
              </a:rPr>
              <a:t>and I absolve you from your sins in the name of </a:t>
            </a:r>
            <a:r>
              <a:rPr b="0" lang="fr-CA" sz="13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CA" sz="1300" spc="-1" strike="noStrike">
                <a:solidFill>
                  <a:srgbClr val="000000"/>
                </a:solidFill>
                <a:latin typeface="Times New Roman"/>
              </a:rPr>
              <a:t>he Father, and of the Son and of the Holy </a:t>
            </a:r>
            <a:r>
              <a:rPr b="0" lang="fr-CA" sz="13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CA" sz="1300" spc="-1" strike="noStrike">
                <a:solidFill>
                  <a:srgbClr val="000000"/>
                </a:solidFill>
                <a:latin typeface="Times New Roman"/>
              </a:rPr>
              <a:t>pirit.</a:t>
            </a:r>
            <a:r>
              <a:rPr b="0" lang="fr-CA" sz="1300" spc="-1" strike="noStrike">
                <a:solidFill>
                  <a:srgbClr val="000000"/>
                </a:solidFill>
                <a:latin typeface="Times New Roman"/>
              </a:rPr>
              <a:t> [CCC, #1449]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9144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772400" y="9144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772400" y="51055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76920" y="510552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800600" y="1219320"/>
            <a:ext cx="3200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3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CA" sz="1300" spc="-1" strike="noStrike">
                <a:solidFill>
                  <a:srgbClr val="000000"/>
                </a:solidFill>
                <a:latin typeface="Times New Roman"/>
              </a:rPr>
              <a:t>Son of Man has authority to forgive sins on earth </a:t>
            </a:r>
            <a:r>
              <a:rPr b="0" lang="fr-CA" sz="13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CA" sz="1300" spc="-1" strike="noStrike">
                <a:solidFill>
                  <a:srgbClr val="000000"/>
                </a:solidFill>
                <a:latin typeface="Times New Roman"/>
              </a:rPr>
              <a:t>Mc 2</a:t>
            </a:r>
            <a:r>
              <a:rPr b="0" lang="fr-CA" sz="13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CA" sz="13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fr-CA" sz="13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7T15:50:49Z</dcterms:created>
  <dc:creator> </dc:creator>
  <dc:description/>
  <dc:language>en-US</dc:language>
  <cp:lastModifiedBy> </cp:lastModifiedBy>
  <dcterms:modified xsi:type="dcterms:W3CDTF">2013-05-17T21:52:55Z</dcterms:modified>
  <cp:revision>6</cp:revision>
  <dc:subject/>
  <dc:title>PowerPoint Presentation</dc:title>
</cp:coreProperties>
</file>