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A2F-928B-435A-8E7B-42936972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62E-F029-49DC-AE56-FB8C5A56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964-3424-4ED8-907B-19D5FBE8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5AE-1A78-4405-BD4A-02C09031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677-36F7-42FC-96AB-F0422EBE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D06-349A-41A2-B75A-5396DC44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4A1-62E7-4DFE-9742-3D9AF5C3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3FE-B01B-40D0-8D3A-2CA9058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1D7-2EAB-4F46-8E21-05F85F06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9D2-F7A0-4971-AF9A-925E87B3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C5E-E113-4C3D-9176-561CDE33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AA1-DEDA-4960-A503-AF3626FA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FDAB-D69C-4511-9D40-024C5635B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52280"/>
            <a:ext cx="4343400" cy="6019920"/>
          </a:xfrm>
          <a:custGeom>
            <a:avLst/>
            <a:gdLst>
              <a:gd name="textAreaLeft" fmla="*/ 212040 w 4343400"/>
              <a:gd name="textAreaRight" fmla="*/ 4131360 w 4343400"/>
              <a:gd name="textAreaTop" fmla="*/ 212040 h 6019920"/>
              <a:gd name="textAreaBottom" fmla="*/ 5807880 h 6019920"/>
            </a:gdLst>
            <a:ahLst/>
            <a:rect l="textAreaLeft" t="textAreaTop" r="textAreaRight" b="textAreaBottom"/>
            <a:pathLst>
              <a:path w="21600" h="29937">
                <a:moveTo>
                  <a:pt x="3600" y="0"/>
                </a:moveTo>
                <a:arcTo wR="3600" hR="3600" stAng="16200000" swAng="-5400000"/>
                <a:lnTo>
                  <a:pt x="0" y="26337"/>
                </a:lnTo>
                <a:arcTo wR="3600" hR="3600" stAng="10800000" swAng="-5400000"/>
                <a:lnTo>
                  <a:pt x="18000" y="299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763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Trousse de réduction de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100160"/>
            <a:ext cx="3886200" cy="38862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Times New Roman"/>
              </a:rPr>
              <a:t>Cognez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Times New Roman"/>
              </a:rPr>
              <a:t>vous la tê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Times New Roman"/>
              </a:rPr>
              <a:t>ici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4818240"/>
            <a:ext cx="4419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ode d'emplo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1) Placez sur une surface D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) Suivez directives dans le cerc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3) Répétez Étape 2 au besoin, ou jusqu'à l'inconsci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4) Si inconscient, cessez activité de réduction de str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13:19:18Z</dcterms:created>
  <dc:creator>sjj</dc:creator>
  <dc:description/>
  <dc:language>en-US</dc:language>
  <cp:lastModifiedBy>sjj</cp:lastModifiedBy>
  <dcterms:modified xsi:type="dcterms:W3CDTF">2019-01-18T13:53:01Z</dcterms:modified>
  <cp:revision>2</cp:revision>
  <dc:subject/>
  <dc:title>PowerPoint Presentation</dc:title>
</cp:coreProperties>
</file>