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1CE-17B6-4378-946A-D299A41E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B8C-7575-444D-A18C-0FE08086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53F5-8B58-48D9-AE44-2EFFA6DC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413A-E1BE-4C82-853C-EA48A82C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922-4E01-4927-A987-CF24DF87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02B-EED1-4508-991A-4AC30A6C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91D-8E9A-4D0E-B778-9BE8BE08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4F6-49E7-4042-981F-E4205D9A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821-2D45-4CD4-A102-02BAC58C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DC1-B38B-4308-92EE-2ED23D85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A90-74F2-44E0-AEF7-15AF9CD2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2F6-A28F-4F06-9BD6-D9E13380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F0BF-9BB1-404A-AA04-E046CB4F0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0"/>
          <a:ext cx="8915400" cy="668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9154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16120" y="1739880"/>
            <a:ext cx="3264120" cy="326376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60720" y="2184480"/>
            <a:ext cx="2324160" cy="232416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19440" y="2743200"/>
            <a:ext cx="1219320" cy="1219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29718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â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 Di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3623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964400">
            <a:off x="3098160" y="383184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pé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8823800">
            <a:off x="4282200" y="342684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3160" y="18162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4495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é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2104200" y="2886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807080" y="3420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16120" y="1739880"/>
            <a:ext cx="3264120" cy="326376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60720" y="2184480"/>
            <a:ext cx="2324160" cy="232416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19440" y="2743200"/>
            <a:ext cx="1219320" cy="1219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29718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8040" y="2311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964400">
            <a:off x="3098160" y="383184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8823800">
            <a:off x="4282200" y="342360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83160" y="18162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u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4495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e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104200" y="2886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807080" y="3420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16120" y="1739880"/>
            <a:ext cx="3264120" cy="326376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0720" y="2184480"/>
            <a:ext cx="2324160" cy="232416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19440" y="2743200"/>
            <a:ext cx="1219320" cy="1219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29718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23623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964400">
            <a:off x="3098160" y="383184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8823800">
            <a:off x="4282200" y="342684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45000" y="181620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ude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4495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era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2066040" y="2886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sti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807080" y="3420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tit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5T15:06:07Z</dcterms:created>
  <dc:creator>sjj</dc:creator>
  <dc:description/>
  <dc:language>en-US</dc:language>
  <cp:lastModifiedBy>sjj</cp:lastModifiedBy>
  <dcterms:modified xsi:type="dcterms:W3CDTF">2018-11-05T16:04:32Z</dcterms:modified>
  <cp:revision>4</cp:revision>
  <dc:subject/>
  <dc:title>PowerPoint Presentation</dc:title>
</cp:coreProperties>
</file>