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4B7-7F62-4C4B-A868-E1BB8E04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D42-DCBA-4C48-BF98-0281D12A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0DA-66A9-4F68-9AD6-A7F41BF6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3FB-AF35-44DF-AA36-BA0580CD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C9E-2663-439C-BFCA-1BDC9C8C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510-65E5-460F-A686-1B8F614B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51E-553E-40CE-B1BB-947DF393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3591-F141-4A9C-83F0-3BD8AB16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4B8-EF96-4FBA-9D54-70DFE698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4AB-8D61-4D91-879D-FCCAF4AC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0F3-E32B-437E-ADDE-3875853B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5B5-5365-494B-8919-7148BA6C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031F-B43B-4512-9BC1-968D506E0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50040" y="310500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Le P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880" y="4933800"/>
            <a:ext cx="157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Quel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mauvais berg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895480" y="1098720"/>
            <a:ext cx="3199680" cy="501480"/>
            <a:chOff x="2895480" y="1098720"/>
            <a:chExt cx="3199680" cy="501480"/>
          </a:xfrm>
        </p:grpSpPr>
        <p:sp>
          <p:nvSpPr>
            <p:cNvPr id="44" name=""/>
            <p:cNvSpPr/>
            <p:nvPr/>
          </p:nvSpPr>
          <p:spPr>
            <a:xfrm rot="5400000">
              <a:off x="5360760" y="865800"/>
              <a:ext cx="501480" cy="967320"/>
            </a:xfrm>
            <a:custGeom>
              <a:avLst/>
              <a:gdLst>
                <a:gd name="textAreaLeft" fmla="*/ 0 w 501480"/>
                <a:gd name="textAreaRight" fmla="*/ 501480 w 501480"/>
                <a:gd name="textAreaTop" fmla="*/ 0 h 967320"/>
                <a:gd name="textAreaBottom" fmla="*/ 967680 h 96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5480" y="1098720"/>
              <a:ext cx="2530440" cy="1501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71880" y="654120"/>
            <a:ext cx="256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Paroles divines : "Qui vous écoute, m'écoute" [Luc, 10, 16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960920" y="2743200"/>
            <a:ext cx="3372840" cy="533520"/>
            <a:chOff x="1960920" y="2743200"/>
            <a:chExt cx="3372840" cy="533520"/>
          </a:xfrm>
        </p:grpSpPr>
        <p:sp>
          <p:nvSpPr>
            <p:cNvPr id="48" name=""/>
            <p:cNvSpPr/>
            <p:nvPr/>
          </p:nvSpPr>
          <p:spPr>
            <a:xfrm flipH="1" rot="16200000">
              <a:off x="2203560" y="2499840"/>
              <a:ext cx="533520" cy="1019880"/>
            </a:xfrm>
            <a:custGeom>
              <a:avLst/>
              <a:gdLst>
                <a:gd name="textAreaLeft" fmla="*/ 360 w 533520"/>
                <a:gd name="textAreaRight" fmla="*/ 534240 w 533520"/>
                <a:gd name="textAreaTop" fmla="*/ 0 h 1019880"/>
                <a:gd name="textAreaBottom" fmla="*/ 1020240 h 10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666160" y="2743200"/>
              <a:ext cx="2667240" cy="1598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124080" y="2238480"/>
            <a:ext cx="238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avoureux et nutritifs enseignements de l'Égl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1880" y="228600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Jés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16040" y="3276720"/>
          <a:ext cx="1203480" cy="16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3276720"/>
                    <a:ext cx="1203480" cy="16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495680" y="3581280"/>
          <a:ext cx="2333880" cy="270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581280"/>
                    <a:ext cx="2333880" cy="27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2895480" y="3689280"/>
            <a:ext cx="2537640" cy="501840"/>
            <a:chOff x="2895480" y="3689280"/>
            <a:chExt cx="2537640" cy="501840"/>
          </a:xfrm>
        </p:grpSpPr>
        <p:sp>
          <p:nvSpPr>
            <p:cNvPr id="57" name=""/>
            <p:cNvSpPr/>
            <p:nvPr/>
          </p:nvSpPr>
          <p:spPr>
            <a:xfrm rot="5400000">
              <a:off x="4798440" y="3556440"/>
              <a:ext cx="501840" cy="7671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67160"/>
                <a:gd name="textAreaBottom" fmla="*/ 767520 h 76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5480" y="3689280"/>
              <a:ext cx="2007000" cy="150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336840" y="3260880"/>
            <a:ext cx="174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ucreries insipides et tox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04040" y="5543640"/>
            <a:ext cx="99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Troup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mal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657600"/>
            <a:ext cx="1284480" cy="762120"/>
          </a:xfrm>
          <a:prstGeom prst="wedgeEllipseCallout">
            <a:avLst>
              <a:gd name="adj1" fmla="val -16379"/>
              <a:gd name="adj2" fmla="val 76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aman, j'ai mal au vent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00200" y="152280"/>
          <a:ext cx="1278000" cy="215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152280"/>
                    <a:ext cx="1278000" cy="21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220px-Ombrellino-keys.svg" descr=""/>
          <p:cNvPicPr/>
          <p:nvPr/>
        </p:nvPicPr>
        <p:blipFill>
          <a:blip r:embed="rId7"/>
          <a:stretch/>
        </p:blipFill>
        <p:spPr>
          <a:xfrm>
            <a:off x="5424480" y="1679400"/>
            <a:ext cx="7984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3:24:05Z</dcterms:created>
  <dc:creator>Stefan Jetchick</dc:creator>
  <dc:description/>
  <dc:language>en-US</dc:language>
  <cp:lastModifiedBy>sjj</cp:lastModifiedBy>
  <dcterms:modified xsi:type="dcterms:W3CDTF">2017-03-27T20:04:08Z</dcterms:modified>
  <cp:revision>48</cp:revision>
  <dc:subject/>
  <dc:title>PowerPoint Presentation</dc:title>
</cp:coreProperties>
</file>