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A45-86D9-4247-9424-AF5686DD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FF1-57ED-4FF0-AB31-8240B05F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843-670E-439B-AA4C-B793478A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5F8-E1DE-4CB4-81FD-F27FE36B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B58-E0A6-4E3E-887C-B095E407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D87-536F-4AEF-AC8D-C46A1F51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D15-4D01-4143-908F-8D0B35FE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A01-B8C9-4F09-995C-3C48F094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569-8B13-4F5D-B7B0-C79DE407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DCA-174D-4CA1-9C17-0FB66BE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794-D680-4215-AA29-F5B94ED4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56C-8BD5-40B2-A3A9-394765C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9CF9-4CCD-4F92-BF9D-DFE65575D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219320"/>
            <a:ext cx="4038480" cy="4038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1981080"/>
            <a:ext cx="3200400" cy="3200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590920"/>
            <a:ext cx="25146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3200400"/>
            <a:ext cx="1828800" cy="1828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3733920"/>
            <a:ext cx="1219320" cy="1218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640" y="327672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am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7432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V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0920" y="21337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Travai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1960" y="14479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ontemp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6760" y="41148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1219320"/>
            <a:ext cx="4038480" cy="4038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81080"/>
            <a:ext cx="3200400" cy="3200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90920"/>
            <a:ext cx="25146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200400"/>
            <a:ext cx="1828800" cy="1828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733920"/>
            <a:ext cx="1219320" cy="1218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276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am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74320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79840" y="21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1240" y="144792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ontempl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4114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Esca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2:36:41Z</dcterms:created>
  <dc:creator>Stefan Jetchick</dc:creator>
  <dc:description/>
  <dc:language>en-US</dc:language>
  <cp:lastModifiedBy>Stefan Jetchick</cp:lastModifiedBy>
  <dcterms:modified xsi:type="dcterms:W3CDTF">2005-01-06T17:39:40Z</dcterms:modified>
  <cp:revision>5</cp:revision>
  <dc:subject/>
  <dc:title>PowerPoint Presentation</dc:title>
</cp:coreProperties>
</file>